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A937-3E71-4046-A8D1-329C7F1D4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62C1-625F-49EC-8675-00E529B38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8972-2F80-4D61-849D-135C2C168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061C-7189-4F22-AFED-C7D24548B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0B9C-0CB7-4A5F-A37E-D6C93A37A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096A-EC1F-43A5-ACDD-15B5C21C2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219D-6F96-49F6-8AB7-300DFAA1C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F21C-7AFF-41CF-80B1-E1DDAC2D2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9578-7D98-40AD-AF92-220F401C7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CAC0-4A46-4AB8-B885-4972D8612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0419-E71F-4E07-BD5E-5F53642C8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F6A3-181C-4DE7-B33F-38D5D117B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60F-0DE3-4FDB-9BB6-24A65EAE2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3DCA-5CA7-4D4D-8B1E-5EB543411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07DB-CB8A-41DA-AD98-2274DE401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479F-FA08-46A7-9A9C-791BCAEAF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515A-F8D8-46A0-BED4-E3ECE8F63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5D02-BF41-446E-85A5-558DF9833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45C6-79C2-40FA-AF71-C7A839647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B53-0C1F-4FE4-A5E2-1B370B686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C9D9-C96C-4DB3-8B7E-5B8F72451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3BAF-28DA-4D56-A7DC-6532BB8C9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9E8-FE14-492F-AFCD-0AD4BBF2F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D8C1-AA49-4FDF-B02D-26C56C412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F772-4A15-4F4A-B869-D951855E8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014E-4E8C-4A64-B456-B3A53E7C6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4498-8485-4C1F-89CC-7E842A6AC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5ECD-B97F-4622-9530-CDE9E643A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AD15-E1CA-4CD0-9114-1FC2C5A63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88D0-9C50-472F-B852-F2FDCF0B2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2A5E-FAF8-4C88-8FA7-50E2AA1E2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EBE4-59EA-4F6F-85C1-14C2C9E84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82C2-C722-49FB-BDB9-A86FF2D27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DC9B-7604-440D-A6B5-E15E8B7C7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0CC3-4496-4925-8B3C-0DDD73C0C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7EB7-C747-4482-86EC-17ED22228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7989-EABA-49D0-A8F8-8937D6184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4456-8B42-4246-AE24-A4A034330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5B1A-3E56-4FF8-94E7-615016910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C9F3-8CF9-493B-AC44-D03C574FC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D55-5705-4EAE-B85B-0B9EB20A5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669B-8EDA-4D75-AA62-3A6556DE1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3EEB-0E73-4BBA-9208-717DBDFE05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FB61-9BF4-4B17-9198-4D9286C7A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8DD1-37E9-49E2-94AE-FABBB049E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8965-3293-4327-A9C8-9DD1D50D6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1F92-0524-422E-B2A3-5DECB77EC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8E3D-EF77-4A20-9454-2D3C37076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DB56-5692-42FD-991C-E4D04937C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E4DA-A50A-460C-AC3E-5E459F619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DA33-6525-4A94-B70E-558091AF4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CF29-BA76-4CA2-811C-266BC1479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CD2D-709B-4A77-80DB-B3E695E0B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F29E-0C72-496D-9A79-D4F992A3E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BB6-E73B-4300-9587-00CCE011C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16D0-9CDE-4B66-8799-2A84C4188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0812-A7D8-4BF0-8E97-2EF013D03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C090-E482-499C-82FF-ED4A62CE6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2FD4-17EF-4FA3-80D6-A7DB964B1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BC9-E41E-418B-B158-F91587820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255A-7662-47D1-8FA7-7BBE41EF8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470F-DF53-4E40-8E5E-36FE49D37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4358-BFB5-4EF8-B216-6CD33D748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C92-0473-44E0-850B-A0A3D530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4A5-5906-46D4-BB69-0103020F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52A82-63EF-4AA4-8B22-A1FFB786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FBA24-EF80-46C6-8321-2CB013A9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67F08-7F6E-4B0B-919A-5301125F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AD092-1D02-4EB8-8B58-A75CF9E6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84C2A-03A0-4FDE-9EE3-822BBA9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800A6-2FB8-470A-AE5C-613BE3BA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D51C5-3125-4411-9EAE-7D74C939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43BC7-61B6-4C9F-8E30-B8F12694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EC9B5-938F-48A9-ABF7-8648D05E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37A64-9BC0-4598-A9EB-A7707582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3E1-45CB-4261-AB92-65025F94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38023-BDDB-4393-9A6A-4E79BCD4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0DA71-B177-46F5-AC0C-1BED41DD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FAD24-D9D6-403A-885A-1AF29FAD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B4FF4-046E-403C-B730-06A4E377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A88D2-5FEA-4366-88F7-2F83D32D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B33B9-D308-4601-8788-4EBD1B0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58CBB-27D0-4FF4-89BD-1A0698C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248ED-0FAD-43B2-92E3-B9193A4D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D963B-D1F8-466B-95FA-B79D3705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3D36C-1332-4912-A1E5-05E571D2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F34-FC6D-4043-AC66-98C70D8E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E3B2F-FAD8-4B4D-971D-0D364CBC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C904A-4336-481F-92B4-0277028D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7C5BF-653A-4E21-AFFA-6B01499E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37B2E-49E0-4B94-9547-CB66BE81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EA328-F4A4-4DD7-8084-3000B373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4DEC4-9936-481D-B747-35BBB5F7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67CB7-86CF-455D-B86C-012A83F4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3FD5D-09FD-434B-B86B-371B7FA8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72629-427E-425C-B8C1-9BFE9331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06E5A-14E5-42DC-8B20-E3C23ACA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3EE7-09F5-47A1-8DD8-A1A7FC14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3B0C6-B89D-4280-8481-6C133367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F51AC-06DF-42ED-9054-28BA564D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F1C67-41FF-4944-AB5F-33A0659A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F907A-E943-415B-8A9E-257D7C0E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3C012-290A-43AD-8E31-ADF2649B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2B98C-A249-4A9B-831C-DA110A1B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42B0A-FB00-4D32-868F-902B9F36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6299E-D0D8-4896-B978-DD6505CD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7474D-E8AA-4052-8949-5BE3602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ECD3E-E262-4563-BA38-4823531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42FF-81E2-4D7B-B0D2-B1E1E39F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AB531-5F60-4AE6-92A9-3DF2B5A1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27635-7CF7-44C1-8307-2F99CD37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38BF7-5941-4EF3-8C20-DF2351B1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68AC3-5702-45E1-8247-23C2B555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14763-28CD-46B5-9406-E4181775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2A72-6FD1-473A-8DD5-C98B4CE8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AB07-2853-4667-AE74-2B5DFCC6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AE6B-0189-4511-A977-D89F0FD4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E00E-C808-490A-99F0-B4434AF3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E898-E859-45BE-82AA-3414020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680-99C1-4C91-9933-47936DD9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4BC5-43F9-470F-8CDF-6B8FD1EC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886B-84E2-4222-818B-DC1DB204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83B5-2FD8-4112-B32F-005F9985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47C1-65C9-4C23-AD2A-AAE5CC66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BFC7-50A9-4171-88ED-0805BCCB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B0932-8E32-40F6-AC81-AAE476E0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EF0D5-5482-46C5-A318-EC734582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AE32D-153B-4D66-9234-730D1EE7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01CCA-3AD7-4A82-9D2E-4E463E2D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7C5AE-A320-490C-B785-A88761BA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82E-837E-4E1A-BAC4-0F9B5024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7B964-0F26-42BA-A91C-033809E5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42FCE-0280-49F4-B03F-27CA8397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CA10E-CC47-4CF7-BE5A-12723205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0B6B3-1871-43A8-A3D2-5B71AA3B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44835-CD40-40CC-BB6C-D8D04722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8EC12-B18D-4620-A470-05E5FF71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C1AC0-2FE3-4B4B-9181-8724A1B2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81805-C279-4B48-A1C7-358DDAE2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F5656-B2AA-4AC2-A395-6C948B2C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2C72-3057-4315-91B0-B658A357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5B0-F718-40E7-884A-E0A57502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0400-3BDA-407E-8DCB-8DCEF06F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69AD-355A-4EC7-AFA1-5E338CE3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4279-77C3-47A3-8EC4-8C0E516D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6C24-59DF-42FD-AAFD-78E24CA0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4AD4-4592-4210-BCBA-47A8ED15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71817-11A0-43D4-BC5A-6F1994E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C044-46C8-4E32-908B-AE511E1B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3A810-A9C9-4B8B-9B41-F8EED232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B8FBB-9F2E-44F8-B896-1C4ACD32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E2AA4-D9C5-4160-87C6-BF6969D5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7E7-8C98-4BFA-88D7-74A8125A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8F407-9C33-4F87-8484-6B2E078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B7B46-680A-4092-A6F7-FA5B360E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7871-9567-40F2-AF80-1B1A8830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16EC0-A9A0-4BF1-8F0F-DBB1A8F2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89919-9202-4F7C-A7B2-5C7FA0A1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38131-25F7-4751-8B53-9F24213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1F91-B2DF-497B-A994-314AFBB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C2425-880D-4C57-AE4E-7CDE382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BF01F-95AA-4661-929E-8BAA41B5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61B7-8933-4F10-B9EB-4B887E29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F5E-D569-4E6B-B90F-19013C56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CE4BE-6D8C-4B7C-87DD-F1483CD5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0DFAF-7968-4F19-B76E-91E9774D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1706B-CAA4-471A-A2F2-54A87CBB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B1109-7197-452D-9599-CAFC4955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B5B1D-9419-452B-8015-3B20C9E5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5CB2C-028D-44B0-96E0-71E6B02D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AA826-7DEC-4DDA-8EF3-0AAF3720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5A115-A918-4FEE-A29F-093A74AC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9A9B1-E1DF-46DD-B0F3-F9D5DE9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B952-FF9B-48A7-AA47-BDF4F325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EA0-E0FD-48C4-928D-84A10AAC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31194-00EE-4663-A46E-41D3E3EC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8356E-8BEB-4494-A068-23AD8323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1CF9A-0D47-49C0-B303-0D28B46E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40305-D8B7-4749-8F66-67359BAD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7E19E-B00F-4BC5-9CB8-5C135123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B44CD-35C7-4EFD-9525-8CF2CCEE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7BDE9-A165-49F9-A662-8D3F5BB0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B1276-4FB3-4AF7-BB7B-5FF9F2D2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F0BF2-01D0-4A84-A79C-B1DDE9A1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8D5F7-2E1B-474D-A25F-F12C6F82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1BD-7BC2-4D96-8DAA-930E7122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E6CF9-B051-4639-B1BE-168F6D09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7040-5225-4901-95C4-10E9F510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43BFA-39EF-4C40-AE0D-62582E91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2D4AA-9DCA-4DFE-9F97-99B70AC4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1BA8E-4099-4963-B4F0-523D1C58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176E5-2CE0-4E45-BC60-97B083D5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CEEF-3435-4603-9153-9B069622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C6DA4-C0C7-43EB-87C8-2DFCCE3D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B69EC-8A42-485F-B25B-4DAB82F5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63BF1-0385-4BF0-B1C4-BAF3D97A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550-312F-466C-8AC9-2A854641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36CDA-F2F2-40B8-A11D-E9D7D896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08AA4-8EA8-48D3-B1DD-1AFB333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B35B5-F374-44F1-BDA1-5CD0B1B5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D4584-FE95-4AE2-ABB6-052A47EF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90FBF-11C6-4145-8255-D622CF1F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B7E4A-7423-4511-A6B8-61F80AC9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8B15D-5D64-417E-A23B-4AAC3A4D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7AC58-2009-484D-802F-3AF08F88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72FC8-3094-45EB-870C-FE0DF5A5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61F95-37BE-46FE-B345-F2A991D2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F24D-A5EA-4B82-A332-FB6EC0B8E55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62541EE-15A9-440D-93DD-4F8011536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832A-72F7-479E-BAD9-238767CCB50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57DBC7A-769D-4D84-9428-01ED92DD7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503C-788A-4AC0-BE04-AADB0F33180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631631C-8A4D-4CF9-84E6-BA2F370E5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11CD-F030-4E22-8F12-53CC7F162C1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7E0DBD0-3DC9-4F0D-B56A-A4581CCCC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DAF9-0044-43AD-A859-8568D60469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923D52D-0AC9-4F41-9510-140590426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89C7-0D0F-43F9-B8A6-67BF5C7AFED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2C547A5-6A2B-41D0-8768-8A940B887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BFCA-1F4E-4D4B-93A7-0608496E77A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968622D-2E07-4735-AB8D-8B485C50F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442C-E1F8-4F77-98A6-9A79E5E0D7E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618AC04-537D-4AA6-A5B7-BAF4D3646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F417-E7C2-41EC-8EBF-AB510FE4A5B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5502402-6EED-4692-8600-1BD615E58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7B3-E152-4427-ACC7-1ACDA17CB6E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2D3A5E0-0794-493A-BC69-E4EBE8232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087C-DA63-4ED3-B833-668C45843BB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36896DA-81AD-4871-95AE-4A9DF014F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014-FE1D-4EFC-86C7-F0AB5C685D1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F7AEF6D-18A1-48AA-851D-B69B28AB3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fining Classes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 Names and Lo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inder:  a Java file must be given the same name as the class it contains with an add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a class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y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be in a file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yClass.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now, your program and all the classes it uses should be in the same directory or fol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D728E8F0-C884-4FFC-B800-6BA5D917E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About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kinds of metho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that compute and retur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that perform an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type of method does not return a value, and is called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type of method differs slightly in how it is defined as well as how it is (usually) invo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CCD219E7-CD49-4BC7-A8D8-57D08DB88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About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thod that returns a value must specify the type of that value in its hea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34ca1"/>
                </a:solidFill>
                <a:latin typeface="Courier New"/>
              </a:rPr>
              <a:t>public typeReturned methodName(paramLis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uses the keywor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its heading to show that it does not return a valu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34ca1"/>
                </a:solidFill>
                <a:latin typeface="Courier New"/>
              </a:rPr>
              <a:t>public void methodName(paramLis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A9AF9D2D-0CC6-4035-800D-08D821B1C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gram in Java is just a class that ha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give a command to run a Java program, the run-time system invokes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, as indicated by its h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9B0F78B2-5DFB-4CB3-8E99-326969299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of both types of methods contains a list of declarations and statements enclosed in a pair of br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34ca1"/>
                </a:solidFill>
                <a:latin typeface="Courier New"/>
              </a:rPr>
              <a:t>public &lt;void or typeReturned&gt; myMethod(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arations                               Body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s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5"/>
          <p:cNvSpPr/>
          <p:nvPr/>
        </p:nvSpPr>
        <p:spPr>
          <a:xfrm>
            <a:off x="6172200" y="35812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656D82B2-5BC2-4E31-91F4-75A121847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dy of a method that returns a value must also contain one or mor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specifies the value returned and ends the method invo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turn Expres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ny expression that evaluates to something of the type returned listed in the method he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5956FE2-3B0C-4D46-B91E-E03E27CA5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need not contain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, unless there is a situation that requires the method to end before all its code is exec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context, since it does not return a value,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is used without an expres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tur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53579D11-94E8-492B-8AFD-9E58B91F9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ocation of a method that returns a value can be used as an expression anyplace that a value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ypeRetur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ypeReturned tRVariab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Variable = objectName.methodNam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ocation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simply a stat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Name.methodNam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B89D26F4-BF88-454E-950D-9EBA7061E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Method Can Be Used As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thod that returns a value can also perform an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ant the action performed, but do not need the returned value, you can invoke the method as if it were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, and the returned value will be discar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Name.returnedValueMethod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0AA2F767-E0A8-450E-B0E2-6F26D8AF4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ariable declared within a method definition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cal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variables declared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are local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method parameters are local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wo methods each have a local variable of the same name, they are still two entirely different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9E3EC15F-349E-4CC0-8941-ABC76B3A0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are the most important language feature that mak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-oriented program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in Java consists of defining a number of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program is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helping software consists of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rogrammer-defined types are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are central to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64B0DF91-D291-4BCC-85C4-16D59DF94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rogramming languages include another kind of variable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ava language do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global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CF2D2F2-052B-441A-8363-446DF3E59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lo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other name for a compound statement, that is, a set of Java statements enclosed in braces,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{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declared within a block is local to that block, and cannot be used outside the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a variable has been declared within a block, its name cannot be used for anything else within the same method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20CB5C97-F832-493D-98A6-01E858738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ing Variables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declare one or more variables within the initialization portion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so declared will be local to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, and cannot be used outside of th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need to use such a variable outside of a loop, then declare it outside th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3A28767-BBE5-4811-9B07-336ED0897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thods seen so far have had no parameters, indicated by an empty set of parentheses in the method h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need to receive additional data via a lis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order to perform their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ma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8D10AC17-7E99-41D2-B7A8-20320CFC6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rameter list provides a description of the data required by a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ndicates the number and types of data pieces needed, the order in which they must be given, and the local name for these pieces as used in th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ouble myMethod(int p1, int p2, double p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09032928-9AD1-4512-A88C-3592E3EC9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s invoked, the appropriate values must be passed to the method in the form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guments are also call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tual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umber and order of the arguments must exactly match that of the parameter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of each argument must be compatible with the type of the corresponding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a=1,b=2,c=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result = myMethod(a,b,c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D852F464-F38B-44B3-B21F-542F88BEE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preceding example, the value of each argument (not the variable name) is plugged into the corresponding method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thod of plugging in arguments for formal parameters is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ll-by-value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696049A1-EDEF-4779-A26F-210F878E3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rgument and parameter types do not match exactly, Java will attempt to make an automatic type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preceding example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 of argumen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cast to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imitive argument can be automatically type cast from any of the following types, to any of the types that appear to its righ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yte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ong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6"/>
          <p:cNvGrpSpPr/>
          <p:nvPr/>
        </p:nvGrpSpPr>
        <p:grpSpPr>
          <a:xfrm>
            <a:off x="2666880" y="5105160"/>
            <a:ext cx="1523880" cy="228960"/>
            <a:chOff x="2666880" y="5105160"/>
            <a:chExt cx="1523880" cy="228960"/>
          </a:xfrm>
        </p:grpSpPr>
        <p:sp>
          <p:nvSpPr>
            <p:cNvPr id="623" name="Line 4"/>
            <p:cNvSpPr/>
            <p:nvPr/>
          </p:nvSpPr>
          <p:spPr>
            <a:xfrm>
              <a:off x="2666880" y="5334120"/>
              <a:ext cx="152388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 flipV="1">
              <a:off x="4190760" y="5105160"/>
              <a:ext cx="0" cy="228600"/>
            </a:xfrm>
            <a:prstGeom prst="line">
              <a:avLst/>
            </a:prstGeom>
            <a:ln w="9360">
              <a:solidFill>
                <a:srgbClr val="034ca1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5744EE49-D44E-4F13-B5D5-1D07437D8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9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ameters is often thought of as a blank or placeholder that is filled in by the value of its corresponding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parameter is more than that:  it is actually a local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s invoked, the value of its argument is computed, and the corresponding parameter (i.e., local variable) is initialized to this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if the value of a formal parameter is changed within a method (i.e., it is used as a local variable) the value of the argument cannot be chan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02DC534A-A1D3-480D-96E7-9E2A0F181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1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6" descr="savitch_c04d06_1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595600"/>
          </a:xfrm>
          <a:prstGeom prst="rect">
            <a:avLst/>
          </a:prstGeom>
          <a:ln w="0">
            <a:noFill/>
          </a:ln>
        </p:spPr>
      </p:pic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8A037B62-4CCC-4D4A-B2F0-666E46087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lready know how to use classes and the objects created from them, and how to invoke their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you have already been using the predefin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you will learn how to define your own classes and their methods, and how to create your own objects from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06FD09B1-75AF-4523-8606-1CD8EE6E4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2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4" descr="savitch_c04d06_2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57880"/>
          </a:xfrm>
          <a:prstGeom prst="rect">
            <a:avLst/>
          </a:prstGeom>
          <a:ln w="0">
            <a:noFill/>
          </a:ln>
        </p:spPr>
      </p:pic>
      <p:sp>
        <p:nvSpPr>
          <p:cNvPr id="6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0823A9C7-8408-4EBA-AA52-DBF1701F6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3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3" descr="savitch_c04d06_3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416320"/>
          </a:xfrm>
          <a:prstGeom prst="rect">
            <a:avLst/>
          </a:prstGeom>
          <a:ln w="0">
            <a:noFill/>
          </a:ln>
        </p:spPr>
      </p:pic>
      <p:sp>
        <p:nvSpPr>
          <p:cNvPr id="6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68B3D0A9-CB56-402B-92C7-BCFA79704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4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3" descr="savitch_c04d06_4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556080"/>
          </a:xfrm>
          <a:prstGeom prst="rect">
            <a:avLst/>
          </a:prstGeom>
          <a:ln w="0">
            <a:noFill/>
          </a:ln>
        </p:spPr>
      </p:pic>
      <p:sp>
        <p:nvSpPr>
          <p:cNvPr id="6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AAA5E29-B4C8-4E81-A802-0EDD58FF3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5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" descr="savitch_c04d06_5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206880"/>
          </a:xfrm>
          <a:prstGeom prst="rect">
            <a:avLst/>
          </a:prstGeom>
          <a:ln w="0">
            <a:noFill/>
          </a:ln>
        </p:spPr>
      </p:pic>
      <p:sp>
        <p:nvSpPr>
          <p:cNvPr id="6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10D223A-1DFB-43C3-ACA1-21FC48AF1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Use of the Terms "Parameter" and "Argument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be surprised to find that people often use the terms parameter and argument interchangeab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see these terms, you may have to determine their exact meaning from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D0957C7A-E06C-4E1C-BB6D-D917F221E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instance variables are understood to hav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the calling object&gt;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front of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explicit name for the calling object is needed, the keywor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yInstanceVariable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ways means and is always interchangeable wi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.myInstance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82A8B7D9-16EE-4D05-90E1-8D65B1F79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used if a parameter or other local variable with the same name is used in the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all instances of the variable name will be interpreted as lo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 someVariable = this.some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2935080" y="4876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6468120" y="48769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Line 7"/>
          <p:cNvSpPr/>
          <p:nvPr/>
        </p:nvSpPr>
        <p:spPr>
          <a:xfrm flipV="1">
            <a:off x="3200400" y="4647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ine 8"/>
          <p:cNvSpPr/>
          <p:nvPr/>
        </p:nvSpPr>
        <p:spPr>
          <a:xfrm flipV="1">
            <a:off x="6858000" y="4647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6266E401-ADDE-4334-BF74-865D6DA51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ooter Placeholder 10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ameter is a kind of hidden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though it does not appear on the parameter list of a method, it is still a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method is invoked, the calling object is automatically plugged in fo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E4F8C4B-072C-4D0B-9375-A19897EE2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That Return a Boolean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vocation of a method that returns a value of typ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urns eithe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it is common practice to use an invocation of such a method to control statements and loops where a Boolean expression is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E1F13C0-074A-48F9-B9F9-1DF1A4319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thod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expects certain methods, such 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o be in all, or almost all,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d method, is to compare two objects of the class to see if they satisfy the notion of "being equal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You cannot us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mpare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equals(ClassName objectNam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to retur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 that represents the data in th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ring toStr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26B720BC-243C-4E7A-8D10-0152A22AB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ass Is 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is a special kind of programmer-defined type, and variables can be declared of a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a class type is called an object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 instance of th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is a class, then the phrases "bla is of type A," "bla is an object of the class A," and "bla is an instance of the class A" mean the same 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determines the types of data that an object can contain, as well as the actions it can per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76BCDD38-71C8-44A8-A310-DD58DAFF7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method should be tested in a program in which it is the only untested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ogram whose only purpose is to test a method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river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method often invokes other methods, so one way to do this is to first test all the methods invoked by that method, and then test the method it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ottom-up t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 it is necessary to test a method before another method it depends on is finished or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case, use a simplified version of the method, called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ub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return a value for t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DA0DB48-BFD6-45B5-BB76-26C245B00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ndamental Rule for Test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very method should be tested in a program in which every other method in the testing program has already been fully tested and debug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33CDFBDE-1CFE-42AC-934F-2D1D08CF5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Hiding and Encaps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practice of separating how to use a class from the details of its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nother term used to express the concept of discarding details in order to avoid information over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capsul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s that the data and methods of a class are combined into a single unit (i.e., a class object), which hides the implementation det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ing the details is unnecessary because interaction with the object occurs via a well-defined and simple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Java, hiding details is done by marking them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A63A4299-B800-45FB-85BC-06BF926C8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uple of Important Acronyms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 and AD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I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pplication programming interf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 class is a description of how to use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grammer need only read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I in order to use a well design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DT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bstract data ty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data type that is written using good information-hiding techn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B90CF97E-E636-48FD-9D01-538467F59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od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ifi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ans that there are no restrictions on where an instance variable or method can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ifi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ans that an instance variable or method cannot be accessed by name outside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considered good programming practice to mak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ance variabl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methods ar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us provide  controlled access to th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, methods ar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ly if used as helping methods for other methods in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534A8D5C-D511-4CFB-A938-5BE7B08E9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or and Mutato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 allow the programmer to obtain the value of an object's instance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ata can be accessed but not 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me of an accessor method typically starts with the wor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 allow the programmer to change the value of an object's instance variables in a controlled 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ming data is typically tested and/or fil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me of a mutator method typically starts with the wor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7CD84A8B-B870-43CE-9052-E03508410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10" descr="savitch_c04d10"/>
          <p:cNvPicPr/>
          <p:nvPr/>
        </p:nvPicPr>
        <p:blipFill>
          <a:blip r:embed="rId1"/>
          <a:stretch/>
        </p:blipFill>
        <p:spPr>
          <a:xfrm>
            <a:off x="838080" y="914400"/>
            <a:ext cx="7772400" cy="5500800"/>
          </a:xfrm>
          <a:prstGeom prst="rect">
            <a:avLst/>
          </a:prstGeom>
          <a:ln w="0">
            <a:noFill/>
          </a:ln>
        </p:spPr>
      </p:pic>
      <p:sp>
        <p:nvSpPr>
          <p:cNvPr id="7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911445D2-9A68-4BFF-90F7-B8B1790FE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lass Has Access to Private Members of All Objects of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definition of a class, private member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ject of the class can be accessed, not just private members of the calling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20177D0-E26D-46D4-85AA-028A8946F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or Methods Can Return a Boolean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mutator methods issue an error message and end the program whenever they are given values that aren't sen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ternative approach is to have the mutator test the values, but to never have it end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have it return a boolean value, and have the calling program handle the cases where the changes do not make s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0A20231F-0225-42E0-B3E3-54A67CDCE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onditions and Postcon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econd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method states what is assumed to be true when the method is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stcond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method states what will be true after the method is executed, as long as the precondition 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good practice to always think in terms of preconditions and postconditions when designing a method, and when writing the method com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929C4BF-D2A5-4E1B-A8E5-66A9FF6D5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itive Type Values vs. Class Typ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imitive type value is a single piece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type value or object can have multiple pieces of data, as well as action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bjects of a class have the same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bjects of a class have the same pieces of data (i.e., name, type, and nu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 given object, each piece of data can hold a different val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271B6D62-E40B-45BD-9AAB-CFB2F5E34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lo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verloa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when two or more method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 the same 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the same method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valid, any two definitions of the method name must have diffe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ign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gnature consists of the name of a method together with its parameter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ing signatures must have different numbers and/or types of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229436D-5078-4C27-A410-8BB1D56B4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loading and Automatic Typ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Java cannot find a method signature that exactly matches a method invocation, it will try to use automatic type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action of overloading and automatic type conversion can have unintended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me cases of overloading, because of automatic type conversion, a single method invocation can be resolved in multiple 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biguous method invocations will produce an error in Ja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919BE0F3-BC5D-449E-81B5-D66522014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You Can Not Overload Based on the Type Retu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gnature of a method only includes the method name and its parameter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gnature do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clude the type retu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does not permit methods with the same name and different return types  in the sam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37BCF3E1-5581-405E-A87C-F11BE778D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Not Overload Operators in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many programming languages, such as C++, allow you to overload operators (+, -, etc.), Java does not permit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ay only use a method name and ordinary method syntax to carry out the operations you desi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A67FCA24-7BB9-464D-B1D3-B6CADCB94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ru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pecial kind of method that is designed to initialize the instance variables for an obje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ClassName(anyParameters){cod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nstructor must have the same name as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nstructor has no type returned, not ev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uctors are typically overloa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CF9B01F9-FD38-413E-88D0-268888A30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nstructor is called when an object of the class is created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Name objectName = new ClassName(anyArg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me of the constructor and its parenthesized list of arguments (if any) must follow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lid way to invoke a constructor:  a constructor cannot be invoked like an ordinary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constructor is invoked again (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the first object is discarded and an entirely new object is cre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need to change the values of instance variables of the object, use mutator methods inst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785E43B7-C007-4667-9717-07825400E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Invoke Another Method in a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action taken by a constructor is to create an object with instanc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it is legal to invoke another method within the definition of a constructor, since it has the newly created object as its calling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mutator methods can be used to set the values of the instance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even possible for one constructor to invoke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2D1A77E-E808-4246-852D-10FEC7B83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nstructor Has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any ordinary method, every constructor ha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 can be used explicitly, but is more often understood to be there than written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action taken by a constructor is to automatically create an object with instance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within the definition of a constructor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 refers to the object created by the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E015F4E5-F994-46AB-B5C3-0895FCD2E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lude a No-Argument Construc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do not include any constructors in your class, Java will automatically create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-arg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tructor that takes no arguments, performs no initializations, but allows the object to be cre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include even one constructor in your class, Java will not provide this default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include any constructors in your class, be sure to provide your own no-argument constructor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AB0C839-43BA-40B3-82D5-E346D1495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Variable Initializ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s are automatically initialized in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ypes are initialized to 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primitives are initialized to the zero of their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types are initialized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is a better practice to explicitly initialize instance variables in a constru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Local variables are not automatically initia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D7EB9C7-8DCA-46D3-97B6-F1DBCC726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tents of a Class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definition specifies the data items and methods that all of its objects will 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data items and method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item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el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 declarations and method definitions can be placed in any order within the clas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DB835731-E293-4459-ADC1-25192BE35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used to recover the words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multi-wor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use whitespace characters to separate each token, or you can specify the characters you wish to use as sepa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us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be sure to include the following at the start of the fi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port java.util.StringTokeniz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808983BB-4340-4B08-AE46-D5608E85B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4" name="Picture 8" descr="savitch_c04d17_1of2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241880"/>
          </a:xfrm>
          <a:prstGeom prst="rect">
            <a:avLst/>
          </a:prstGeom>
          <a:ln w="0">
            <a:noFill/>
          </a:ln>
        </p:spPr>
      </p:pic>
      <p:sp>
        <p:nvSpPr>
          <p:cNvPr id="7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76957B8B-A219-47C8-AD19-47CF31651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Picture 3" descr="savitch_c04d17_2of2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817800"/>
          </a:xfrm>
          <a:prstGeom prst="rect">
            <a:avLst/>
          </a:prstGeom>
          <a:ln w="0">
            <a:noFill/>
          </a:ln>
        </p:spPr>
      </p:pic>
      <p:sp>
        <p:nvSpPr>
          <p:cNvPr id="7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82E6F079-C136-4A78-AB23-928B6CDBF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bject of a class is named or declared by a variable of the class typ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Name  classV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 must then be used to create the object and associate it with its variable na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Var = new ClassNam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can be combin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Name classVar = new ClassNam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D5687347-E5F8-4B8E-AD5D-E03BD05AB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nce Variables and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s can be defined as in the following two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difier (for no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String  instanceVar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int  instanceVar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refer to a particular instance variable, preface it with its object name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Name.instanceVar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Name.instanceVa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0C87771-53F6-4BFE-9748-8AD4CF5B4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 definitions are divided into two parts: 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ea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thod bod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myMethod()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 to perform some action                 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/or compute a value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s are invoked using the name of the calling object and the method name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Var.my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king a method is equivalent to executing the method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nce Variables and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5"/>
          <p:cNvSpPr/>
          <p:nvPr/>
        </p:nvSpPr>
        <p:spPr>
          <a:xfrm flipH="1">
            <a:off x="571464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AutoShape 7"/>
          <p:cNvSpPr/>
          <p:nvPr/>
        </p:nvSpPr>
        <p:spPr>
          <a:xfrm>
            <a:off x="5791320" y="2743200"/>
            <a:ext cx="75960" cy="99072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04C36707-1CFB-430A-83C3-C90782EFE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6:18Z</dcterms:modified>
  <cp:revision>13</cp:revision>
  <dc:subject/>
  <dc:title>Slide 1</dc:title>
</cp:coreProperties>
</file>