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7578-E0AB-42EE-99ED-60DAEA5CD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D3B0-D22F-47D8-820D-2D603A4E1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3B76-BF96-46FE-BDCE-F03A36158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2E40-5217-448F-B7A7-9443A7A8D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69D0-991D-4908-879F-1CF50C84C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6E51-DFCE-4806-BA72-B6E0EC679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2DF8-4927-41DA-89C8-3B6D1107C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859E-FFEE-47EF-920F-C0EC35327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F58F-8C01-476A-9925-60B374EAF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C157-77FD-41F4-9A61-51C298556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F57C-5546-437F-8BBE-EE0AFDADE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A63D-40EB-4EB5-88EC-91473880C9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467E-9316-4F27-89FC-BE89D90EC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1DF1-7E1A-4306-A17E-4225DC22B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E1DF-3778-4500-979A-7AA2099A5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C4D8-A784-47CD-97EC-44AB29EBF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A5EC-C998-4B6C-A96F-2CA9E23FD4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C978-503F-46BA-A8A1-5DFFCE29B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9E38-3C99-47AB-B49D-C5E83B796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D2F6-1FE5-4810-8CBA-C7EE8F694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C37E-5985-4923-BAEC-16EEA6CCC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9423-FE8B-4EDD-A77F-8A5E9124B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2125-377D-4D7E-8FAD-68DDE5A91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1063-3085-49B3-9E09-B0F302A7D1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3A82-3AAC-4292-BE62-FAF6D050B4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DFE5-844F-4E61-B21A-F677E2D5C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38E8-2C94-4398-83F5-470F6BF33B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4F1E-9145-414E-A0E1-35FC94623E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F813-E90E-4B52-A86D-8743BACC7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18C0-F32E-4C6D-BFF0-82B7C063F5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7B89-65C2-4154-901D-C12A9CAF5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E214-98A1-4556-871A-C989E80C2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3533-3D9C-4BE1-A87C-4B4837B04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2BC3-263B-49E1-A197-B79933A58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EAB6-B426-4BD4-BA15-E772C364CE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E87A-E262-49FB-9BE5-9B605BDEA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6620-CDFB-4F29-A3A7-EB60991230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FD89-2A9F-452D-8A89-5177E2085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AB03-D047-40CF-A7A7-9EB04C5710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F02B-451C-4309-B36C-813D5F2A90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B645-3DC1-4BA4-A286-27B5CCFA73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A56B-FD8C-481C-8DC0-1CCCA594F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6D3A-58EF-490A-AF17-1674B21C5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D19A-D6E8-4D4B-9E2B-4C0E9872D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2BD4-95DE-44EA-B14A-2E3D91C71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9EE7-76D3-454C-81B8-3A3EE2AEF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6634-DC9C-4501-8E59-B49E34C40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6A4C-6240-4F2B-AB15-C27AAF93BE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CA21-D276-4576-965D-15BFD1264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C364-14DA-46DF-B9BD-B20AA119A7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B5B5-63C4-4B29-BCE8-19A62E8622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774E-8F62-465B-BD1F-03DA3B429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AEDF-88AF-48B7-AB77-C2142DE91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7AC9-3D14-4B65-A3E0-344812851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5B17-88E7-462E-AE52-474FF1C61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7537-3BA2-46F6-8EDA-F991BE49F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8B44-11F8-4799-8E85-E17887512D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51AD-9D51-4BAA-AF44-0AE2C78568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02FF-EA55-4AE4-A68C-FFFCE940D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6EEB-A09B-470C-88B2-5721A2FFA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CC13-EAB1-4744-B70C-CB66DA6C4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D075-85B7-4D8E-A060-F1CEDA515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23B7-69FA-4278-B5B1-E0BBC17E4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B1C8-17DF-44F0-895D-26216D02C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8D52-7559-4634-AB07-2245AF09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C5DC-5884-48FB-9253-615A1CF4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AF3C4-F674-4F30-B319-48DCF36E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36F1F-E0C5-48AB-A644-FF12CD89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ED30A-C78D-4108-B00B-664A6BFA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AB38E-7480-496B-BCE4-060A19DC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EEE22-ECD7-4FF0-9F70-8AFFF743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BE542-2A42-440B-9C69-1F1BB066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0D0D9-F53C-49CB-8F61-8FFFBB06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6C338-FEEF-4867-A797-B3F01939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4F2DF-6D3D-43E1-8ACC-7130568A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02733-0EE9-4730-9899-79772D91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2891-39B9-459C-A717-6A77AF38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A803A-B748-4305-ACA6-44D109D1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41BBC-74E6-4263-97AC-66D8C10D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A5900-529C-4664-9818-FDE7EAD1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4F786-C5A0-47A3-80D2-7F7889C1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4CD3D-44A7-48DF-9955-1C834BC5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6AEC9-16D9-4FA8-B81F-76EF4485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B53B3-FF43-44AF-9784-F6AAFEB5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FCC04-78B5-4477-AB76-488AE1F2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C533E-9EF5-4832-85BC-C61C8E94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24373-D9AF-429A-B794-509D299B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CB15-4438-4D48-A243-A9467D08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A9127-633E-4D48-9B24-AAD03561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22B32-FCBB-42EE-81CB-88F3BC94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68DF6-F118-4732-A4D4-41E640F4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7FFB9-2AE6-417A-8A8C-CB51B6E4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28951-BF54-407F-AAFE-A12660A7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3BAA3-1F20-41F4-9EC5-24CB892D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94504-A861-4685-AE47-12A7B2F8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581EE-E892-4B2E-AB93-A4CD448E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83637-EC68-446B-B4FE-822278BF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CBD45-7EAF-4091-BD02-40444D22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1140-684D-4674-8D46-A27F2D03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ADF97-BC7D-4F5D-9CAE-C55332F5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13416-C134-4506-A536-F644CB47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CEEAD-A176-418F-B09A-39429851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2F504-6D6D-4217-817E-952F0CAB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98F77-E082-444E-9DF3-01ED9CB3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CE9BB-2981-4B4E-ADC8-C0093A2B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B6B07-E9CC-4379-9002-BCFBD69D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D6CA3-54F5-4488-AE79-B6E0BA5A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CBFCE-F13F-4968-8F91-A80AEB3C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334DA-DA70-44F5-A53F-1F5D79F1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0621-AA2D-49DF-B1B2-AAA6A742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CDE79-2C94-4DE3-8F20-1A8EB8BD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72A35-633F-4BBD-916B-AF89A7AC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AC11E-C895-42E6-BB3C-EA156A09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52F4C-E73E-483D-B01E-90EA5BBC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46E33-7F08-48F7-AC27-48936F2D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1DB2-FEA3-41C8-98C7-427CAF6A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35E6-1904-4D8A-8C30-BD0DD17F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7567-D10C-4618-BB7B-A5ED0BF7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0E64-3549-4F7A-9981-50A8BFC2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8CA9-46D6-407D-AE86-F6F1AF3D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A8FF-92EE-4BC3-B36A-5635682F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866D-3CD2-4612-8D4B-3DEB10E5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0202-28AE-484A-BFBA-EF85136B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570E-7B18-4D25-A99C-0F244356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6BD1-D28E-4E34-A26C-7090605FD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4730-6C1A-49FC-B87A-ABE41753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836989-DD0F-4464-8BBE-5753354F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9142F9-9CBE-4C37-90B1-EE4C1F79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68F4CE-99AA-4F76-9A38-D4DE499A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2EA612-02FF-4547-8552-F5CEA4B9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C100B9-8FA4-45BA-9D61-E01EC8B2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31E5-999B-4C36-821D-72E48A51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C3671-C081-4F7F-945F-562B6186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FB21C-5C02-4FAB-9137-A3D3A3F8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3920C1-45C7-45CD-8368-0D6AE55D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9D67D0-8C4E-4D03-A241-5DD6352B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344F4-E59D-4E29-8B36-8D2E2392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102EA-6BED-46FC-99A3-FB416D85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B96162-AC6C-423F-A156-75FD6C4F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EBC3D-CE42-43E1-AC96-66C2698E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4DC65-FD01-4702-AFA4-C22F701E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2A580-EBF8-45BC-BF7D-71E054F7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66F8-58EE-4E42-951C-116CA5BA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93AEA-D2D6-4D6D-8EE5-BD409E2A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0851E-29BA-4B9C-8ECE-D90DD9A4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D2D10-ADE1-4E8B-9A88-7E882AD8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AE8AF-FED8-4620-8471-A4D7D65D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807D7-0180-4200-A348-1B0B6F95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8CE48-DEB4-411B-B555-30B71A93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BE574-E1A1-489A-9C26-D989A530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2DF01-7EFA-412D-8758-1696D8F3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A3F2B-6C9A-4794-9A92-0A98F3C1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FD781-DA18-4C10-BDC5-2C9294D8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9579-FE0F-445B-8749-50E9A1C7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08122-1392-4ABF-B797-AF1FBD7A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5FAA7-B4B5-4198-8D27-A128CCED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BEA30-3BE1-49B4-AB47-E0C46696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5B9F8-EBDD-4773-8CB6-2ADA5911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A6942-A5ED-4D84-94DD-24BC1392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E43C6-863A-49DB-9AA4-53B8DB3E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9DD0F-AA69-4829-A678-A7F698A5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C6CCB-5463-4759-BDD7-660BDDE0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7BC2E-9450-43BA-9A6C-CD97FFC3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2B693-EF79-453D-9A4B-22928D1E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3181-54A4-4092-BC94-B718DBBC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46E8A-30F6-4CCF-87CB-2CC36ADE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50D20-0A24-47A3-9755-2A376DAB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D8BEF-7946-48F3-900E-90F378A1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85B16-6DD2-4275-A45E-234B76EC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09784-735B-469D-AD64-F2F1DDDF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17AAD-8442-4797-B830-C7971842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C19FA-5836-432B-B72C-2F3F1D88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5DC83-49EA-4096-926A-4CA42F67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EE636-3FC8-4518-8E74-13CF2FE2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A163F-070C-428E-8875-F86E1345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7935-F658-453A-94BB-B2E405DC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48848-C69D-4D54-927C-62D015BD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BFD24-32FB-4865-87A9-163F2909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4C4B5-A0A2-420F-B99A-213953B6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4FB9E-C5D1-48AB-A0C1-4AFD77EC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09966-FF01-4721-8E00-30DB205A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0CCBE-D51C-40EB-81D8-5EF52357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5153B-FE04-468B-BC9E-4EF2CEC9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8518C-DEA5-4CA9-855C-8275EEEE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A0B7E-68B3-4795-BC1A-0CCB81A3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2896D-4670-4CEA-8A3E-61271E17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378C-D8A7-45D6-8411-F23196B2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FA0CA-13AD-4DA4-90C4-2A8DA142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86E66-54A1-4548-850D-4ED1D2F9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95B04-F49C-4FE3-B8C2-2ADE58F9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D5FD2-9722-4F92-AEFC-A6DF2B05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0C642-6F11-4747-8090-9F4A745C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6C75A-1265-47C3-8869-844FBD0E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FAE32-B00B-4F37-AAD4-8D08FAB7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158E5-96E8-4477-9892-29F55766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B14E6-A211-4403-9833-2D90A0DC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F7C65-0E67-4746-80D3-143FF2CF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6308-7B46-429D-97B8-772D3C7F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8B795-D8C0-4C06-BF13-21FCF025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C90D1-214D-4AF9-8247-C6A8A9D2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00C08-5F2C-4738-A4CE-D89EF7EC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816E5-BCB7-4A45-A7E1-3516C17C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A8859-771D-47C1-B7BE-EC6D85AB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E15CE-82B2-44D7-A7F9-294BE446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4255E-0C0D-440C-B59E-339136ED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07A20-B4E6-46A6-86E4-387A37194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74482-FFC8-4C8C-B7D7-C7EF3B08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820F9-4361-4085-B7A4-705072C0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63D1-860D-433E-A319-7C0D0B12277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4AB7475-9B56-4899-B2FB-22332F72FA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789D-AE60-4862-9063-CFF44F2B61C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EF89779A-530B-4AF1-8C84-522D8365C1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457D-EA46-4F74-A66F-CC50215FCA1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35248450-FC63-4B26-8789-06828993FA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0238-9EFC-46C8-9936-D4246A31E13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9A3BC474-C320-49C6-9773-A494080A0A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2091-E298-43FC-BD80-856B9103347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B61682F1-5BF5-45E1-BB49-1BC7621AAD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876920" y="632412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2796-D983-4A53-AB97-148C43884AD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6DB9D559-A9BA-44AD-B285-815B4A3159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456840" y="6339960"/>
            <a:ext cx="4343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4E37-65AF-4C02-B76F-C1070F2F944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12832863-105D-4570-B1D0-86C5BC432A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97BD-ACB0-46A8-8180-7EF70A363A0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5B36AA5B-1A09-4939-B112-467DFEAAAF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88CD-E32A-406E-ACB6-148F938A528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27FB660D-29D3-44C7-82E6-81FF383B3C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FD26-BB30-4E2F-84AE-91E25C82505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2B92C21C-1556-4F58-9D9C-4374B7999F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F8D5-1D1D-4D70-9F1A-CE55BC7D879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60460457-E86E-4CE4-AB65-B594A49B21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D8FC-C336-4D98-A36B-3633D1E4E32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DA7B93C8-22E1-4DCE-A18B-EFD8F2A77C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638680" y="456840"/>
            <a:ext cx="32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638680" y="19051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152280" y="0"/>
            <a:ext cx="553572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Rectangle 4" descr=""/>
          <p:cNvPicPr/>
          <p:nvPr/>
        </p:nvPicPr>
        <p:blipFill>
          <a:blip r:embed="rId2"/>
          <a:stretch/>
        </p:blipFill>
        <p:spPr>
          <a:xfrm>
            <a:off x="5937120" y="4943520"/>
            <a:ext cx="3054600" cy="5364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5715000" y="6427800"/>
            <a:ext cx="281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pyright © 2008 Pearson Addison-Wesley. All rights reserv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6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rived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st as it inherits the instance variables of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herits all of its methods as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herits the method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t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tHireD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et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etHireD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om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object of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invoke one of these methods, just like any other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9D3CFB73-B6F9-4217-AADB-FA8BB3520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rived Class (Subclas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derived class, also called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ubcla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s defined by starting with another already defined class, called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ase cla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upercla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adding (and/or changing) methods, instance variables, and static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erived class inherits all the public methods, all the public and private instance variables, and all the public and private static variables from the bas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erived class can add more instance variables, static variables, and/or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0E628E54-77AA-4F85-94E3-297B83E18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herited Me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derived class automatically has all the instance variables, all the static variables, and all the public methods of the base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bers from the base class are said to b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her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s for the inherited variables and methods do not appear in the derived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de is reused without having to explicitly copy it, unless the creator of the derived class redefines one or more of the base class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E34B12CF-A207-4A37-AA71-57BD7DBB3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ent and Child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ase class is often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arent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derived class is then called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hild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relationships are often extended such that a class that is a parent of a parent . . . of another class is called 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ncestor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n ancestor of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n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called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escend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C57D0FA6-BDCC-44A6-9FF7-A22946B06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riding a Method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hough a derived class inherits methods from the base class, it can change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verri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herited method if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rder to override a method definition, a new definition of the method is simply placed in the class definition, just like any other method that is added to the derived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0E5A3055-9085-4DE2-8390-F656DFDEE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ing the Return Type of an Overridden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dinarily, the type returned may not be changed when overriding a meth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if it is a class type, then the returned type may be changed to that of any descendent class of the returned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known as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variant return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variant return typ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new in Java 5.0; they are not allowed in earlier versions of J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18F680C3-BB2B-4B98-B7AD-A2BB10D34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variant Return 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the following base clas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class Base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 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Employee getSomeone(int someKe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llowing is allowed in Java 5.0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class DerivedClass extends Base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 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HourlyEmployee getSomeone(int someKe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2F6F2E8C-9C22-4CBA-8678-A35D0EC2E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ing the Access Permission of an Overridden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ccess permission of an overridden method can be changed from private in the base class to public (or some other more permissive access) in the derived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the access permission of an overridden method can not be changed from public in the base class to a more restricted access permission in the derived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7935906E-E4A9-44B2-AD05-26E36B942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ing the Access Permission of an Overridden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 following method header in a base ca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rivate void doSomething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method header is valid in a derived clas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void doSomething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the opposite is not val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 following method header in a base ca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void doSomething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method header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alid in a derived class: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ivate void doSomething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3BDE1963-09E5-4CB9-ADAF-D44713253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Overriding Versus Overlo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not confus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verrid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method in a derived class wi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verload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method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a method is overridden, the new method definition given in the derived class has the exact same number and types of parameters as in the bas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a method in a derived class has a different signature from the method in the base class, that is overloa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when the derived class overloads the original method, it still inherits the original method from the base class as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E71B9C46-5491-48B0-B648-A770D69C8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Inheri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heri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one of the main techniques of object-oriented programming (OO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this technique, a very general form of a class is first defined and compiled, and then more specialized versions of the class are defined by adding instance variables and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pecialized classes are said to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heri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methods and instance variables of the general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8FCD901C-0F08-4808-A5E4-DB08FA1B8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odif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modifier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placed before the definition of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etho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then that method may not be redefined in a derived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the modifier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placed before the definition of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then that class may not be used as a base class to derive other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611715F0-B4EF-447A-B85F-639CBFF6B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onstru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derived class uses a constructor from the base class to initialize all the data inherited from the bas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order to invoke a constructor from the base class, it uses a special syntax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derivedClass(int p1, int p2, double p3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uper(p1, p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stanceVariable = p3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above example,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uper(p1, p2)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a call to the base class constru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45580ED9-F91C-4F70-918C-6F8949771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onstru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all to the base class constructor can never use the name of the base class, but uses the keywor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st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all to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ust always be the first action taken in a constructor 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stance variable cannot be used as an argument to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u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9023F29B-76A5-464B-AD7B-E5154BA8DF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onstru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 derived class constructor does not include an invocation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n the no-argument constructor of the base class will automatically be invok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an result in an error if the base class has not defined a no-argument constru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the inherited instance variables should be initialized, and the base class constructor is designed to do that, then an explicit call to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hould always be u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4FDC417C-4DCC-40B5-9742-5B58EF413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onstru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in the definition of a constructor for a class,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used as a name for invoking another constructor in the same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ame restrictions on how to use a call to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pply to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stru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it is necessary to include a call to both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call using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ust be made first, and then the constructor that is called must call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its first 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D6BAC97A-AFA6-4355-9A7F-99DA66189D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onstru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ten, a no-argument constructor use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invoke an explicit-value constru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-argument constructor (invokes explicit-value constructor using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default arguments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ublic ClassName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this(argument1, argument2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licit-value constructor (receives default values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ublic ClassName(</a:t>
            </a:r>
            <a:r>
              <a:rPr b="1" i="1" lang="en-US" sz="1800" spc="-1" strike="noStrike">
                <a:solidFill>
                  <a:srgbClr val="034ca1"/>
                </a:solidFill>
                <a:latin typeface="Courier New"/>
              </a:rPr>
              <a:t>type1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param1, </a:t>
            </a:r>
            <a:r>
              <a:rPr b="1" i="1" lang="en-US" sz="1800" spc="-1" strike="noStrike">
                <a:solidFill>
                  <a:srgbClr val="034ca1"/>
                </a:solidFill>
                <a:latin typeface="Courier New"/>
              </a:rPr>
              <a:t>type2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param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90D5E522-82C4-46A7-ADAF-2F6BCF6D5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onstru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 HourlyEmployee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is("No name", new Date(), 0, 0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bove constructor will cause the constructor with the following heading to be invok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 HourlyEmployee(String theName, Date theDate, double theWageRate, double theHou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72F7FE72-F53E-45DA-B234-D86465302D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:  An Object of a Derived Class Has More than One 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object of a derived class has the type of the derived class, and it also has the type of the base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generally, an object of a derived class has the type of every one of its ancestor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fore, an object of a derived class can be assigned to a variable of any ancestor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F2EA4901-1F02-43B9-A9A7-DD4D9469D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:  An Object of a Derived Class Has More than One 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object of a derived class can be plugged in as a parameter in place of any of its ancestor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fact, a derived class object can be used anyplace that an object of any of its ancestor types can be u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, however, that this relationship does not go the other 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ncestor type can never be used in place of one of its derived ty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B902E3E8-FEF5-4579-90E9-9653D5CCB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The Terms "Subclass" and "Superclass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erm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ubcla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upercla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sometimes mistakenly rever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uperclass or base class is more general and inclusive, but less compl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ubclass or derived class is more specialized, less inclusive, and more compl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more instance variables and methods are added, the number of objects that can satisfy the class definition becomes more restri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98981D6A-35AA-41B9-B149-2B1220F00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Inheri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heritance is the process by which a new class is created from another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ew class is called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rived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original class is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ase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derived class automatically has all the instance variables and methods that the base class has, and it can have additional methods and/or instance variables as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heritance is especially advantageous because it allows code to b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u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ithout having to copy it into the definitions of the derived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5796D186-F78F-46B8-9605-DE5FB7EFE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nhance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nks to inheritance, most of the standard Java library classes can be enhanced by defining a derived class with additional metho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,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tringTokeniz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enables all the tokens in a string to be generated on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sometimes it would be nice to be able to cycle through the tokens a second or third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E92E43B4-E871-4842-9609-D82F23926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nhance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an be made possible by creating a derived clas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example, </a:t>
            </a:r>
            <a:r>
              <a:rPr b="1" lang="en-US" sz="20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nhancedStringTokenize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inherit the useful behavior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ringTokeniz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nherits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untToke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 unchan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ew behavior can be modeled by adding new methods, and/or overriding existing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ew method,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okensSoFa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is ad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le an existing method,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xtToke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is overrid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8CF6FCD4-6C79-4F72-BFAD-1B77BF46F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nhance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1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14" descr="savitch_c07d07_1of4"/>
          <p:cNvPicPr/>
          <p:nvPr/>
        </p:nvPicPr>
        <p:blipFill>
          <a:blip r:embed="rId1"/>
          <a:stretch/>
        </p:blipFill>
        <p:spPr>
          <a:xfrm>
            <a:off x="866880" y="1619280"/>
            <a:ext cx="7772400" cy="4367160"/>
          </a:xfrm>
          <a:prstGeom prst="rect">
            <a:avLst/>
          </a:prstGeom>
          <a:ln w="0">
            <a:noFill/>
          </a:ln>
        </p:spPr>
      </p:pic>
      <p:sp>
        <p:nvSpPr>
          <p:cNvPr id="6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9E0C42C4-F03F-4654-BCAE-9016337AA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5"/>
          <p:cNvSpPr/>
          <p:nvPr/>
        </p:nvSpPr>
        <p:spPr>
          <a:xfrm>
            <a:off x="914400" y="1522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ca1"/>
                </a:solidFill>
                <a:latin typeface="Arial"/>
              </a:rPr>
              <a:t>An Enhanced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StringTokenizer</a:t>
            </a:r>
            <a:r>
              <a:rPr b="0" lang="en-US" sz="3200" spc="-1" strike="noStrike">
                <a:solidFill>
                  <a:srgbClr val="034ca1"/>
                </a:solidFill>
                <a:latin typeface="Arial"/>
              </a:rPr>
              <a:t> Class</a:t>
            </a:r>
            <a:br>
              <a:rPr sz="3200"/>
            </a:br>
            <a:r>
              <a:rPr b="0" lang="en-US" sz="3200" spc="-1" strike="noStrike">
                <a:solidFill>
                  <a:srgbClr val="034ca1"/>
                </a:solidFill>
                <a:latin typeface="Arial"/>
              </a:rPr>
              <a:t>(Part 2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Picture 8" descr="savitch_c07d07_2of4"/>
          <p:cNvPicPr/>
          <p:nvPr/>
        </p:nvPicPr>
        <p:blipFill>
          <a:blip r:embed="rId1"/>
          <a:stretch/>
        </p:blipFill>
        <p:spPr>
          <a:xfrm>
            <a:off x="866880" y="1619280"/>
            <a:ext cx="7772400" cy="2727360"/>
          </a:xfrm>
          <a:prstGeom prst="rect">
            <a:avLst/>
          </a:prstGeom>
          <a:ln w="0">
            <a:noFill/>
          </a:ln>
        </p:spPr>
      </p:pic>
      <p:sp>
        <p:nvSpPr>
          <p:cNvPr id="6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830ABC89-BD06-4986-A0DE-BCA8A0A94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914400" y="1522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ca1"/>
                </a:solidFill>
                <a:latin typeface="Arial"/>
              </a:rPr>
              <a:t>An Enhanced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StringTokenizer</a:t>
            </a:r>
            <a:r>
              <a:rPr b="0" lang="en-US" sz="3200" spc="-1" strike="noStrike">
                <a:solidFill>
                  <a:srgbClr val="034ca1"/>
                </a:solidFill>
                <a:latin typeface="Arial"/>
              </a:rPr>
              <a:t> Class</a:t>
            </a:r>
            <a:br>
              <a:rPr sz="3200"/>
            </a:br>
            <a:r>
              <a:rPr b="0" lang="en-US" sz="3200" spc="-1" strike="noStrike">
                <a:solidFill>
                  <a:srgbClr val="034ca1"/>
                </a:solidFill>
                <a:latin typeface="Arial"/>
              </a:rPr>
              <a:t>(Part 3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7" descr="savitch_c07d07_3of4"/>
          <p:cNvPicPr/>
          <p:nvPr/>
        </p:nvPicPr>
        <p:blipFill>
          <a:blip r:embed="rId1"/>
          <a:stretch/>
        </p:blipFill>
        <p:spPr>
          <a:xfrm>
            <a:off x="866880" y="1619280"/>
            <a:ext cx="7772400" cy="2608200"/>
          </a:xfrm>
          <a:prstGeom prst="rect">
            <a:avLst/>
          </a:prstGeom>
          <a:ln w="0">
            <a:noFill/>
          </a:ln>
        </p:spPr>
      </p:pic>
      <p:sp>
        <p:nvSpPr>
          <p:cNvPr id="6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C6230FAA-1CB3-4711-9026-C65C8FD67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4"/>
          <p:cNvSpPr/>
          <p:nvPr/>
        </p:nvSpPr>
        <p:spPr>
          <a:xfrm>
            <a:off x="914400" y="1522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ca1"/>
                </a:solidFill>
                <a:latin typeface="Arial"/>
              </a:rPr>
              <a:t>An Enhanced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StringTokenizer</a:t>
            </a:r>
            <a:r>
              <a:rPr b="0" lang="en-US" sz="3200" spc="-1" strike="noStrike">
                <a:solidFill>
                  <a:srgbClr val="034ca1"/>
                </a:solidFill>
                <a:latin typeface="Arial"/>
              </a:rPr>
              <a:t> Class</a:t>
            </a:r>
            <a:br>
              <a:rPr sz="3200"/>
            </a:br>
            <a:r>
              <a:rPr b="0" lang="en-US" sz="3200" spc="-1" strike="noStrike">
                <a:solidFill>
                  <a:srgbClr val="034ca1"/>
                </a:solidFill>
                <a:latin typeface="Arial"/>
              </a:rPr>
              <a:t>(Part 4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Picture 7" descr="savitch_c07d07_4of4"/>
          <p:cNvPicPr/>
          <p:nvPr/>
        </p:nvPicPr>
        <p:blipFill>
          <a:blip r:embed="rId1"/>
          <a:stretch/>
        </p:blipFill>
        <p:spPr>
          <a:xfrm>
            <a:off x="866880" y="1619280"/>
            <a:ext cx="7772400" cy="2489040"/>
          </a:xfrm>
          <a:prstGeom prst="rect">
            <a:avLst/>
          </a:prstGeom>
          <a:ln w="0">
            <a:noFill/>
          </a:ln>
        </p:spPr>
      </p:pic>
      <p:sp>
        <p:nvSpPr>
          <p:cNvPr id="6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FF40E8F4-F53A-4A93-82E9-FEE06F9EA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apsulation and Inheritance Pitfall: Use of Private Instance Variables from the Base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instance variable that is private in a base class is not accessibl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y 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definition of a method in any other class, not even in a method definition of a derived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example, an object o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 cannot access the private instance variabl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hireD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y name, even though it is inherited from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ase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ead, a private instance variable of the base class can only be accessed by the public accessor and mutator methods defined in that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object o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 can use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getHireD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etHireD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s to acce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hireD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8E4767DE-5954-457C-ADD8-325470603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apsulation and Inheritance Pitfall: Use of Private Instance Variables from the Base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private instance variables of a class were accessible in method definitions of a derived class, then anytime someone wanted to access a private instance variable, they would only need to create a derived class, and access it in a method of that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would allow private instance variables to be changed by mistake or in inappropriate ways (for example, by not using the base type's accessor and mutator methods onl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BAC72B01-5D7D-49DD-A8F7-283259146D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Private Methods Are Effectively Not Inheri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ivate methods of the base class are like private variables in terms of not being directly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a private method is completely unavailable, unless invoked indirect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is possible only if an object of a derived class invokes a public method of the base class that happens to invoke the private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should not be a problem because private methods should just be used as helping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a method is not just a helping method, then it should be public, not priv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468BA31B-E422-428F-AE09-A74FBB728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ackag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c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 method or instance variable is modified by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otec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rather th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then it can be access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y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de its own class defini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de any class derived from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definition of any class in the same pack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otec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odifier provides very weak protection compared to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odif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allows direct access to any programmer who defines a suitable derived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fore, instance variables should normally not be marke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rot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070AFA62-122E-4C41-8533-77EE1172A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rived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designing certain classes, there is often a natural hierarchy for group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 record-keeping program for the employees of a company, there are hourly employees and salaried employ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urly employees can be divided into full time and part time wor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laried employees can be divided into those on technical staff, and those on the executive sta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5E3A86CE-5008-4E3F-A395-ED363B209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ackag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c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stance variable or method definition that is not preceded with a modifier ha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ackage a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ckage access is also known a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riendly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ance variables or methods having package access can be access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y na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side the definition of any class in the sam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neither can be accessed outside the pack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8B5A6F55-2550-4EDC-A177-538B4B10F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ackag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c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that package access is more restricted than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age access gives more control to the programmer defining the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ever controls the package directory (or folder) controls the package acc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4DDC92F6-3D35-4922-B3EC-40D5DF3EF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ess Modif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0" name="Picture 8" descr="savitch_c07d09"/>
          <p:cNvPicPr/>
          <p:nvPr/>
        </p:nvPicPr>
        <p:blipFill>
          <a:blip r:embed="rId1"/>
          <a:srcRect l="0" t="1730" r="0" b="1984"/>
          <a:stretch/>
        </p:blipFill>
        <p:spPr>
          <a:xfrm>
            <a:off x="866880" y="1217520"/>
            <a:ext cx="6051600" cy="5205600"/>
          </a:xfrm>
          <a:prstGeom prst="rect">
            <a:avLst/>
          </a:prstGeom>
          <a:ln w="0">
            <a:noFill/>
          </a:ln>
        </p:spPr>
      </p:pic>
      <p:sp>
        <p:nvSpPr>
          <p:cNvPr id="6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9307DF14-728E-40A1-AD3B-8E5FBCC7F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Forgetting About the Default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considering package access, do not forget the default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classes in the current directory (not belonging to some other package) belong to an unnamed package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efault pack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 class in the current directory is not in any other package, then it is in the default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n instance variable or method has package access, it can be accessed by name in the definition of any other class in the default pack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F8EE33D2-EF54-4575-B03A-AACB9B1BC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A Restriction on Protected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derived from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s a protected instance variabl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but the classe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i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ifferent packag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n the following is tr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ethod in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acce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y name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inherited from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ethod in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create a local object of itself, which can acce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y name (again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inherited from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A2C99BBB-EA49-452D-A39D-84175BC02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A Restriction on Protected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if a method in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reates an object of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it can not acce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y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lass knows about its own inherited variables and metho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ever, it cannot directly access any instance variable or method of an ancestor clas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nless they are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fore,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an acce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henever it is used as an instance variable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but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annot acce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hen it is used as an instance variable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true i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same pack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y were in the same package there would be no problem, becaus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ccess implies package a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1D602A94-67DE-41F7-B162-C4701E44E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:  "Is a" Versus "Has a"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derived class demonstrates 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"is a"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lationship between it and its base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ing an "is a" relationship is one way to make a more complex class out of a simpler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"is an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34ca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more complex class compared to the more general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838A5C14-6E13-4AB8-AA70-B6EFECAD5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:  "Is a" Versus "Has a"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other way to make a more complex class out of a simpler class is through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"has a"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lation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type of relationship,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mposi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ccurs when a class contains an instance variable of a class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contains an instance variable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ireD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f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so therefore, 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"has a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AF7EC4BD-3DA5-4DA7-9A4C-8F2D20F87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:  "Is a" Versus "Has a"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h kinds of relationships are commonly used to create complex classes, often within the same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derived class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contains an instance variable of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"is an"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"has a"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B66B83C7-26E0-4B40-BA0B-3F1DFD143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:  Static Variables Are Inheri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ic variables in a base class are inherited by any of its derived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difiers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publ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priv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protec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package access have the same meaning for static variables as they do for instance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AABC1FD3-D7C4-4BB4-80C5-551EB9081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rived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employees share certain characteristics in comm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employees have a name and a hire 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thods for setting and changing names and hire dates would be the same for all employ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employees have specialized characteris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urly employees are paid an hourly wage, while salaried employees are paid a fixed w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thods for calculating wages for these two different groups would be diffe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55D0494E-6BA9-47D1-A120-4065E6589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 to a Redefined Base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the definition of a method of a derived class, the base class version of an overridden method of the base class can still be invo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y preface the method name with super and a d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String toString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turn (super.toString() + "$" + wageRat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using an object of the derived class outside of its class definition, there is no way to invoke the base class version of an overridden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67B26709-1262-4F33-B993-1B3CBCDF6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Cannot Use Multipl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up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only valid to us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invoke a method from a direct pa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eating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ll not invoke a method from some other ancestor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i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were derived from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were derived form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, it would not be possible to invoke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within a method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uper.super.toString() // ILLEGA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0FAFFDCA-555B-4862-A430-7DF21D55C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Java, every class is a descendent of the class </a:t>
            </a:r>
            <a:r>
              <a:rPr b="1" i="1" lang="en-US" sz="2800" spc="-1" strike="noStrike">
                <a:solidFill>
                  <a:srgbClr val="034ca1"/>
                </a:solidFill>
                <a:latin typeface="Courier New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class ha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its ances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object of every class is of typ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being of the type of its own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 class is defined that is not explicitly a derived class of another class, it is still automatically a derived class of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34ca1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D192FD24-FBFD-4A64-AEAA-AFA863F46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in the packag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ava.la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ich is always imported automatic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ing 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enables methods to be written with a parameter of typ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arameter of typ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be replaced by an object of any class whatsoe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some library methods accept an argument of typ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o they can be used with an argument that is an object of any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76F0E2BD-B417-456E-8D42-DB0ECD7D4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as some methods that every Java class inher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example,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oSt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object inherits these methods from some ancestor clas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ither 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tself, or a class that itself inherited these methods (ultimately) from 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these inherited methods should be overridden with definitions more appropriate to a given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Java library classes assume that every class has its own version of such metho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665E87C2-C1A6-481B-B50D-7E9837071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ight Way to Defin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equ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is always inherited from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methods like the following simply overload i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boolean equals(Employee otherEmploye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 . . .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this method should be overridden, not just overload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boolean equals(Object otherObjec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 . . .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B57F3B89-133E-4F7A-BE35-3CD463F78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ight Way to Defin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equ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verridden version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ust meet the following cond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aramet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therObj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yp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st be type cast to the given class (e.g.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mploye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the new method should only do this i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therObj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ally is an object of that class, and i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therObj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not equal to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ally, it should compare each of the instance variables of both objec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389F9392-D3C3-4869-A1BD-5C0E4A62FE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etter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 for the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boolean equals(Object otherObjec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f(otherObject == nu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lse if(getClass( ) != otherObject.getClass( 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mployee otherEmployee = (Employee)otherObjec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turn (name.equals(otherEmployee.name) &amp;&amp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hireDate.equals(otherEmployee.hireDate)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95BCE833-1FF4-4E87-B322-589F8D780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: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etCla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ersu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authors suggest using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stanceo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perator in the definition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qu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ead o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getClass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stanceof</a:t>
            </a:r>
            <a:r>
              <a:rPr b="0" lang="en-US" sz="24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or will retur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f the object being tested is a member of the class for which it is being tes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ever, it will retur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f it is 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cendent o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at cla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s w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possible (and especially disturbing), for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to behave inconsistently given this scenar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F81D49B6-9E20-45E1-8989-5DACE4E6B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: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etCla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ersu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e is an example using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. . . //excerpt from bad equals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lse if(!(OtherObject instanceof Employee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eturn false; 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w consider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mployee e = new Employee("Joe", new Date()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HourlyEmployee h = ne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HourlyEmployee("Joe", new Date(),8.5, 4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oolean testH = e.equals(h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oolean testE = h.equals(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C62369E4-4D97-4DC2-BBBF-41AE75DDD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rived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in Java, a class calle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defined that includes all employ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class can then be used to define classes for hourly employees and salaried employ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urn,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can be used to define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artTimeHourly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, and so fo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56A13093-2C7D-4098-B401-021E14975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: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etCla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ersu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34c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estH</a:t>
            </a:r>
            <a:r>
              <a:rPr b="0" lang="en-US" sz="28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ll b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becaus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the same name and hire date a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es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ll b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becaus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not 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cannot be compared to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that this problem would not occur if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getClass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were used instead, as in the previou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E4AD91EA-757C-4280-9172-A97BB1BB9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get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nstanceof</a:t>
            </a:r>
            <a:r>
              <a:rPr b="0" lang="en-US" sz="28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or and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getClass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can be used to check the class of an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getClass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is more ex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stanceo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perator simply tests the class of an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tClass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used in a test with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==</a:t>
            </a:r>
            <a:r>
              <a:rPr b="1" lang="en-US" sz="24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!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ests if two object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ere created wi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sam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44610CE4-077A-4014-A561-33D117FBA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Oper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instanceo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perator checks if an object is of the type given as its second arg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bject instanceof Class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will retur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of typ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lassNa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otherwise retur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that this means it will retur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e type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ny descend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lass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60889189-0D2B-44FD-B9D0-FCC93B5DC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getClass(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 object inherits the sam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getClass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from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method is marke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in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so it cannot be overrid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vocation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getClass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 an object returns a representatio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class that was used with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create the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sults of any two such invocations can be compared with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!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determine whether or not they represent the exact sam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(object1.getClass() == object2.getClass(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3FBC500B-AEF0-4062-9C76-CB0B5B026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lass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8" name="Group 6"/>
          <p:cNvGrpSpPr/>
          <p:nvPr/>
        </p:nvGrpSpPr>
        <p:grpSpPr>
          <a:xfrm>
            <a:off x="685800" y="1447920"/>
            <a:ext cx="8066160" cy="4182840"/>
            <a:chOff x="685800" y="1447920"/>
            <a:chExt cx="8066160" cy="4182840"/>
          </a:xfrm>
        </p:grpSpPr>
        <p:pic>
          <p:nvPicPr>
            <p:cNvPr id="539" name="Picture 5" descr="D7_1"/>
            <p:cNvPicPr/>
            <p:nvPr/>
          </p:nvPicPr>
          <p:blipFill>
            <a:blip r:embed="rId1"/>
            <a:stretch/>
          </p:blipFill>
          <p:spPr>
            <a:xfrm>
              <a:off x="685800" y="1447920"/>
              <a:ext cx="8001000" cy="41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4" descr="07_01"/>
            <p:cNvPicPr/>
            <p:nvPr/>
          </p:nvPicPr>
          <p:blipFill>
            <a:blip r:embed="rId2"/>
            <a:stretch/>
          </p:blipFill>
          <p:spPr>
            <a:xfrm>
              <a:off x="762120" y="1969920"/>
              <a:ext cx="7989840" cy="328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1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D0E986DC-5F54-46AE-905E-674722384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ooter Placeholder 8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rived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an hourly employee is an employee, it is defined as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erive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of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mploy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erived cla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defined by adding instance variables and methods to an existing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xisting class that the derived class is built upon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as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hras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xtends BaseCla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st be added to the derived class defini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class HourlyEmployee extends Employ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1C52EE60-E4EB-45ED-B5FC-4A1F861D7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rived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 derived class is defined, it is said to inherit the instance variables and methods of the base class that it ext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fines the instance variable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ireD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its class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lso has these instance variables, but they are not specified in its class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as additional instance variable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ageR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ou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at are specified in its class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94AC1AD8-EE77-4326-850A-FA24AA6E0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Kenrick</cp:lastModifiedBy>
  <dcterms:modified xsi:type="dcterms:W3CDTF">2007-05-28T06:37:22Z</dcterms:modified>
  <cp:revision>13</cp:revision>
  <dc:subject/>
  <dc:title>Slide 1</dc:title>
</cp:coreProperties>
</file>