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8054-FC15-4741-8D5F-6FF68A91D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2576-8B39-4726-8757-97D4B8E7D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5E6D-9E65-4DE8-B13D-08B7C5F71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611D-DA78-4ACB-8FD8-CFEBFA4D0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9428-BF64-4441-BDF9-071DAF670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406A-246E-45BF-BE25-F4ADF814C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8636-B2E8-4B01-A5EC-B64699255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84E0-179C-47BE-A3EE-68607E4D8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8DE3-4F48-4182-ACCB-E5AA405BE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D000-C914-4649-BDD8-E67DC9DE8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355F-4363-435C-BEDE-87D915232A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FBD8-8B04-4FD0-B819-D70C2FEB7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ED2C-FC22-4EC0-8FDC-AB11C8CB8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3443-9202-442F-BA1E-AF5BEBA97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6011-B5E8-4FD7-A9A5-09E4BB46C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988A-8467-44A3-BC82-66D8468B4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477F-EAD6-4294-AF8B-CE68C44AB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4DFB-58D5-4D9A-ADC4-76822974F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0C3B-96C0-470F-A98F-AD9C70A4D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9281-9D70-46CE-ACDD-71D9F593D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81D9-02D2-4A00-89E7-59DBD7208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5F4A-C23B-4057-93A0-A1059C3B6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E155-DBD8-47C8-A92D-23B0DE446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4F61-83A6-4563-8828-865DA0D30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782C-DCA6-4B0B-B37A-87A7C6520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7DDB-F962-4A3A-BB96-94ED635A40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74EC-6023-4D32-B28C-699B16A11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8D43-9FB0-4F87-9290-122A7EFD3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BE07-8B80-408F-BE81-2C4642BE4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7BF0-102E-487C-B998-128725DF0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3D38-163B-4858-9BA2-84A64D98F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79B8-F6DE-4B93-AF0E-FCA7A8CE6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C8CC-F81D-40A3-958D-A95EB5DC1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47D3-EEFB-44B5-B1FA-556075441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20A-1B2B-46BC-B4F4-5C03B1E5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E16-3167-4C61-8F60-355FD111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B7AD4-7EF8-4CA0-970C-C1EB362F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F2F3E-F0C3-4783-8DD0-454D10CF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74A55-D05E-42EC-BC6D-72139B69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102D3-E3D5-49CB-B5E9-91C2E6EC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F64E2-EDC1-4738-8DF4-50A89400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0F2E5-DC90-4B8F-AC6C-BA658578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A1214-DB7C-4A72-8B81-812B3868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C6597-2736-419F-A54E-74B7DED6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311C4-5C74-42C8-9282-30FF5725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6D03E-C7C3-49E2-9A1F-1B064FBB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2EA-6FC6-4568-B1C6-9C55D463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77FB0-C847-4107-ABB1-1D0AD547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BFA16-B732-4520-8220-36118D3E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7CB37-B25C-4BB6-ACE0-A2634203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37A81-BDF6-4EF5-A336-8E5C7A34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6966F-CC0D-44AE-A0AC-2C61BEE0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794CE-6FB6-45A3-BF9B-C7F7417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DA581-A0FD-4E6B-B94B-0F5E8F8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BF756-A488-4B20-A057-1E4A7A6E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30A51-1EE2-48D0-81B4-22631117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74125-41FD-4E47-91A2-443E8072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457-9979-432A-A3CC-2344DBC0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D17E8-1029-47C9-AD87-5919DC9B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43EE9-6CC4-47EC-987A-AE3BA6BE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498CE-FF11-48AE-9071-2CDA819F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C3032-BA3E-47AC-98F5-5B219412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0F742-07D3-46D6-8BD1-0E6EF04E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B6707-10D5-49B3-A267-08B8097D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19FBF-AEA1-47E5-B950-15C18F79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D3776-F89A-4134-A650-C0DB0CB0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EF209-2327-4B87-AF52-92CBBE6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1B8C2-5C10-41C9-9FF5-1ADA913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B4CB-8F9B-4167-A41F-2CB7B1E5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42E08-5B6E-4472-960D-7CDEC208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477EF-19EF-47EF-9A45-C47CD2ED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9577F-E0BF-4911-9F8A-E0421A59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40F2B-B147-4367-8AA1-DFAA0CDC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F8DC7-5B8B-4709-8AFD-B554E88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1F6A8-49A6-4B64-8D32-3B05A247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054E4-5168-477E-BB84-A37CCD14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9CDE0-9E1E-4AB5-AF3D-4262B9D4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49B24-1A86-4E86-BD98-D4D6B9C7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E1551-9925-42BD-AD66-A3D7A0C2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AA8E-C7B2-4B4F-BCB3-EF5E9545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11CC4-69D5-4E9A-80C3-7B4619DB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F606F-C8A1-445F-837B-50DB0963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BB1FE-7C92-49A8-A478-777AA246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D31F4-C5A1-4098-BF95-8509F5AC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A11B9-8976-420E-91F6-310BCCEC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1D28-F2EB-4B97-8C2F-2DA9B3FC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9300-A071-4FE0-9C17-02BA003B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1E14-B924-4C56-8FD3-951018CA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FAF5-33FC-4805-B7A9-45B08006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2C6B-2542-473E-908A-AE530947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C5B-6B50-4E66-86D8-82174ACF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43E9-908B-447F-82F7-1B382EFF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E3F1-19C4-44FA-A9FB-0C0BBED7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A4EF-7B7A-43DB-8A94-7B24C5BB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00E2-084E-421A-B4B1-92B1A686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12DD-6324-4D00-8D84-09CB94A3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1163C-4118-4211-940D-9F2C9212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E11AF-A7A3-4C07-A02D-9E6C25A4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2A185-DFDB-4BF5-BC1A-5272983A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66709-B48C-41A3-8C17-22EB600F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9A085-FFB3-405C-B3E5-691ADE5C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A90-64E6-4908-80FC-9D849909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6F3B2-EF60-4E7E-9770-634000B7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83DCF-EF9C-4F82-B95A-81D68B66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A48F4-DD6C-4499-A540-2A63CE27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E941A-E32D-4BE3-9818-767E2958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B0019-847C-4523-8495-F0CAD5E4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35689-758F-42DD-9F56-4AB1EDC4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0EE7B-6D6B-449F-8DC0-6350E31D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3F9A0-5DE2-4AB8-9CE3-CE63EA74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BA7EA-5627-40AD-8C16-D95455D2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E8095-DFBB-4AEF-A749-07003626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D59-8323-4E49-9E3B-0E8AA905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C6047-C243-4C41-AC84-992ADCC0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ECACA-7BAC-4BAE-B0B2-D1C49D3F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148C-F700-4A64-B965-405FA47F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8B3C-77F1-4F45-977C-AC859D83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51DC-86E6-43FA-953B-8F719C52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A5CF-7548-4460-9491-781D4270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0A750-4F6A-4AD0-90A1-0A60D534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B7453-E834-4083-8C72-EFD30960F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2B305-F61E-4316-A7CC-5CEFD3C4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4F163-327F-4AE4-93D7-EB6E7A2D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8AD-A53F-4983-9376-D7EFCB8E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A7F8F-96E4-4EF8-9044-B43A9A5F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DD777-14CA-4BB9-989C-3196BEA0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B8BF8-5BA1-45F5-B341-20062D8F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28C95-E4B4-404A-85E4-DC6211FF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3A9FF-CD4E-471E-9870-070169F3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20D27-AF35-49EE-8623-BB0552E1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8ECD3-B7AB-4C1E-B10D-8D3B3AB1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E823F-6492-468E-ADF5-85A6BBB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CF617-27A5-4119-A9D6-9E623B45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773DC-E5B3-4401-AE25-39E5D469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DAC-B927-40F0-8A1C-0AFA76D0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7EC5E-DE32-4B8E-9B23-86870963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16927-3AAC-4B73-B203-1246F47D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28114-8888-4678-B84A-5139EF78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7C7ED-9E6C-43A7-8CB4-FEFCC9BF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94585-64B4-4AEA-981C-13B635AF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63B78-11ED-48FB-88DF-182E2ED4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8FCB8-F7EA-445F-B149-FECFF55F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E96E0-9FE0-469A-8639-442CC987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A2C83-30A9-49D2-8893-9DF071F4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32E02-99C6-4C67-A609-12DDF4AD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15D-FBF5-48EF-99CC-7907EE05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2D7A-5889-4E22-AF73-701A2AD9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C6A16-D165-4004-A2D7-35A8736F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E9B05-4FE0-4A8E-BB30-7D85BD41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B83C3-1149-413F-B51F-44A91B18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23C59-7F3B-4A17-86E8-1E9B4C99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C401F-45CB-419F-8D90-EAE3A23B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67D0C-43C8-43BD-9718-5400935B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9C1AA-B209-45C7-B212-D30E1946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ABD63-8352-46F9-8417-1FD87460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48AEA-F7E6-41FE-B6DE-FA977C90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549-BADB-4EAE-BA1B-A5BA1789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50664-8C0C-49C6-9E02-94F3B19F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0D323-05E2-492D-957F-25708D03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AE4B7-593A-4A0F-B426-6A208EED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E4D62-EDA6-446C-A05C-1BBA3A86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326ED-CA5F-4159-B6EF-AA123006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1766C-D4EC-4BF4-8BC1-6A59277E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0867C-47D2-4111-816A-302EF974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4E76A-70CE-4407-915C-3ACCF91A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7DD29-98EA-4B7A-9A7B-EA42A5C6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D2C7B-87BC-4735-B3C9-A99BA7E0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B1C-F182-4898-8D02-89CE7FFC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0C7FA-72A4-45E9-8BBF-015BA8BD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6C87-DB42-4F57-956A-2E809CD7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21864-BD0D-4A7E-B324-75435A75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B42A9-5B6F-4D3D-BFF6-90001513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8CF3E-59B8-4F4F-A10A-F5D2C1AA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107F0-EE84-4BA5-BC73-84760148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2A87D-FD62-451C-BD93-0D46325D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A7EED-AF87-4AB0-8208-6ED16097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AE3CA-2838-4CB0-9AA6-49B637D2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A9B25-639D-4834-84CD-E9344257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8582-243E-491D-B3F6-ECBC71215CD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A99F2A4-E1C6-4B3A-8E1F-8CD49025F9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32CA-3DC2-4812-A0DD-77CCB39E1EB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16371703-272E-4F11-8466-731A69A16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7F86-A1B9-4C51-A072-7D25B509D55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CFE6B978-61F4-47B9-B035-929CFEF1CA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06DB-FEDA-4B00-88F6-5F4C7A87EA3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82053BA1-74B4-4762-8F27-E33FC26E57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39FF-29E8-486C-AB6E-BE03A4B3172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2DA052DD-5AC8-4D53-9E05-07DFA3DE01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BF6F-AE7A-4B53-851C-83CACEA0544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9BDC3535-EF9E-4404-8D23-4ADF625C7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4ADD-C878-4B38-A342-896195C852C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BB8FE390-C019-4970-AE01-B20388106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0657-6A7B-41AB-A443-282407387BC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A1CA79F0-15DD-42AB-A0FB-EFDEA716CF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3717-57D0-4384-A220-BF00666D0C7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112DFAF3-AC25-4812-A08D-E51642D079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4F49-E58B-49CC-8C18-8F2C0C13F3C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80DF2D0F-63EE-4048-A113-7FB8B291B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EF38-39D0-4E4C-B555-D212F0FD1B7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FED28485-B555-4B1A-8BBA-1E3C9B76A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CC92-45CC-437E-A693-508C9911FE8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904EC349-B33B-4660-AA88-20CA231FF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ML and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her than show just the interface of a class, class diagrams are primarily designed to show the interactions among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L has various ways to indicate the information flow from one class object to another using different sorts of annotated ar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L has annotations for class groupings into packages, for inheritance, and for other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 to these established annotations, UML is exten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DF38CDC6-B31D-4294-B343-CAED1C5CB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eritance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heritance dia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s the relationship between a base class and its derived cla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, only as much of the class diagram is shown as is need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each derived class may serve as the base class of its derived class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base class is drawn above its derived cla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upward pointing arrow is drawn between them to indicate the inheritance relatio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CF0234FE-EDEC-4C7F-AA2C-5F1003E2D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ass Hierarchy in UML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6" descr="D12_2"/>
          <p:cNvPicPr/>
          <p:nvPr/>
        </p:nvPicPr>
        <p:blipFill>
          <a:blip r:embed="rId1"/>
          <a:stretch/>
        </p:blipFill>
        <p:spPr>
          <a:xfrm>
            <a:off x="952560" y="685800"/>
            <a:ext cx="6362640" cy="5700600"/>
          </a:xfrm>
          <a:prstGeom prst="rect">
            <a:avLst/>
          </a:prstGeom>
          <a:ln w="0">
            <a:noFill/>
          </a:ln>
        </p:spPr>
      </p:pic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A0980FBD-B535-4972-AC2A-F0CBB5DBE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eritance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rows also help in locating method defin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look for a method definition for a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ine the class definition fir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method is not found, the path of connecting arrows will show the order and direction in which to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ine the parent class indicated by the connecting arr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method is still not found, then examine this parent's parent class indicated by the connecting arr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inue until the method is found, or until the top base class is reac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CEDFC0F3-32E7-4894-AFCA-4E199E21A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Details of a UML Class Hier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6" descr="D12_3"/>
          <p:cNvPicPr/>
          <p:nvPr/>
        </p:nvPicPr>
        <p:blipFill>
          <a:blip r:embed="rId1"/>
          <a:stretch/>
        </p:blipFill>
        <p:spPr>
          <a:xfrm>
            <a:off x="966960" y="762120"/>
            <a:ext cx="6805440" cy="5657760"/>
          </a:xfrm>
          <a:prstGeom prst="rect">
            <a:avLst/>
          </a:prstGeom>
          <a:ln w="0">
            <a:noFill/>
          </a:ln>
        </p:spPr>
      </p:pic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0DA30CC3-1FDA-4844-833B-9E18024F2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tter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design outlines that apply across a variety of software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useful, a pattern must apply across a variety of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substantive, a pattern must make some assumptions about the domain of applications to which it app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5EEA3E30-4360-4F05-AB72-509920E36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iner-Iterato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class or other construct whose objects hold multiple pieces of da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rray is a contai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ctors and linked lists are contai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ing value can be viewed as a container that contains the characters in the 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construct that can be used to cycle through all the items in a container i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t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rray index is an iterator for an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-Itera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ttern describes how an iterator is used on a contai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F1D20CE6-CBA1-431A-BC00-1A5880D8A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apto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daptor pattern transforms one class into a different class without changing the underlying class, but by merely adding a new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one way to create a stack data structure is to start with an array, then add the stack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895394A7-76C3-465A-86A7-3D68D408D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del-View-Controll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ttern is a way of separating the I/O task of an application from the rest of the 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el part of the pattern performs the heart of the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ew part displays (outputs) a picture of the Model's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troller is the input part:  It relays commands from the user to th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3C349CC9-43E1-4542-AB59-D92981D65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of the three interacting parts is normally realized as an object with responsibilities for its own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l-View-Controller pattern is an example of a divide-and-conquer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big task is divided into three smaller tasks with well-defined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DD6513DC-B411-48A7-9D5E-89D08D84D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UML and 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L and patterns are two software design tools that can be used within the context of any OOP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L is a graphical language used for designing and documenting OOP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tern in programming is a kind of template or outline of a software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ttern can be realized as different code in different, but similar,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83254E28-290B-4BA7-B4DE-499273538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n example, the Model might be a container class, such as an arr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ew might display one element of th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ntroller would give commands to display the element at a specified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el would notify the View to display a new element whenever the array contents changed or a different index location was gi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356444D6-7C3A-4B14-8B85-7287A0A8B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application can be made to fit the Model-View-Controller pattern, but it is particularly well suited to GUI (Graphical User Interface) design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ew can then be a visualization of the state of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D7A5757A-41E8-4304-A446-A7679AF34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6" descr="D12_4"/>
          <p:cNvPicPr/>
          <p:nvPr/>
        </p:nvPicPr>
        <p:blipFill>
          <a:blip r:embed="rId1"/>
          <a:stretch/>
        </p:blipFill>
        <p:spPr>
          <a:xfrm>
            <a:off x="961920" y="1295280"/>
            <a:ext cx="7496280" cy="4067280"/>
          </a:xfrm>
          <a:prstGeom prst="rect">
            <a:avLst/>
          </a:prstGeom>
          <a:ln w="0">
            <a:noFill/>
          </a:ln>
        </p:spPr>
      </p:pic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BDA68936-37C8-4A7A-879B-A3E175866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efficient sorting algorithms all seem to follow a divide-and-conquer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array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, these sorting algorith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ide the list of elements to be sorted into two smaller list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sively sort the two smaller list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recombine the two sorted list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to obtain the final sorted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7C75D4C6-3E98-4050-A96E-83FBCCEE5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rranges the elements in the interva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begin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end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divides the rearranged interval a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wo smaller intervals are then sorted by a recursive call to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he two smaller intervals are sorted,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bines them to obtain the final sorted version of the entire larger interval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pattern does not say exactly how the method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definitions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yield different sorting algorith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46D20C15-B185-4044-B8E2-A7E5C2C83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ide-and-Conquer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Picture 5" descr="D12_5"/>
          <p:cNvPicPr/>
          <p:nvPr/>
        </p:nvPicPr>
        <p:blipFill>
          <a:blip r:embed="rId1"/>
          <a:stretch/>
        </p:blipFill>
        <p:spPr>
          <a:xfrm>
            <a:off x="990720" y="1295280"/>
            <a:ext cx="7515000" cy="4029120"/>
          </a:xfrm>
          <a:prstGeom prst="rect">
            <a:avLst/>
          </a:prstGeom>
          <a:ln w="0">
            <a:noFill/>
          </a:ln>
        </p:spPr>
      </p:pic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D571E882-3318-46F2-88D9-51AAC0B81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ge 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mplest realization of this sorting pattern i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rge s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fini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very 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ivides the array into two intervals without rearranging the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fini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ore compl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 There is a trade-off between the complexity of the method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ither one can be made simpler at the expense of making the other more complic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A60DF46C-CD40-44FB-9683-ED49EB4A2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ge Sort: 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oi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rging starts by comparing the smallest elements in each smaller sorted 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maller of these two elements is the smallest of all the elements in either sub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s use of a temporary array, and it is to this array that the smaller element is mo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ss is repeated with the remaining elements in the two smaller sorted intervals to find the next smallest element, and so f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5D06A475-0766-4149-AC1E-4D20140E9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uick s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lization of the sorting pattern, the defini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quite sophisticated, whil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tterly 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, an arbitrary value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plitting 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ho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lements in the array are rearranged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elements less than or equal to the splitting value are placed at the front of the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elements greater than the splitting value are placed at the back of the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litting value is placed in between the t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6CE4A3F0-295F-41EC-9314-D594E58E2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the smaller elements are not sorted, and the larger elements are not so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ll the elements before the splitting value are smaller than any of the elements after the splitting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maller elements are then sorted by a recursive call, as are the larger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these two sorted segments are  comb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actually does no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9AF20F27-8903-44F4-809B-DD0A6C65D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code is a way of representing a program in a linear and algebraic man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implifies design by eliminating the details of programming language synt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al representation systems for program design have also been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lowchar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ructure diagra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fied Modeling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M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yet another graphical representation form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L is designed to reflect and be used with the OOP philos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024C9BE1-9634-49D5-8586-024F02EF4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rictions on the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all patterns, the sorting pattern has some restrictions on where it a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applies only to types for which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 is def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applies only to sorting into increasing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ttern can be made more general, how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 can be replaced with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lued method call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mp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would take two arguments of the base type of the array, and retur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ased on the comparison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4B6D0EFB-AE7E-45A7-95FD-AD5C2E5BE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the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efficient implementations of the sorting pattern are those for which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divides the array into two substantial size chu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rge sor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vides the array into two roughly equal parts, and is very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quick sor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y or may not divide the array into two roughly equal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it does not, its worst-case running time is not as fast as that of merge s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A52ECF44-51FE-4E73-8E5A-BF2889F22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the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lection sort algorithm (from Chapter 5) divides the array into two pieces:  one with a single element, and one with the rest of the array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this uneven division, selection sort has a poor runn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is 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D2CA175E-D3E8-4460-8461-B5CCC7077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gmatics and 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terns are guides, not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not necessary to follow all the fine deta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quick sort was described by following the sorting pattern exa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ice that, despite the fact that method calls incur overhead, the quick sor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does no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ractice calls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be elimin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optimizations can also be done once the general pattern of an algorithm is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46A3D0EB-FF8C-48E5-82D7-40E1B1331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U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OOP has developed, different groups have developed graphical or other representations for OOP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1996, Brady Booch, Ivar Jacobson, and James Rumbaugh released an early version of U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s purpose was to produce a standardized graphical representation language for object-oriented design and document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n, UML has been developed and revised in response to feedback from the OOP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day, the UML standard is maintained and certified by the Object Management Group (OM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5AA9157F-09CB-40BB-B5E8-CCE03F841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are central to OOP, an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 dia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easiest of the UML graphical representations to understand and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diagram is divided up into three s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op section contains the class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iddle section contains the data specification for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ottom section contains the actions or method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D0DF0A0C-644D-4C46-B9BA-978EAE769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specification for each piece of data in a UML diagram consists of its name,  followed by a colon, followed by it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name is preceded by a character that specifies its access typ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inus sign (-) indicates private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lus sign (+) indicates public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harp (#) indicates protected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ilde (~) indicates package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1B3FBCDC-B88E-48CF-844B-672D1E8B2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method in a UML diagram is indicated by the name of the method, followed by its parenthesized parameter list, a colon, and its return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ccess type of each method is indicated in the same way as for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ADA30FA9-D4C0-4C15-AB69-9CA06B6AE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lass diagram need not give a complete description of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given analysis does not require that all the class members be represented, then those members are not listed in the class dia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sing members are indicated with an ellipsis (three do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A39956A3-A138-437A-8A0A-0DE5E4606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UML Class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6" descr="D12_1"/>
          <p:cNvPicPr/>
          <p:nvPr/>
        </p:nvPicPr>
        <p:blipFill>
          <a:blip r:embed="rId1"/>
          <a:stretch/>
        </p:blipFill>
        <p:spPr>
          <a:xfrm>
            <a:off x="942840" y="1819440"/>
            <a:ext cx="7515360" cy="3219120"/>
          </a:xfrm>
          <a:prstGeom prst="rect">
            <a:avLst/>
          </a:prstGeom>
          <a:ln w="0">
            <a:noFill/>
          </a:ln>
        </p:spPr>
      </p:pic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22F9C518-4634-41F7-8696-C3128967B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9:05Z</dcterms:modified>
  <cp:revision>13</cp:revision>
  <dc:subject/>
  <dc:title>Slide 1</dc:title>
</cp:coreProperties>
</file>