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D413-54F0-471E-AB54-FC6BA1CF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949-AC2D-482E-B615-79106DBB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737A-FE25-44FC-BB9B-0658A673B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2426-230A-47F0-8FBE-24B86C891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96F-1E54-42C3-AC7C-875857DD7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77B7-AFEC-4EE2-A0FA-43E4DB3DC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283B-5C38-46F6-A602-69ED91735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C8CF-8969-4A4A-8F20-D1AC8449E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D341-DF90-4AD2-BC01-2A5EA6623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298F-39D5-4963-85C3-87A21B5F9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D86-ECC8-47F9-8D7D-E2D472180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368-914B-489D-83C4-4205C50D0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417-6571-4CE7-A72D-1B7764D41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70B4-011D-42D5-9948-C11EB703A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ED1E-98ED-4DF1-A07D-4744CA785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BAC5-0DC5-463E-BF05-C8DC317C6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89F5-23AE-4613-9240-CD271D1A5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DEFF-48C2-4424-A680-FCD935B4D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CE7-10C8-48FD-995C-20D6D965A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88A5-69D2-4255-8167-EE31DCEF6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340-9410-405B-9794-F137C5E5F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19D-AF92-491F-866C-ADE6EE2F8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DE1-4C13-4C5C-81AE-35DBC1E34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D32-2A83-491F-A86C-E15FD96DA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A5A-5171-41EF-A66D-EA9E02A4B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217A-C162-4075-A576-2E6377CB7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ADB-D09C-4BBB-A096-AE7154598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F27-EBAE-4B17-8BCA-7765C49E0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292B-AC84-40C9-AD01-DF4B4B0FF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AA9-8064-4F3B-9863-E22120CB6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38F8-83F3-48C9-80B7-F9C1095C8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BF4C-ADF4-4F51-8269-54B764EE3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A78-33D6-4F0D-994C-FDFD896A5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1372-BC05-4DE8-A1DB-6C728D733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556-DF4B-4FF4-93EF-42555A253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7768-345C-48B2-B846-479B3FC69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5E0-8FAE-4C0B-8335-71BC2644D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5386-3A90-438A-9D06-0E940A23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3687-7859-4001-823E-193CFFA43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57C0-4C23-466D-A483-CA994179E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452C-50FF-4FAD-A5EA-ACEC6C158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7DD-5DFC-4B0F-BA15-FB1DC9089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C677-D80F-47CB-BAEB-8CF1F799D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194-EC48-49B1-A2FC-4EE43E3F4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B62D-3906-4192-9A11-3EA60216B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3566-FB25-4A7A-8FD2-915C8C53B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82A-6CA7-405D-BB65-440F329DC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A3D1-F163-42ED-A99C-ACB4F1235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4AA1-CAE3-407E-9AE7-CB952C9F3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475B-2208-49DE-A6F3-EE94B75F5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3F88-7C5D-4D68-9413-2FDA20E70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CE3C-20A1-4070-BB31-C86ED0301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8DF1-AC0B-435D-91C9-2C4E96343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E42-E290-4EF1-965D-1B3006616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CD2A-3961-4A7E-941D-78AEA3DD6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F30D-0AAA-4B58-B23C-4612ECB90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A77E-10BA-4C56-BCA1-B89849C07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D0AA-B4DE-4C24-9839-FF1A30F32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C2D8-DC9E-486F-995B-52624C5F0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BFAA-D542-4B88-906F-2CAFEA170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2ABF-F947-4150-91FD-5B6E73481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0CD-4487-4061-AD87-17FA77993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73F5-B23E-4D3D-B48F-342E7A4BA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BB79-C5F2-43F0-B191-778FC4D06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345F-0778-4968-A030-667AE268B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E026-D7DC-4BD8-A567-A282A8322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2645-1AB8-40E1-BAB6-DC78C2FAD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A098-E78A-4B55-9B97-D1E981A58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CF7-2660-4B68-9787-490E935CD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B948-ABDA-49FA-A6E6-C5D592792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6762-7255-4129-A5AE-7668CCB14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73B0-8314-48FA-BDE0-C2CFCB1B7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036C-E0CB-4C8E-96BD-837653A20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0B0-36FF-4C1D-A646-D47A1E241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FEAB-F0A6-485C-96A2-08CB37FE7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650-6107-4D92-B3C0-712058530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B54C-6AB0-482F-8006-1210F6C99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AC6-4125-45BA-BB8A-3065E06E4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6D87-5F97-4EF7-9FB5-21CF781F9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91B-56BC-4072-A02F-3F574AF7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22F-4AD5-45B0-83F2-8603EE90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A2925-2CE1-476D-88ED-8AB34014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F2362-016E-49CD-8DB2-6C479741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9363A-9491-4611-8559-C2407102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1DCD4-6564-480B-915A-3EF6D22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F5036-3D1A-4BAC-815B-9D52645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3C76E-F919-45F2-A6B3-E0B3DD1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48BD4-E2A3-4789-A316-74EF3DCB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B361-4F6F-40B9-BAF8-DABC37E6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45EC1-6363-4A95-9BE4-57C0018A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F2EC-29D3-4740-A58F-E19F48C8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E23-D9A6-4429-91ED-042423CC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2614E-D45C-45A5-B00C-19BD0600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3B18E-697A-4F7E-8C8F-8B5CFE1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A11CC-C7BF-48FA-9FBB-601E387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92847-C5C6-4564-B9F1-A3F8A59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DF552-15D6-4CC2-88E1-1E8DB7F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8C24C-2B81-49A5-A851-3B4138C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52F1F-60D4-42D6-B903-811CFD4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F2860-5724-4AB5-B8F7-56944544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9B853-BDF3-4FCB-B157-408692E6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CE96D-F482-47E6-949F-CA8B291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8FE-9184-4923-99F0-6F609BC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6312-FAE8-448F-88B8-2BF19472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A53A8-07DD-438A-9FDC-70A7F74D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634C7-FD1C-420C-9A4A-D5C25E40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F87B6-68F2-429C-8D2B-833C9D5B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DEB5F-19D3-4469-BD62-3C70C90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A93EA-483A-40DA-BD7B-E37A311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4E66-2F95-432A-BFE7-64A75C1E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60A29-0699-4F7D-B5DF-069B0361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CDD9-441E-4F0A-9956-87F86F7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74417-71C9-4CD1-8DD3-622AD3A4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8593-B659-474B-803C-89405443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8C53D-BC2B-4C78-A91D-ACF0D989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DAD2C-BBEA-4E8E-9047-C7E211F1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1AA6-7EEE-403E-8BC0-FBAD49A5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834A7-6E07-4627-A901-475B5C97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9C48C-264F-412A-B255-1C8C9577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E7A30-000E-485B-A7B3-7E7A088A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64671-D0FC-4476-9895-F921E99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68B06-98CD-422B-9456-282BC282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C1FDC-7AF9-46B5-B3C5-FAC4254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87985-7DEC-4B86-A2C2-F767960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D7F3-440B-4E38-886C-53C463E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8D12-976A-4119-A474-EAA24F4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7AC3D-C55A-4772-BABC-A861EBF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8E329-98CA-46F5-9A00-0AECB27F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89241-5F08-4DA1-B74B-2EE17AE5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45DC5-AE24-4116-90EC-2DF8F5FE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14E0-C964-4AAD-8D6C-26EB048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078D-3CA7-4E7A-A094-E5D90D59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AEFC-380A-49F9-BA5B-1606E7B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275C-AEB9-4176-9E29-3613E252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2AB-46DE-455D-93BA-2A479C2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A00-962D-4318-BB4F-6CD41367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484C-95A3-4765-9D2A-B1F9E7E1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79A3-BC1D-4BE8-A880-E01E97C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CA4-9CC3-4BA1-A522-769F4351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B0ED-9D44-4D91-8BDD-6F0240B2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9AD8-6EDB-4003-BE92-81E889B6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9EB36-48BF-4EC8-9BE5-32AC8FE1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3DE25-20D5-4A8E-9400-4AD7FF77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FDC1C-2B0F-4018-B6F2-08C9180D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4978-FEE3-461B-B049-79259331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A9200-2C1D-483F-AD93-5C3BB92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F30-49BB-403F-89D9-422881F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3B76F-5657-4080-9595-C666531F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A4797-9F0E-47DA-BED5-4474B83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5E8E-05C9-483D-9542-5F63477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29C78-951A-4A22-9AFD-B917FC0A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28775-4482-4161-8056-FC2FC07A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D7978-1D56-41B2-A8AC-19C6E5D8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ADBB1-9135-4BF3-A0EC-1A1CBB33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6200-B221-40F1-857C-EC8F082D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9C1C-8472-4F93-89CA-9D9A2597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08A7-B238-4C32-929C-7ED2AD27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6B1-2905-45F3-A94E-12A0CB24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4FC41-0A7B-40E6-BC49-61108FE5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452A-7C14-4264-8348-2B1500C2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22341-A861-4C24-B3DB-A9EDFC8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AB3A4-97E0-4FB1-BD15-ACD258AD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E5AD-7F36-4C6D-8102-FA470835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B790F-F1C0-4BD3-96F7-61EA446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5B28-B3FC-4B80-BBA0-38113848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E55C-D3D7-4DC2-BDF5-C92BE41C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C46F1-ACED-4136-810E-791B4249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DD66-C301-4A8C-9EF8-9C52A9B1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EF8-DFF2-40D4-A388-F74ABBCE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2A6B-AA7B-49B6-B481-F57EE07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089F2-EEB0-47D8-B95E-215920FF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5086-F49D-4931-AE5D-093216D5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3657-AA49-4768-887D-38DE9E23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3177E-AC78-4B4E-8102-DCD5002C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FE4F-9B0F-4EDC-B18B-3AB0A30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7FAE0-3813-4CE0-9E74-CBC8059D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E3E2-504D-4941-8069-C695037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25D38-98F9-4D5E-B074-89D1BB45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9DB00-BDD4-47DD-BDEF-1FF9B98E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3FB-333E-40BB-9187-F0285AEB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6514-BA38-4946-8237-C19E39C6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D6255-068B-4335-A5D8-B61D3E98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B08BE-7B98-430A-8CB9-A77532A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7396-89BD-4F5C-BA12-E93BA3B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E6F9-430F-4A87-8636-8017CB37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1DEF5-FC5D-42F2-B103-59C02F37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9603-78B7-461C-948B-64217FA6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2FB4-E583-44AD-BC58-982EDD0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F6052-1967-43E8-91C3-5AA6ECBA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6FFB-0914-47AF-8642-16049DF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9D7-7EEB-48D7-9024-4C7BA85D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ACD3-DE19-41E8-83FD-CB8F8806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C641-987E-4175-8359-850A109F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6A90-9298-4FB0-9CF5-D59D0B56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3933-605A-4BE2-ADFB-D1C6C58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0D43-8B22-4AEE-8AF6-D8F4E493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76CA-9501-41C1-BACA-7A8A924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2216-3289-4376-B34C-B65EF55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18203-A8CF-4990-8CA9-B531A9BE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B34D-4378-4189-94D6-1446BF13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06E55-EDFF-43CB-A251-BFF4D74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341-3381-43E3-98D0-5FC5001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F9C03-3B8B-4970-9B72-A54FFE2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8B543-A129-426C-BA50-CA81692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41A9-4B30-4D1D-9237-108CC5DB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C7EBF-8B19-4F46-BD10-277CD937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B3CB6-0029-4A33-87B5-2F882332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83A5-CDA8-426A-B40E-396E77C5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4F04-2125-4BBC-A400-CEEC7D01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BD37-98FB-41BE-91A8-9391CB8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62F53-06F0-4908-8ED9-DE92EAB4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23F6C-A5D0-4BC1-90D6-01361840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9A6-411B-4FC8-94C3-8F652BCB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EC4A3-7A3A-4BB2-92C1-4240429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5DDD-9F72-45A5-85F0-CF99DB7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0137-8870-48D5-9C97-34533E00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FA5B-C282-478C-B297-F885BD63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52614-1E7B-4BF4-82FA-3331F9B4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CAD9B-7CD1-40B2-B306-75E05B12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E509F-0D94-481D-AD8A-584994B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10A4A-ACE2-44B6-9DAF-0EA733AB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32605-ACD0-401D-ACA4-907498E5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A850-DA7C-4BDA-97A7-6C0828D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8750-7736-4BD8-AFF1-FDB2F53D39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71EC219-79C0-4E78-8E60-CAA1F76C5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4BF-B3D2-4845-B223-6EF189317E4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8F29E953-5AFC-44C3-A8DE-AF0BF6887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8902-E05B-490E-9491-68AF3680BE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F4B78D53-BF71-4B8C-A602-C8AD15DC8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91B9-99ED-4874-9C75-CCAF942A722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2670D1DC-BCF1-4308-B7CA-74F60E69D3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0EFB-6040-4C70-B78E-CE8C67C44A6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F7BAB92D-9F4B-4936-A25B-9FD478F1C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0C0-D5AD-4F9F-8431-8198381FDA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77F09965-293E-43B4-AE53-629FE31D76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7A4-50B3-4E5D-A433-3B7E890FAF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AA15D206-27C1-4796-819F-0F0DC03CA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B25-920C-481B-9895-4F41F36E228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7526C596-D0D4-48AF-B1B2-DBEC2E738D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9C8E-909E-40D0-8956-85D074568CD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53A554DD-B8D4-4BF4-B0D8-9AAB16820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F116-2C4A-4CB8-B997-96B3F14792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DCB17B2A-8972-473F-9A43-F826C2534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A418-26E9-4612-BE5F-42070493FA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AEDFC867-3445-4827-BEFE-0071DE710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5C11-7D9D-4A49-8694-EEEE9D20FA7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3318E5FC-21F7-4563-AD58-79D187770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erics 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 the ArrayLis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usually used to place an element in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sition for the first time (at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ex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st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has a single parameter for the element to be added, and adds an element at the next unused index,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435E897-0B47-42B3-8A6E-1E84BDF40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lement can be added at an already occupied list position by using the two-parameter version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uses the new element to be placed at the index specified, and every other member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moved up by one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D023D81-8118-4AF9-B2F4-9D4719A3E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-argument vers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be used to add an element at the first unused position (if that position is kn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individual element can be change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only reset an element at an index that already contains an e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determine how many elements are stored in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F4262F0-A272-4342-BB69-55653F688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 for manipulating arrays consist only of the square brackets and the instance variabl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come with a selection of powerful methods that can do many of the things for which code would have to be written in order to do them using ar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BCD7595-9A6B-4250-9B39-8D1061610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3" descr="C:\WINDOWS\Desktop\Oh_type\savitch_gif\c14_rev\savitch_c14d01_01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1948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6FF3545-0582-4B68-A0E6-5288A783D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2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C:\WINDOWS\Desktop\Oh_type\savitch_gif\c14_rev\savitch_c14d01_02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78400"/>
          </a:xfrm>
          <a:prstGeom prst="rect">
            <a:avLst/>
          </a:prstGeom>
          <a:ln w="0">
            <a:noFill/>
          </a:ln>
        </p:spPr>
      </p:pic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82F246C-7DF4-4F78-891A-23B8CFD46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3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C:\WINDOWS\Desktop\Oh_type\savitch_gif\c14_rev\savitch_c14d01_03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70052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BEF1B9D-E453-4DB3-8BCF-FB4FE952C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4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3" descr="C:\WINDOWS\Desktop\Oh_type\savitch_gif\c14_rev\savitch_c14d01_04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51280"/>
          </a:xfrm>
          <a:prstGeom prst="rect">
            <a:avLst/>
          </a:prstGeom>
          <a:ln w="0">
            <a:noFill/>
          </a:ln>
        </p:spPr>
      </p:pic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4A3093C-C5BD-42C8-83DF-F5D98E449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5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C:\WINDOWS\Desktop\Oh_type\savitch_gif\c14_rev\savitch_c14d01_05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4344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2E4E776-48F6-4AAC-9821-82E394625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6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3" descr="C:\WINDOWS\Desktop\Oh_type\savitch_gif\c14_rev\savitch_c14d01_06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6108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3348C92-BCDD-45E2-B221-71CBCB2F3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with version 5.0, Java allows class and method definitions that include parameters for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definition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programming with a type parameter enables code to be written that applies to any clas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C8537492-C73E-4B66-B7EC-637D3037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7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C:\WINDOWS\Desktop\Oh_type\savitch_gif\c14_rev\savitch_c14d01_07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462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F8CA4BA-AE3F-4E74-B0C6-0F824D8EA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8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3" descr="C:\WINDOWS\Desktop\Oh_type\savitch_gif\c14_rev\savitch_c14d01_08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36716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400AD32-5A4D-4A89-BCA6-25E11EFB6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9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3" descr="C:\WINDOWS\Desktop\Oh_type\savitch_gif\c14_rev\savitch_c14d01_09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C9E2454F-1789-4E6A-9133-70409D4D2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0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3" descr="C:\WINDOWS\Desktop\Oh_type\savitch_gif\c14_rev\savitch_c14d01_10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2896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08F8489-37D2-48DC-BC62-AB23A7CFA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3" descr="C:\WINDOWS\Desktop\Oh_type\savitch_gif\c14_rev\savitch_c14d01_11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747880"/>
          </a:xfrm>
          <a:prstGeom prst="rect">
            <a:avLst/>
          </a:prstGeom>
          <a:ln w="0">
            <a:noFill/>
          </a:ln>
        </p:spPr>
      </p:pic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5C277C4-73BA-498B-9AB7-45454C8D6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Some Parameter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ase_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looking at the methods availabl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there appears to be some in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some cases, when a parameter is naturally an object of the base type, the parameter type is the bas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n other cases, it is th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beca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mplements a number of interfaces, and inherits methods from various ancesto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terfaces and ancestor classes specify that certain parameters hav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96870F2-1D65-4A32-9A90-A49B360BA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For Each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is an example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ing with version 5.0, Java has added a new kind of for loop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-ea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hanced 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kind of loop has been designed to cycle through all the elements in a collection (like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E042001-7446-426A-8B4D-B23893401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" descr="C:\WINDOWS\Desktop\Oh_type\savitch_gif\c14_rev\savitch_c14d02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46680"/>
          </a:xfrm>
          <a:prstGeom prst="rect">
            <a:avLst/>
          </a:prstGeom>
          <a:ln w="0">
            <a:noFill/>
          </a:ln>
        </p:spPr>
      </p:pic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C461DDA-DDD5-4581-AE2D-8625AABD8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" descr="C:\WINDOWS\Desktop\Oh_type\savitch_gif\c14_rev\savitch_c14d02_2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6243840" cy="4479840"/>
          </a:xfrm>
          <a:prstGeom prst="rect">
            <a:avLst/>
          </a:prstGeom>
          <a:ln w="0">
            <a:noFill/>
          </a:ln>
        </p:spPr>
      </p:pic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01BC4A4-CF9D-4D9A-B510-3E9F263F9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3" descr="C:\WINDOWS\Desktop\Oh_type\savitch_gif\c14_rev\savitch_c14d02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3552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1CD1C25-5773-40DE-88CE-DEBECFF37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class in the standard Java libr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arrays, which have a fixed length once they have been created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that can grow and shrink while your program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s the same purpose as an array, except that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change length while the program is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1A565EC-9AEF-44B9-A43C-4193CE39E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1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C:\WINDOWS\Desktop\Oh_type\savitch_gif\c14_rev\savitch_c14d03_1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94240"/>
          </a:xfrm>
          <a:prstGeom prst="rect">
            <a:avLst/>
          </a:prstGeom>
          <a:ln w="0">
            <a:noFill/>
          </a:ln>
        </p:spPr>
      </p:pic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294ECDC-AFD9-4D13-94B2-75ED2FDCB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2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3" descr="C:\WINDOWS\Desktop\Oh_type\savitch_gif\c14_rev\savitch_c14d03_2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0D9F5AE-91E3-45CE-A624-F8EFBCBC9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3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C:\WINDOWS\Desktop\Oh_type\savitch_gif\c14_rev\savitch_c14d03_3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1488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A91E129-9664-4821-A043-192F7A6AA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4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3" descr="C:\WINDOWS\Desktop\Oh_type\savitch_gif\c14_rev\savitch_c14d03_4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27240"/>
          </a:xfrm>
          <a:prstGeom prst="rect">
            <a:avLst/>
          </a:prstGeom>
          <a:ln w="0">
            <a:noFill/>
          </a:ln>
        </p:spPr>
      </p:pic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8C2657F-30EE-4E7F-B914-EC952DA39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5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3" descr="C:\WINDOWS\Desktop\Oh_type\savitch_gif\c14_rev\savitch_c14d03_5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01880"/>
          </a:xfrm>
          <a:prstGeom prst="rect">
            <a:avLst/>
          </a:prstGeom>
          <a:ln w="0">
            <a:noFill/>
          </a:ln>
        </p:spPr>
      </p:pic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22E0F98-8537-448E-AC1C-C233EDDE0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6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3" descr="C:\WINDOWS\Desktop\Oh_type\savitch_gif\c14_rev\savitch_c14d03_6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0652660-6977-4466-BA1F-E5807DB11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av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tomatically increases its capacity when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the capacity may increase beyond what a program requ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, although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rows automatically when needed, it does not shrink automa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large amount of excess capacity, an invocat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imToS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shrink the capacity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wn to the size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0072E28-247C-46FA-A513-FF9865970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Makes a Shallow 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deep copy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eeded, using the clone method is not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k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produces a shallow copy, not a deep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make a deep copy, it must be possible to make a deep copy of objects of the bas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 deep copy of each element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created and placed into a ne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A23591C-F834-495F-996A-29364A9AA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ava standard libraries have a class nam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almost exactly the same as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ost situations, either class could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newer, and is becoming the preferr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F6326F6-4864-4329-9612-354188667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ized Classes and Gen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ameteriz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 parameter, denoted b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ase_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at can be replaced by any reference type to obtain a class f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specified bas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with version 5.0, Java allows class definitions with parameters fo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lasses that have type parameter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rameterized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eric defini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, simply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5EB44F7-AEC9-4479-8135-318255246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implemented using an array as a private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hidden array is full, a new larger hidden array is created and the data is transferred to this new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69949DE-8543-4154-BCD6-F4FE4C9A4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parameteriz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 discussed here have a type parameter for the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so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 with no parameter whose base type i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lasses are left over from earlier versions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681B366-C453-47C5-82C7-F86334FEE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nd methods can have a type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parameter can have any reference type (i.e., any class type) plugged in for the typ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specific type is plugged in, this produces a specific class type or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ly, a single uppercase letter is used for a type parameter, but any non-keyword identifier may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3A1DF46-FEFE-42EF-B080-A993DAD19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finition with a type parameter is stored in a file and compiled just like any oth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 parameterized class is compiled, it can be used like any oth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class type plugged in for the type parameter must be specified before it can be used in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this is said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stanti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generic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ple&lt;String&gt; object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 Sample&lt;String&gt;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00A3F79-1D51-4504-8564-97E6F88B3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Definition with a Type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C:\WINDOWS\Desktop\Oh_type\savitch_gif\c14_rev\savitch_c14d0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3052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AB2BFC4-174C-4599-981B-6A3309EF6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Definition with a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hat is defined with a parameter for a type is called a generic class or a parameteriz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is included in angular brackets after the class name in the class definition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non-keyword identifier can be used for the type parameter, but by convention, the parameter starts with an uppercase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can be used like other types used in the definition of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C71160A-21A6-4571-ABED-7DFDFEAC3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mpile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Xl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pitfalls that can be encountered when using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ing with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-Xl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 will provide more informative diagnostics of any problems or potential problems in th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c –Xlint Sample.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AC6223D-6297-4E06-AEFF-E8C0AD77C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3" descr="C:\WINDOWS\Desktop\Oh_type\savitch_gif\c14_rev\savitch_c14d05_1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95880"/>
          </a:xfrm>
          <a:prstGeom prst="rect">
            <a:avLst/>
          </a:prstGeom>
          <a:ln w="0">
            <a:noFill/>
          </a:ln>
        </p:spPr>
      </p:pic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9A0C4A6-65B9-4454-93E4-C60A5C15D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3" descr="C:\WINDOWS\Desktop\Oh_type\savitch_gif\c14_rev\savitch_c14d05_2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5000760" cy="3495600"/>
          </a:xfrm>
          <a:prstGeom prst="rect">
            <a:avLst/>
          </a:prstGeom>
          <a:ln w="0">
            <a:noFill/>
          </a:ln>
        </p:spPr>
      </p:pic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FB292C0-CAEB-4D2C-AFDE-AAD32E06B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3" descr="C:\WINDOWS\Desktop\Oh_type\savitch_gif\c14_rev\savitch_c14d05_3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60640"/>
          </a:xfrm>
          <a:prstGeom prst="rect">
            <a:avLst/>
          </a:prstGeom>
          <a:ln w="0">
            <a:noFill/>
          </a:ln>
        </p:spPr>
      </p:pic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3E60F70-2A3F-4025-B080-566AEA9D8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3" descr="C:\WINDOWS\Desktop\Oh_type\savitch_gif\c14_rev\savitch_c14d05_4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699000"/>
          </a:xfrm>
          <a:prstGeom prst="rect">
            <a:avLst/>
          </a:prstGeom>
          <a:ln w="0">
            <a:noFill/>
          </a:ln>
        </p:spPr>
      </p:pic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D1C68DB-6F96-4556-84E0-39F43FD0D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not always use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 of an arr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ess efficient than a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have the convenient square bracket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e type of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a class type (or other reference type):  it cannot be a primitiv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ast point is less of a problem now that Java provides automatic boxing and unboxing of prim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82BDE62-F5F2-45DA-99A1-A8F2F16F5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3" descr="C:\WINDOWS\Desktop\Oh_type\savitch_gif\c14_rev\savitch_c14d06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076640"/>
          </a:xfrm>
          <a:prstGeom prst="rect">
            <a:avLst/>
          </a:prstGeom>
          <a:ln w="0">
            <a:noFill/>
          </a:ln>
        </p:spPr>
      </p:pic>
      <p:sp>
        <p:nvSpPr>
          <p:cNvPr id="7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40063D7-C5DD-4D73-86AE-D563757FB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" descr="savitch_c14d06_2of3.gif                                        0004F375backup                         BE98102B:"/>
          <p:cNvPicPr/>
          <p:nvPr/>
        </p:nvPicPr>
        <p:blipFill>
          <a:blip r:embed="rId1"/>
          <a:stretch/>
        </p:blipFill>
        <p:spPr>
          <a:xfrm>
            <a:off x="838080" y="1600200"/>
            <a:ext cx="7790040" cy="389088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B1C0CB6-B198-48E8-8EAD-022903976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" descr="C:\WINDOWS\Desktop\Oh_type\savitch_gif\c14_rev\savitch_c14d06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79252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1D281B4-3A5D-444E-B2FA-998EBDC48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Generic Constructor Name Has No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hough the class name in a parameterized class definition has a type parameter attached, the type parameter is not used in the heading of the constructor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Pair&lt;T&gt;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structor can use the type parameter as the type for a parameter of the constructor, but in this case, the angular brackets are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Pair(T first, T seco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when a generic class is instantiated, the angular brackets ar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ir&lt;String&gt; pair =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Pair&lt;STring&gt;("Happy", "Day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96485FA-D6E5-4BB7-A873-9A6177678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Primitive Type Cannot be Plugged in for a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plugged in for a type parameter must always be a referenc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not be a primitive type 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now that Java has automatic boxing, this is not a big re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reference types can include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26FFFC6-A8A8-4A9B-8EBF-20B0547AF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Type Parameter Cannot Be Used Everywhere a Type Name Can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the definition of a parameterized class definition, there are places where an ordinary class name would be allowed, but a type parameter is not all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the type parameter cannot be used in simple expressions using new to create a new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the type parameter cannot be used as a constructor name or like a construct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 object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 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[] a =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new T[1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1A8846E-FE17-4771-A456-236E6B05B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Instantiation of a Generic Class Cannot be an Array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s such as the following are illeg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ir&lt;String&gt;[] a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ew Pair&lt;String&gt;[10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is is a reasonable thing to want to do, it is not allowed given the way that Java implements generic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35FE18F-D0BF-4FEA-890A-83A3EF273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3" descr="C:\WINDOWS\Desktop\Oh_type\savitch_gif\c14_rev\savitch_c14d07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51360"/>
          </a:xfrm>
          <a:prstGeom prst="rect">
            <a:avLst/>
          </a:prstGeom>
          <a:ln w="0">
            <a:noFill/>
          </a:ln>
        </p:spPr>
      </p:pic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DF3FE66-DE25-472C-924B-4ACC99EF6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3" descr="C:\WINDOWS\Desktop\Oh_type\savitch_gif\c14_rev\savitch_c14d07_2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46600"/>
          </a:xfrm>
          <a:prstGeom prst="rect">
            <a:avLst/>
          </a:prstGeom>
          <a:ln w="0">
            <a:noFill/>
          </a:ln>
        </p:spPr>
      </p:pic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802962F-319F-4112-AB5C-4310E981A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3" descr="C:\WINDOWS\Desktop\Oh_type\savitch_gif\c14_rev\savitch_c14d07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16686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AD21CD7-5806-4F4A-9DE5-AF314BB85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make use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it must first be imported from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reated and named in the same way as object of any class, except that you specify the base type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&lt;BaseType&gt; aList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 ArrayList&lt;BaseType&gt;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9F402C2-C3BA-43A5-9A8B-E888B6FEB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Class Definition Can Have More Than One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eneric class definition can have any number of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ype parameters are listed in angular brackets just as in the single type parameter case, but are separated by com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E1F405F-3768-4AE7-8E27-FAF095E67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Picture 3" descr="C:\WINDOWS\Desktop\Oh_type\savitch_gif\c14_rev\savitch_c14d08_1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119480"/>
          </a:xfrm>
          <a:prstGeom prst="rect">
            <a:avLst/>
          </a:prstGeom>
          <a:ln w="0">
            <a:noFill/>
          </a:ln>
        </p:spPr>
      </p:pic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594FB75-844B-449C-9BBD-880F609B9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Picture 3" descr="C:\WINDOWS\Desktop\Oh_type\savitch_gif\c14_rev\savitch_c14d08_2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5558040" cy="3554280"/>
          </a:xfrm>
          <a:prstGeom prst="rect">
            <a:avLst/>
          </a:prstGeom>
          <a:ln w="0">
            <a:noFill/>
          </a:ln>
        </p:spPr>
      </p:pic>
      <p:sp>
        <p:nvSpPr>
          <p:cNvPr id="7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60BCADF-9DF4-4228-8604-F700FF551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Picture 3" descr="C:\WINDOWS\Desktop\Oh_type\savitch_gif\c14_rev\savitch_c14d08_3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1788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B13CAEB-BB74-4490-B438-DB1CFD954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Picture 3" descr="C:\WINDOWS\Desktop\Oh_type\savitch_gif\c14_rev\savitch_c14d08_4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89440"/>
          </a:xfrm>
          <a:prstGeom prst="rect">
            <a:avLst/>
          </a:prstGeom>
          <a:ln w="0">
            <a:noFill/>
          </a:ln>
        </p:spPr>
      </p:pic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B779CB2-37B4-4C66-86AE-181662A90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Generic Class Cannot Be an Exceptio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permitted to create a generic class with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any descendent class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neric class cannot be created whose objects are throw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class GEx&lt;T&gt; extends 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example will generate a compiler error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EAC369B-D564-4F22-9744-D1C0392EE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a Generic Class with Two Type Parameters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3" descr="C:\WINDOWS\Desktop\Oh_type\savitch_gif\c14_rev\savitch_c14d09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94240"/>
          </a:xfrm>
          <a:prstGeom prst="rect">
            <a:avLst/>
          </a:prstGeom>
          <a:ln w="0">
            <a:noFill/>
          </a:ln>
        </p:spPr>
      </p:pic>
      <p:sp>
        <p:nvSpPr>
          <p:cNvPr id="7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890A67A-3066-460F-BDED-939453A46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a Generic Class with Two Type Parameters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Picture 3" descr="C:\WINDOWS\Desktop\Oh_type\savitch_gif\c14_rev\savitch_c14d09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56000"/>
          </a:xfrm>
          <a:prstGeom prst="rect">
            <a:avLst/>
          </a:prstGeom>
          <a:ln w="0">
            <a:noFill/>
          </a:ln>
        </p:spPr>
      </p:pic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D8BB691-F189-432E-8646-6022DE508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nds for Type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makes sense to restrict the possible types that can be plugged in for a typ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to ensure that only classes that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are plugged in 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fine a clas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RClass&lt;T extends Compar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tends Compar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s a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the typ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ttempt to plug in a type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ich does not implemen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face will result in a compiler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48C3AEC-5818-4A23-ABBB-22D6D6E6C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nds for Type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und on a type may be a class name (rather than an interface 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only descendent classes of the bounding class may be plugged in for the typ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ExClass&lt;T extends Class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unds expression may contain multiple interfaces and up to on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more than one type parameter, the syntax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Two&lt;T1 extends Class1, T2 extends Class2 &amp; Comparab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C04CE1B-366D-446F-A1A3-AE61AB27E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itial capacity can be specified when creating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llowing code creates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stores objects of the bas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an initial capacity of 20 i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&lt;String&gt; list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ArrayList&lt;String&gt;(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ying an initial capacity does not limit the size to which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eventually g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e base type of an ArrayList is specified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8567D84-190F-4DCD-9551-96447EEEB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ounded Type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3" descr="C:\WINDOWS\Desktop\Oh_type\savitch_gif\c14_rev\savitch_c14d10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192560"/>
          </a:xfrm>
          <a:prstGeom prst="rect">
            <a:avLst/>
          </a:prstGeom>
          <a:ln w="0">
            <a:noFill/>
          </a:ln>
        </p:spPr>
      </p:pic>
      <p:sp>
        <p:nvSpPr>
          <p:cNvPr id="7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736311E-A7D6-406C-97FA-AEB38900E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Generic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rface can have one or more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tails and notation are the same as they are for classes with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2B220CC-508A-4A1B-B127-C4EE8DE52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generic class is defined, the type parameter can be used in the definitions of the methods for that generic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 generic method can be defined that has its own type parameter that is not the type parameter of any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neric method can be a member of an ordinary class or a member of a generic class that has some other typ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of a generic method is local to that method, not to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8BD9CFA-E8F4-4BF4-B07E-92D46AE24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parameter must be placed (in angular brackets) after all the modifiers, and before the returne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static &lt;T&gt; T genMethod(T[]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one of these generic methods is invoked, the method name is prefaced with the type to be plugged in, enclosed in angular br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 = NonG.&lt;String&gt;genMethod(c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9C7FD28-6867-4F3A-B05A-4CC20A852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with Generic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neric class can be defined as a derived class of an ordinary class or of another generic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n ordinary classes, an object of the subclass type would also be of the super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wo classes: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given 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generic class, there is no relationship betwe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&lt;A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&lt;B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rue regardless of the relationship betwe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.g., i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subclass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441ACEB-CDAF-4212-800F-787F6A25D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rived Generic Class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4" descr="C:\WINDOWS\Desktop\Oh_type\savitch_gif\c14_rev\savitch_c14d11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22600"/>
          </a:xfrm>
          <a:prstGeom prst="rect">
            <a:avLst/>
          </a:prstGeom>
          <a:ln w="0">
            <a:noFill/>
          </a:ln>
        </p:spPr>
      </p:pic>
      <p:sp>
        <p:nvSpPr>
          <p:cNvPr id="8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92C354A-3C42-41C9-9DE9-8A9746EA7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rived Generic Class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C:\WINDOWS\Desktop\Oh_type\savitch_gif\c14_rev\savitch_c14d11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41680"/>
          </a:xfrm>
          <a:prstGeom prst="rect">
            <a:avLst/>
          </a:prstGeom>
          <a:ln w="0">
            <a:noFill/>
          </a:ln>
        </p:spPr>
      </p:pic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0C3812B-84CE-41D7-BB04-89034E806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UnorderedPair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3" descr="C:\WINDOWS\Desktop\Oh_type\savitch_gif\c14_rev\savitch_c14d12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401920"/>
          </a:xfrm>
          <a:prstGeom prst="rect">
            <a:avLst/>
          </a:prstGeom>
          <a:ln w="0">
            <a:noFill/>
          </a:ln>
        </p:spPr>
      </p:pic>
      <p:sp>
        <p:nvSpPr>
          <p:cNvPr id="8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435DDED-EB34-4AA4-9912-C332B764F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UnorderedPair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3" descr="C:\WINDOWS\Desktop\Oh_type\savitch_gif\c14_rev\savitch_c14d12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9416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9E29FB3-5019-42AA-BB07-7B70339E6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used to set an element for the first time in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ist.add("something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nam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verloa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lso a two argument version that allows an item to be added at any currently used index position or at the first unused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0B6603E-90AD-4D10-AF32-05489F414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find out how many indices already have elements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 howMany = list.siz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replace any existing element,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access the value of any existing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ist.set(index, "something else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thing = list.get(inde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91C30DD-825F-4986-A2E1-E079884B1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45Z</dcterms:modified>
  <cp:revision>13</cp:revision>
  <dc:subject/>
  <dc:title>Slide 1</dc:title>
</cp:coreProperties>
</file>