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ftr" idx="4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 type="sldNum" idx="4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2A57-7003-48B2-BE61-82575F051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0FCB-4824-4EEF-BE87-BCD96F1B4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ABE5-1F8E-43E6-B926-B7112C9F9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4537-A2F8-4405-9BA8-42A378D77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707B-27B5-4FA1-B80F-F9BCCB1D1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EA4A-9D22-46EC-B775-024E334AD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8100-AD4B-4906-878E-54F8C884C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88C5-A6EB-467E-8D0C-ED755E7A6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A113-89EA-43CB-8868-15991F1E9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6E03-1292-49CC-906A-3944E3B69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F185-4B63-4812-B539-B45E71442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4A68-A48B-401B-A718-285B686D3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40A1-24CE-4D9A-9E47-993273C8E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16E7-A2B8-41A8-9676-400DB429D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AF8E-4EED-47D1-9861-DFAC26CC8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59ED-2899-4760-9CE9-BC1ADC668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B15D-AAE6-47B6-9D80-BACA2FCB2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F624-85CD-4766-ADB2-CC512F294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C301-0D3A-49A5-BEEC-125FB1D82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053A-C8FB-4F20-9AF9-D7E3A84E7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13A2-5BEC-4AFF-A880-6497C0F07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3D50-F981-4130-B1AD-2FF5FB4BF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D1B9-30D4-4EAB-B002-CDBCF60B2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93C4-ED30-49A2-B660-FFED05B58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0C49-3009-4A21-A60C-3FC65EEAE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F456-FC29-43A0-A42C-A8774B5F3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F5F5-739B-44ED-974D-68E70A252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9E5F-DD41-4CC9-A363-02735A556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0050-C826-493F-AA4B-1825EE8FD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0444-5587-475B-BCFF-909B57C36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F757-3BD2-4B1E-9707-9B3191ED1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64E7-03B6-4012-A60E-55B84FF71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F868-C351-47BA-8C21-2C4B680B6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EB0E-7A5C-4B88-A439-BA157EECE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4371-57C1-4357-AB7E-5BA75291D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3691-1FF8-4DF0-A854-7CCF8C955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0945-BFE8-45CF-A908-BEB3C9751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0893-6D83-4ABF-A225-46522D769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A6E6-B288-4CE6-AA34-23F92F92F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D730-E982-4BAF-B532-6195B105F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FB3E-789D-492E-A39D-02B7584F0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8FA6-C82C-4BB5-9F6A-8927782A2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F103-D0B9-4CD3-B590-57BBDDCF9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DFE2-76E7-48CB-B01E-C4C1561D3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77FC-62DB-4DE5-AB2F-43F66BF86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2BE7-EBB5-4B63-8EB3-8E6485421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BEBA-B989-41B9-ADFD-C80AD8544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6FFE-D243-4B8E-8635-037F635D0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D496-DD2E-40C8-ADFE-8A9421E6C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45DA-1074-4912-864D-47FE522D3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222E-1448-4FA7-B2CD-D8031551B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7DFB-AA0C-4606-A67D-268823A91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775E-D7CE-4768-BBBB-80574874C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307E-A621-4B29-8A8F-6BA2D0EF0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6C43-909C-4FFB-9B55-A337396E0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6E94-1D96-456F-B3F5-BA9094D52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2091-229D-4C1C-B008-B4950F654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423-5102-41DB-84CA-32B3B5C4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ADA-6C3D-4823-AD5F-F62DCF01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9261C-795B-4E48-9EAF-8E7B9041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F6384-1044-4C3E-AABB-1D08977B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E2C70-BB87-43D6-97CE-97CA9FB7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E0E4E-5A4D-4348-BA54-EACEA46E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54E9C-0021-46FE-B725-8566A0F2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951E1-6880-450F-9288-F9081153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3BD26-2FFA-4426-B52D-39DCB575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B16DB-3509-40FA-8964-61241BBD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D0489-FC84-4083-9441-B8E22782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1D88C-9D25-48AC-8D7E-65AFB4B6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DC94-E8CA-4E44-8E87-2FF90F28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0A41F-A605-430B-9BBA-49582933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0D674-83B4-4B58-9221-4E40DB7F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02A4A-3B56-4889-AD85-F81A2997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A1008-6BE0-4009-9E99-EC28565F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D7CDE-5F3E-499E-9C5E-A525C6BA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98BE9-8D86-4F86-97DA-1C70E42F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BC071-5140-4B30-8941-284C45C1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37298-771E-40BF-951C-75ED1387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03FFC-5523-4A08-BD66-C997E8AA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20C3A-4B17-4E83-97AA-2B1AC6A7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105-41DE-4FB8-B101-45D420FA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B6649-924B-4F69-A2CD-6743EEF6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A5C1E-525F-4CCF-BBA6-D50BB6EB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A29EC-1092-44DB-AA83-7132B697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E380F-9328-46E6-BA3E-329609CA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C4491-CEB1-4E4A-8DB9-D9BD9282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2FD67-1EAE-491C-9629-FC5F9436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69FAD-E5D5-48C4-91B1-5F063EBE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B0E22-191E-4ABE-ACB2-F517F4F5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3FFC8-97A1-4099-9B8B-40DDF596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8595D-A431-4292-8A1E-27987269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1EE9-F4BD-4382-A819-9F7B05A2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C8EFF-7E9E-4148-B465-F4A9FC83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1D5A7-46AE-4A94-8988-3A323F46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DED4B-EAC6-47D8-AA57-ADF3D9EC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E33D9-A1CA-4D39-836C-37FBCDA0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5734A-A0B1-47E0-9BA9-EC78FBF8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E8CAA-41D6-4B55-A134-AB86C07F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E4332-C628-4ECE-A3F4-F4C9496F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B7C12-0C50-4C72-9876-1030E641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2EEA5-2FF5-4009-933C-8D78ED3E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33D0C-74C8-4D97-971C-3BDAA076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3DA8-1586-47AC-829E-C2B38BF4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4A07D-9FB5-4111-A648-589048D0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F1B14-8FFE-4E0E-90F4-A8AA2E63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40B45-5999-420F-A136-B81BC3DF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39CA7-D0DF-43FB-940C-ACC16215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E4CAE-BB17-4786-89C8-35B4C5B7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56E6EF-03DC-4EDE-91A0-87555185C38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D02ACC-1A68-4BC2-AB27-C7C30F4B617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C1CEDB-4E67-4C57-9EC2-FBEE1DF4A82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9DA099-054D-4189-B7F7-C3218DEDDE7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2AED85-2597-49D2-930E-2B2DC0DAFA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C789-D167-4BAD-83A6-DAA93A62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0D70E2-02AA-4BFC-8409-031D01D08C3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6F408C-D3D5-4706-ABE1-8AD648BB9C9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54BA83-8591-4F9F-83B4-E664FE4A84B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B397A6-4408-4B21-92A0-C629607D2A0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F62373-0558-4BF9-869F-0DA91500473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EB4F47-54E0-40CA-BC61-F8CA0A74958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ADDAE6-284D-4CB5-8071-391601E210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9164-6958-47AB-82E1-661CC6D9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75C5-FE10-4BCB-9CB9-6D50FC3B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5857-0EE3-452F-919F-ABEE003E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ABDC-CBDF-4397-ABCF-F5D412E1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F0BC-9437-49E2-ADDD-8FF96A55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3DB1-4644-4140-8CA9-866C7BB6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CA4E-9F04-454C-A8A8-CCA28A54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4B3B-F423-4572-90EA-CC33A720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B5B6-ABC7-4C98-A343-0C8772CF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7BC1-6C55-488E-9AFC-793E84C9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E103E-4FA6-4C1A-A168-7FAFFD79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4A4A5-1DFA-458C-912E-8DFD5F27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AA8B3-E42D-4269-87AA-8BCDE319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33D34-B8F3-436F-9963-D38665B4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EF260-4BA3-4405-AB01-4E95D13E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2FE-1255-4E85-B3F4-C2228046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6173D-79FB-4DF1-998C-77038211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C9F8C-7615-4183-9AB0-C2ED6981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11AAE-52A8-4E28-8623-E37829C7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D8069-7CE0-41F9-AE05-F52627F9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2B63D-7062-48A2-A599-4713774B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F5769-A8B2-4E67-A8C6-BCA47F47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723E1-6D27-47FE-B815-F340C05D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C067E-9D6F-4DDA-BCA3-9863B64C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BD645-7A51-4FE5-8B8F-FA3DE730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4D89B-6997-4895-A9D4-845F95DB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C81-3545-4993-83AB-4C6B082D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09CD7-A483-41A6-96EA-4C428CA5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CD956-4C0C-4E67-B410-6EA0D09F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00E2D-E178-4FC1-AFC7-E6A11649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48180-E813-437D-9906-2936DD84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375BE-D24A-432E-B695-B5BD2B9D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280FD-DD9B-4F7D-84D1-8DD6A622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59C77-CD4E-4BF9-B60B-2F934C0B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D2CD2-8C2F-41D5-9D26-8F51A197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C8888-B6D2-4013-AC70-A68AEB52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8422F-F237-42DF-84FB-8C5446A8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8C9-A668-4118-BC9F-9BF3BDF3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C4963-E0E2-43AF-B7BB-FB2C612D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8C540-0B53-4516-95A8-FAF99A76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A0060-951B-48A3-938F-346D4B6A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789FC-BE6E-43E6-8924-74994223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2C2FE-726F-41D2-838F-72F005CB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78ECF-16A2-49DF-ACF9-9C043891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CF8BB-9029-4DBC-95C7-3793B7AB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64275-97AD-457E-807F-9FA97D13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F506B-CC86-49F9-A054-739D100A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6F3DA-4B1F-450C-B443-ED3DCE66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F58-9E3A-4DB7-BF7A-713B48FE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DCEA4-2E38-4BC8-92EF-4D85306C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5BCFE-3967-48AD-9514-1E289353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AE364-29BB-4059-86A2-C4DCF685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321B5-06C8-4A0B-9CF5-41860F5D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858AF-E49B-4BEE-98A6-6958C3F3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751B4-E4E3-47BA-B950-E61BE443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FA3BD-8198-4ED3-A0F0-77FE7F55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A9348-3769-426D-9A34-F81B19F9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D2583-D664-479F-A6E0-BF9BD650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4FD2A-14D6-44DD-BB7E-394D218C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B21-6B0F-4E9F-9B1C-0FD8D98F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5F34B-9F57-4C5B-99A2-8B9CAE49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D1451-84B7-4987-8C5B-40B6B317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63581-1B3C-4EBF-BDC6-BE804E0F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38A33-C3A5-438F-824A-D9273478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369EB-0711-40AC-A32D-11DFA899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32245-66B1-47DE-841E-F4F989E8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E2ACB-7434-401E-88C3-7217A84C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4B2E8-2A3E-4FDA-8666-1ABC6EA5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AAC80-7F4F-416A-9972-13F317D3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B8D85-E7FF-4F07-BD8E-BA69AE16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991-E19E-4527-9B23-A73BBE57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B5CCC-C409-4ED7-9776-F7246177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34E46-62F6-44C8-BA0C-7C6B41C0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0EB14-60CC-4674-9601-56C0FD5B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6660C-119A-4BE5-9555-C5348CA3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D1767-4F04-4BE4-85CF-0A7F2C87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6CDA3-3AAD-40E6-BA54-3B49A718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883E9-52E5-4924-8A7B-C5C7EEBF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3E29B-1D9F-4B27-AE06-B7D96382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E8B13-B57E-4893-A737-4016D623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D715C-62F0-4323-8A54-0FF8461A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413-C8B8-4C2D-ACFA-2191C959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03086-8B06-4FE1-AF03-07FDC621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F7767-3DC9-4C8D-936D-32929A8A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6F010-E4E6-4E12-BA0F-FA55F403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B50AE-5ACD-485A-95C0-CB7E1D1A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1053F-8ED7-45FE-BB03-51274BCF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C642D-B34A-4095-875E-470BCB68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66A30-BD1E-4765-B298-E059EA00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E05CF-5B0A-4128-9E97-B9916A3C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355C1-F6DA-4888-825B-8F88B07A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70664-4E28-429A-820A-8AB8864D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6159-478C-4404-8843-E74B8108127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AB0C106-A953-4613-A17F-54499C806E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3409-6742-4CE7-8FD7-7E75AD07D2D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956D2F2A-4978-46D6-9D28-A619535039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9EAC-A659-4CD8-894F-73583FB651F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097836E1-5BB1-4F20-9DC2-B9622E0D5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BFC1-4C90-463D-A5C7-86CCCCEFBAC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0621AAAE-C251-4FD5-A2D1-08ACADB18E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37"/>
          </p:nvPr>
        </p:nvSpPr>
        <p:spPr>
          <a:xfrm>
            <a:off x="91404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E2F467DA-B2BF-4479-8586-99D625A706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876F-51B9-4731-968C-B67BF6643CA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27F72635-A880-4AAB-9A2D-C7E4C4BBB8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AEE3-0B58-4370-A087-E80AAD909F1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1134A188-4D84-40C8-96EC-82B6B31388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75D0-A4DD-44CE-8F00-20417EEBC47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33EFA2E7-6DE5-411D-822E-1D526F7996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0F42-A0EF-4A87-B991-81439C767CF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5E7E6174-E286-4CA9-984A-8E22B5EAB7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8116-C22E-4FCF-AB62-6A6F596DD33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864E4E28-A20B-4C04-9BBE-768C982C8E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2DBA-8205-47D4-96E3-2E4D98660F2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02EF7B7A-C7F6-49EA-84A6-FBFC840B79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B004-4F65-4B47-9BDB-121A026411B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9F7545B9-C99B-4DAA-807E-8CC6FE3923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23E0-C62D-423D-A566-C448E8A7455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18F0B96A-16D0-4D16-A599-63CC2D5662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xception Hand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55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ry-throw-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ch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lock is executed, two things can happ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No exception is thrown in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de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s executed to the end of the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s skip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xecution continues with the code placed after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D76237A8-23A0-40E0-B8D2-72A261307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ry-throw-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ch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An exception is thrown in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 and caught in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t of the code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s skip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is transferred to a follow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(in simple cas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hrown object is plugged in for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de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s 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de that follows tha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s executed (if a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D0E1F840-D3A6-4284-82F2-805DAF0F1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ption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more exception classes than just the singl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more exception classes in the standard Java libr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exception classes can be defined like any other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predefined exception classes have the following proper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is a constructor that takes a single argument of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lass has an accessor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Messa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can recover the string given as an argument to the constructor when the exception object was cre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programmer-defined classes should have the same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B57514E4-379D-462E-B25E-8AB855C7F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ption Classes from Standard Pack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erous predefined exception classes are included in the standard packages that come with 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OExce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oSuchMethodExce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ileNotFoundExce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exception classes must be imported in order to use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port java.io.IOExcep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4C931FED-0D5D-49AA-BCA3-60047D16A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ption Classes from Standard Pack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edefined exception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root class for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exception class is a descendent class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hough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can be used directly in a class or program, it is most often used to define a derived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ava.la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ckage, and so requires n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mp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848A7FB5-CBE0-41E4-8427-274AA5475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 // method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ow new Exception(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StringArgument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(Exception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 message = e.getMessag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messag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  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8DB107B8-5F50-4E2A-84A4-EAB3F704A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exception has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stance variable that contains some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string typically identifies the reason for the 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previous example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Argu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argument to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stru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the string used for the value of the  string instance variable of exceptio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the method call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.getMessage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turns this 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BE4C6CF1-EBB8-4272-BFC0-FB3952B60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ng Exception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can throw an exception object of any exception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 of using a predefined class,  exception classes can be programmer-def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can be tailored to carry the precise kinds of information needed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different type of exception can be defined to identify each different exceptional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556CDC73-B336-44A3-B11E-F0A0CDE2A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ng Exception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exception class to be defined must be a derived class of some already defined exception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can be a derived class of any exception class in the standard Java libraries, or of any programmer defined exception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ructors are the most important members to  define in an exception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must behave appropriately with respect to the variables and methods inherited from the base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, there are no other members, except those inherited from the base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exception class performs these basic tasks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8FEF7B6F-4B58-4353-B1B9-C280D07C0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grammer-Defined Exception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4" descr="D9_3"/>
          <p:cNvPicPr/>
          <p:nvPr/>
        </p:nvPicPr>
        <p:blipFill>
          <a:blip r:embed="rId1"/>
          <a:stretch/>
        </p:blipFill>
        <p:spPr>
          <a:xfrm>
            <a:off x="990720" y="1486080"/>
            <a:ext cx="7486560" cy="3390840"/>
          </a:xfrm>
          <a:prstGeom prst="rect">
            <a:avLst/>
          </a:prstGeom>
          <a:ln w="0">
            <a:noFill/>
          </a:ln>
        </p:spPr>
      </p:pic>
      <p:sp>
        <p:nvSpPr>
          <p:cNvPr id="6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29CEAC3B-2D2A-474F-AFFA-CAC15FBB9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Exception Hand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the best outcome can be when nothing unusual happ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the case where exceptional things happen must also be prepar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exception handling facilities are used when the invocation of a method may cause something exceptional to occ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314E9D4E-B5F0-4AE7-AFF3-46AB86CA4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An Exception Class Can Carry a Message of Any Type:  int Mes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48044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xception class constructor can be defined that takes an argument of another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ould stores its value in an instance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ould need to define accessor methods for this instance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50977616-01D6-4FB4-8E83-D72B5113D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Footer Placeholder 6"/>
          <p:cNvSpPr/>
          <p:nvPr/>
        </p:nvSpPr>
        <p:spPr>
          <a:xfrm>
            <a:off x="91440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ception Class with a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ssa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Picture 12" descr="savitch_c09d05"/>
          <p:cNvPicPr/>
          <p:nvPr/>
        </p:nvPicPr>
        <p:blipFill>
          <a:blip r:embed="rId1"/>
          <a:srcRect l="0" t="1719" r="0" b="1719"/>
          <a:stretch/>
        </p:blipFill>
        <p:spPr>
          <a:xfrm>
            <a:off x="880920" y="1382760"/>
            <a:ext cx="6691320" cy="4917960"/>
          </a:xfrm>
          <a:prstGeom prst="rect">
            <a:avLst/>
          </a:prstGeom>
          <a:ln w="0">
            <a:noFill/>
          </a:ln>
        </p:spPr>
      </p:pic>
      <p:sp>
        <p:nvSpPr>
          <p:cNvPr id="6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967F21BC-981E-4765-BE6F-A2231DD6F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ption Object Character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wo most important things about an exception object are its type (i.e., exception class) and the message it car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ssage is sent along with the exception object as an instance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essage can be recovered with the accessor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Mess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o that the catch block can use the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5E2D848C-E28F-4769-9C11-F61B30B3C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mer-Defined Exception Class 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ion classes may be programmer-defined, but every such class must be a derived class of an already existing exception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used as the base class, unless another exception class would be more sui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least two constructors should be defined, sometimes m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xception class should allow for the fact that 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Mess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inher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7D1A249D-F62E-46EA-A784-FA33FBD24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rv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ll predefined exception classes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Mess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turns the string that is passed to its constructor as an argu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it will return a default string if no argument is used with the constru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behavior must be preserved in all programmer-defined exception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nstructor must be included having a string parameter whose body begins with a call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u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ll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use the parameter as its arg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o-argument constructor must also be included whose body begins with a call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call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use a default string as its arg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560A8124-2DB8-43E2-BBCA-32D4AE862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 can potentially throw any number of exception values, and they can be of differing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ny one execution of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, at most one exception can be thrown (since a throw statement ends the execution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different types of exception values can be thrown on different executions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6FA96655-B0C5-4D5D-A7BD-4317279DC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 can only catch values of the exception class type given in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 head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types of exceptions can be caught by placing more than on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 after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number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can be included, but they must be placed in the correct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EBEA7A22-0745-41FF-B89A-B5FAD1004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Catch the More Specific Exception Fir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catching multiple exceptions, the order of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locks is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n exception is thrown in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,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s are examined in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one that matches the type of the exception thrown is the one that is execu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53CA0A06-B0D1-4FE6-B86F-B57D6EE9D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Catch the More Specific Exception Fir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 (Exception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. . .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 (NegativeNumberException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. . .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ause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gativeNumberExcep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typ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ll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gativeNumberExcep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ll be caught by the firs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before ever reaching the second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tch block f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gativeNumberExcep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never be use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correct ordering, simply reverse the two bl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17852272-38DF-47CA-B7CC-BD82D8A8E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rowing an Exception in a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times it makes sense to throw an exception in a method, but not catch it in the same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programs that use a method should just end if an exception is thrown, and other programs should do something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such cases, the program using the method should  enclose the method invocation in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, and catch the exception in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that foll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is case, the method itself would not includ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it would have to include a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cla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BB163089-F232-46F6-B49D-5A747EC05B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Exception Hand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library software (or programmer-defined code) provides a mechanism that signals when something unusual happ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rowing an 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nother place in the program, the programmer must provide code that deals with the exceptional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andling the 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8A1B6CDA-D407-422A-8B87-A10A5CEBE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aring Exceptions in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method can throw an exception but does not catch it, it must provide a warn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arning is called a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l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cess of including an exception class in a throws clause i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claring the 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ows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AnException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/throws cla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states that an invocation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Meth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uld throw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n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aMethod() throws AnExce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8FCB81E3-0B83-4E54-81A3-2B1E7CB87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aring Exceptions in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 method can throw more than one type of exception, then separate the exception types by com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void aMethod()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nException, Another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 method throws an exception and does not catch it, then the method invocation ends immedia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03671232-CE7B-4199-9CDB-F945AA8A4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atch or Declare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rdinary exceptions that might be thrown within a method must be accounted for in one of two way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de that can throw an exception is placed with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, and the possible exception is caught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within the same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ossible exception can be declared at the start of the method definition by placing the exception class name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u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E73AFE70-81AD-49D4-B2BD-64A8B431C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atch or Declare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technique handles an exception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econd technique is a way to shift the exception handling responsibility to the method that invoked the exception throwing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voking method must handle the exception, unless it too uses the same technique to "pass the buck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ltimately, every exception that is thrown should eventually be caught by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n some method that does not just declare the exception class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F8F53BD1-3D07-4284-8B0D-C03B01772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atch or Declare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ny one method, both techniques can be mix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exceptions may be caught, and others may be declared in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se techniques must be used consistently with a given 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n exception is not declared, then it must be handled within the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n exception is declared, then the responsibility for handling it is shifted to some other calling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if a method definition encloses an invocation of a second method, and the second method can throw an exception and does not catch it, then the first method must catch or declare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0C331459-FB4D-466D-A441-6AF716910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ed and Unchecked Exce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ions that are subject to the catch or declare rule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hecked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mpiler checks to see if they are accounted for with either a catch block or a throws cla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lasse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owab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all descendants of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checked exce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ther exceptions ar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check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all its descendant classe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rror clas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ror classes ar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ubject to the Catch or Declare R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CCA70B35-6E6A-4893-9DD7-6D81E06B3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ptions to the Catch or Declare R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ed exceptions must follow the Catch or Declare R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s in which these exceptions can be thrown will not compile until they are handled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checked exceptions are exempt from the Catch or Declare R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s in which these exceptions are thrown simply need to be corrected, as they result from some sort of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FAE044DB-51D0-4B8B-9286-A57617F5D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rarchy of Throwabl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5" descr="D9_10"/>
          <p:cNvPicPr/>
          <p:nvPr/>
        </p:nvPicPr>
        <p:blipFill>
          <a:blip r:embed="rId1"/>
          <a:stretch/>
        </p:blipFill>
        <p:spPr>
          <a:xfrm>
            <a:off x="990720" y="914400"/>
            <a:ext cx="7653240" cy="5487840"/>
          </a:xfrm>
          <a:prstGeom prst="rect">
            <a:avLst/>
          </a:prstGeom>
          <a:ln w="0">
            <a:noFill/>
          </a:ln>
        </p:spPr>
      </p:pic>
      <p:sp>
        <p:nvSpPr>
          <p:cNvPr id="7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93B95095-8C44-4DDF-B5E1-343FE599F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use in Derived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a method in a derived class is overridden, it should have the same exception classes listed in its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use that it had in the bas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it should have a subset of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rived class may not add any exceptions to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it can delete s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7985BAA7-E541-486B-B644-C18F2F46B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If an Exception is Never Caugh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 every method up to and including the main method simply includes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use for an exception, that exception may be thrown but never cau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 GUI program (i.e., a program with a windowing interface), nothing happens - but the user may be left in an unexplained situation, and the program may be no longer be reli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non-GUI programs, this causes the program to terminate with an error message giving the name of the exception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well-written program should eventually catch every exception by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n some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FA91B322-35F7-4D31-B9A1-4A84DD2F5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ry-throw-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ch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way of handling exceptions in Java consists of th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try-throw-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contains the code for the basic 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tells what to do when everything goes smooth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called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because it "tries" to execute the case where all go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can also contain code that throws an exception if something unusual happ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odeThatMayThrowAnExce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EE42BBDE-A98A-42B9-8091-88AE3AF38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o Use Exce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ions should be reserved for situations where a method encounter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 unusual or unexpected case that cannot be handled easily in some other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exception handling must be used, here are some basic guideli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s and list the exception classes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use within a method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in a different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B8B9051D-C280-499A-B8CF-532EA18F0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o Use Exce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 is an example of a method from which the exception origina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void someMethod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s Some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 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omeException(SomeArgume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DECDB8A3-7531-41A4-A49B-4AD4C5E08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o Use Exce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omeMetho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used by 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therMetho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therMetho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then deal with the excep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otherMethod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omeMethod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 (SomeException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odeToHandleExce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41DAACDA-B213-4BF4-A893-25FEFF56B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t Driven Program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ion handling is an example of a programming methodology known 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ent-driven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using event-driven programming, objects are defined so that they send events to other objects that handle the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event is an object al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ing an event i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iring an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09B9B4AA-63EE-4151-AF59-8614E7F25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t Driven Program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xception handling, the event objects are the exception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fired (thrown) by an object when the object invokes a method that throws the exce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xception event is sent to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, where it is hand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CCE338E8-5C49-4DF3-A4D3-CDBF1F21A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Neste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ry-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possible to place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and its following catch blocks inside a larg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, or inside a larg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 set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-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s are placed inside a larg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, different names must be used for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ck parameters in the inner and outer blocks, just like any other set of nested bl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 set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-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s are placed inside a larg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, and an exception is thrown in the inn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that is not caught, then the exception is thrown to the out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for processing, and may be caught in one of it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3047B25A-C978-4779-9E31-BA7CA43F4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nal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contains code to be executed whether or not an exception is thrown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it is used,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inal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is placed after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and its follow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 . . . 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(ExceptionClass1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 . . . 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(ExceptionClassN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 . . . 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in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odeToBeExecutedInAllC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EB9EE97B-3C30-4001-AA08-B5E28BA79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-catch-final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are inside a method definition, there are three possibilities when the code is ru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runs to the end, no exception is thrown, and the </a:t>
            </a:r>
            <a:r>
              <a:rPr b="0" lang="en-US" sz="2000" spc="-1" strike="noStrike">
                <a:solidFill>
                  <a:srgbClr val="034ca1"/>
                </a:solidFill>
                <a:latin typeface="Calibri"/>
              </a:rPr>
              <a:t>final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is execu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xception is thrown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, caught in one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s, and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inal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is execu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xception is thrown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, there is no match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in the method,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inal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is executed, and then the method invocation ends and the exception object is thrown to the enclosing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B8D4DDA5-818A-4683-85B6-DB3BB0174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throwing an Ex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lock can contain code that throws an ex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it is useful to catch an exception and then, depending on the string produced by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Mess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or perhaps something else), throw the same or a different exception for handling further up the chain of exception handling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8032257F-ACF7-40D0-9F62-5FD35CFA4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ssertionErro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 a program contains an assertion check, and the assertion check fails, an object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ssertionErr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r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auses the program to end with an error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ssertionErr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derived from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rr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therefore is an unchecked exce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prevent the program from ending, it could be handled, but this is not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CF479AFE-8350-476C-8148-A31A73EAC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ry-throw-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ch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ExceptionClassNam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PossiblySomeArguments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n exception is thrown, the execution of the surround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s stop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rmally, the flow of control is transferred to another portion of code known as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lue thrown is the argument to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or, and is always an object of some exception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ecution of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 is calle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rowing an exce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A23DB7BC-731A-496A-AF0A-37AEB3BA2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ption Handling with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ext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o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can be used to rea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alues from the key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f a user enters something other than a well-form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alue,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nputMismatchExcep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ll be thr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less this exception is caught, the program will end with an error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exception is caught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can give code for some alternative action, such as asking the user to reenter the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DE1A156F-F1E1-4A9A-9AAC-80F57C5C3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InputMismatchEx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nputMismatchExcep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in the standard Java packag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va.u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gram that refers to it must use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mp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, such as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port java.util.InputMismatchExcep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 descendent class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RuntimeExce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it is an unchecked exception and does not have to be caught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or declared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catching it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s allowed, and can sometimes be usef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49E5BCCB-BCDC-426E-944C-C67D3165D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:  Exception Controlled Lo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times it is better to simply loop through an action again when an exception is thrown, as follo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 done = fals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hile (! don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odeThatMayThrowAnExce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ne = tru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 (SomeExceptionClass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SomeMore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EFA68B52-C441-4F67-8898-CCE326050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ception Controlled Loo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3" name="Picture 11" descr="savitch_c09d11_1of3"/>
          <p:cNvPicPr/>
          <p:nvPr/>
        </p:nvPicPr>
        <p:blipFill>
          <a:blip r:embed="rId1"/>
          <a:stretch/>
        </p:blipFill>
        <p:spPr>
          <a:xfrm>
            <a:off x="880920" y="1627200"/>
            <a:ext cx="7772400" cy="2847960"/>
          </a:xfrm>
          <a:prstGeom prst="rect">
            <a:avLst/>
          </a:prstGeom>
          <a:ln w="0">
            <a:noFill/>
          </a:ln>
        </p:spPr>
      </p:pic>
      <p:sp>
        <p:nvSpPr>
          <p:cNvPr id="7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406C93F4-D7CC-4829-A804-97D2354A3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ception Controlled Loo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7" name="Picture 3" descr="savitch_c09d11_2of3"/>
          <p:cNvPicPr/>
          <p:nvPr/>
        </p:nvPicPr>
        <p:blipFill>
          <a:blip r:embed="rId1"/>
          <a:srcRect l="0" t="1563" r="0" b="0"/>
          <a:stretch/>
        </p:blipFill>
        <p:spPr>
          <a:xfrm>
            <a:off x="880920" y="1627200"/>
            <a:ext cx="7772400" cy="479916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E5BCEF3D-B0A7-49F8-A398-880A80371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ception Controlled Loo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Picture 3" descr="savitch_c09d11_3of3"/>
          <p:cNvPicPr/>
          <p:nvPr/>
        </p:nvPicPr>
        <p:blipFill>
          <a:blip r:embed="rId1"/>
          <a:stretch/>
        </p:blipFill>
        <p:spPr>
          <a:xfrm>
            <a:off x="880920" y="1627200"/>
            <a:ext cx="7772400" cy="3230640"/>
          </a:xfrm>
          <a:prstGeom prst="rect">
            <a:avLst/>
          </a:prstGeom>
          <a:ln w="0">
            <a:noFill/>
          </a:ln>
        </p:spPr>
      </p:pic>
      <p:sp>
        <p:nvSpPr>
          <p:cNvPr id="7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CD65DF6C-D346-494D-B0F4-15D8224AF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IndexOutOfBoundsExcep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rown whenever a program attempts to use an array index that is out of bou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normally causes the program to 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 all other descendents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RuntimeExcep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t is an unchecked 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is no requirement to handle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is exception is thrown, it is an indication that the program contains an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ead of attempting to handle the exception, the program should simply be fix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50434A00-1DE2-4E07-B927-DACE3D96B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ry-throw-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ch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is similar to a method ca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ExceptionClassNam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SomeString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above example, the object of class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ExceptionClass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created using a string as its arg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object, which is an argument to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erator, is the exception object thr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 of calling a method,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calls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66E264D3-FB83-4141-83FB-6FE791042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ry-throw-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ch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n exception is thrown,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 begins ex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has one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xception object thrown is plugged in for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xecution o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tching the excep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andling the exce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ever an exception is thrown, it should ultimately be handled (or caught) by som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42192161-1AB0-4987-AFEC-02F1F4141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ry-throw-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ch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(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Exception 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ExceptionHandling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looks like a method definition that has a parameter of typ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1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not really a method definition, howe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s a separate piece of code that is executed when a program encounters and executes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in the preced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is often referred to as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xception hand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can have at most one parame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085386A3-6903-4F67-9205-CF539F54F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ry-throw-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ch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(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) { . . .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dentifier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abov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heading is called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parameter does two thing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specifies the type of thrown exception object that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can catch (e.g., 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object abo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provides a name (for the thrown object that is caught) on which it can operate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 The identifier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often used by convention, but any non-keyword identifier can be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F696FBFD-08B3-4924-9EE6-67CFDC105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8:03Z</dcterms:modified>
  <cp:revision>13</cp:revision>
  <dc:subject/>
  <dc:title>Slide 1</dc:title>
</cp:coreProperties>
</file>