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notesSlide5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  <p:sldId id="310" r:id="rId69"/>
    <p:sldId id="311" r:id="rId70"/>
    <p:sldId id="312" r:id="rId71"/>
    <p:sldId id="313" r:id="rId72"/>
    <p:sldId id="314" r:id="rId73"/>
    <p:sldId id="315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slide" Target="slides/slide55.xml"/><Relationship Id="rId70" Type="http://schemas.openxmlformats.org/officeDocument/2006/relationships/slide" Target="slides/slide56.xml"/><Relationship Id="rId71" Type="http://schemas.openxmlformats.org/officeDocument/2006/relationships/slide" Target="slides/slide57.xml"/><Relationship Id="rId72" Type="http://schemas.openxmlformats.org/officeDocument/2006/relationships/slide" Target="slides/slide58.xml"/><Relationship Id="rId73" Type="http://schemas.openxmlformats.org/officeDocument/2006/relationships/slide" Target="slides/slide59.xml"/><Relationship Id="rId74" Type="http://schemas.openxmlformats.org/officeDocument/2006/relationships/slide" Target="slides/slide60.xml"/><Relationship Id="rId7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651D9-295E-49FD-B71F-05A9CAABED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15892-160E-4328-A916-C91621E933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0B173-40DD-4192-9C9A-FCCA0D2CC7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AC817-60B5-485A-9F9B-5E724CB501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748B8-908A-40D6-89C5-53DAA0EF55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43A26-3487-499F-9A45-475590133A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53984-0572-491B-8DCA-969AD126EE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0BDD8-DE4E-463B-A0EA-E91F7AE520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06D2A-6438-46B8-B955-94503EF43A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26C1A-298C-4EC9-A727-FC06668F61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6B16C-7F45-4607-981A-47C1274ED3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0A062-E928-419D-AE0A-0BA43EC6B2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5570A-38E3-4574-A1CD-1C9DF16C9D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D4876-C3CB-43F7-9BDC-B754DD8F80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1B283-7206-4EB8-BAFD-898E2830A2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4B3BF-84A6-4D8B-9EC7-D14FB4C9D8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E4E75-68B6-4601-AED7-6B7D23679C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656AC-E0D0-455D-B27D-2157E5DEF0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3D3EC-98AB-4236-A886-59CB06C817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E7EB9-AFAC-40B2-A879-7B44B3E3CA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F7851-79AB-41E9-9807-993AFFFF75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6E9A1-52B8-4072-8596-B0626DD1E8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F663D-4C46-435E-85F0-EABC948F7E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32A65-E555-4F34-B89D-B57D3026E9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FC579-4F11-4E48-943A-D97B0A3698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36848-1C6E-4FAD-9A46-91138DC4B1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DE776-A42F-4319-A00C-6AD2849D5A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4244B-C205-44B2-8061-B73917E67F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C20DB-9B25-4473-B06E-B7DC4E87CA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7934E-2709-4734-ACAF-872852C396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C6075-26CB-41F5-84D7-1A88082478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6BF11-6E70-4B1E-BAF9-618F58326E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5B736-52CE-475E-92A8-1A5E5B366A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49C6D-9601-4FBF-BEF9-5B09CA5B63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814CE-705E-4107-8DB6-DEE4407D47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1FCD5-E949-4DA8-9CDC-CA101F4D4A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CB5CB-7407-4F34-A7CB-B43D9356B7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0216F-5E89-4B72-BDEB-ABA375C604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91FD2-5CF0-424A-9B0B-FC7A916A9C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DC384-A6B2-47C6-ADD0-CC32673A77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B607C-1320-4819-9227-C8AD25786C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DE737-F256-4057-805F-A0D4EBDD86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7C0A0-BABC-4FA0-9826-74FB86B919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AE420-8542-46AD-8552-2BB2650A22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64A27-E212-4CBD-9270-7615D40045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8D919-5A7E-418F-9339-02DB2C0E2C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EB60B-5F3E-482A-A9C0-A3EA173A24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1780C-2604-4F8E-A99E-9473722B73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F85E3-09C0-40A5-AE01-6C8377056F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C27AC-81BB-4FBB-9A71-27508089B5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5CCAA-D0D4-43F1-B05B-DA5178BACC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039C5-BBCF-4300-8BC5-1DED8BE6EB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A4FD0-4A01-4E84-827B-57360C3647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18693-8DA0-4597-AFCC-92BFC83BB6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BB674-C145-4BA2-AFFB-FB64645E4A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C3E43-D997-4EF8-AB3C-9BC21CAB66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57BD9-F4D7-433C-AC78-A5250A481E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F18AC-4D59-4D8F-B17B-FC60023F43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3B135-1A4F-4424-929F-D8A501B7F2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ECB1A-66D1-4DBD-AEE5-F7EEB73858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16999-CFBB-43D0-8C8C-70E031784D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BAA5-789C-4029-AD77-39E4AA235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FCDF-0B58-4125-B0AA-8F11523CF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1B2B6C-B40E-4322-A629-67C72289B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C1CBB9-88BF-47E5-88B3-5CB360127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7342AD-86B5-493D-B956-7F7207017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C6BA1B-66E8-4A76-B48E-89CFEF2C5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78F4AD-D68E-4B2A-9408-57081804E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DA64C2-CA98-460A-BE47-6EDD9BCBB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92FF51-1ACF-48ED-BC77-0DA6F0452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5EC279-E3D0-42B9-8559-5D393672B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2C5B3C-6CF6-496C-B6FC-4FD58E797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F2F1D0-7763-45A7-990C-6BC9CABA3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BD10-E6D3-4BCE-A157-1A0E610F5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AEB878-0E4F-4E86-A755-89AE7C020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8FC877-0ACD-46A4-ACA6-106D4DA2F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B71DCC-B65D-4F2A-BFBA-E508657C7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269201-D756-4A7C-9D18-ACDB89F8A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E16360-8384-443E-A938-546468EB2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BD5DF5-3EFA-4049-A6D9-3242D8E09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4B946E-9FDE-47E2-8C70-C5E4D02A7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80E702-3D4C-4F72-8C7F-BA2EA7114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643D13-C761-4B7B-AB91-F23A4BBB9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68607C-8ACF-442B-A741-68CBFCBD6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81FF-62EB-4413-B220-9BE5D129C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02FC6E-D62C-44DC-822B-C8B8E341A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6ED816-B949-42F7-873C-FEB3C4B3A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927EBE-DE59-4719-B608-27A8AC35C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B54CF7-2001-4AB5-9A66-5FF9CC74F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86FE24-2D36-4EC9-8BE0-E2F25FF3E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3AFE96-C203-4A1F-8F34-086ADDFDE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A12A9D-19C8-4D48-B988-927F5E4AB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FE5ED6-CE5B-4484-ACD1-7F7300CE4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603CF6-88A7-478B-9370-642102A82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3C62F4-BB1B-4137-A5FE-2923AD4BA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1DA73-ABC7-49B9-8407-2C969F9E1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9D775C-4761-44E2-9B5B-CC882496C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809437-1C5C-4D62-A67B-0336FFC5D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FA8EFB-D1FE-48DA-8B76-93BBE6C9E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7BED15-E9D2-43CF-A582-F7CD497D2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675833-0372-48F0-B14E-9D855063A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254E92-D684-4440-B08D-3F0DE4F6A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425064-6F9C-4793-8647-34CACB0C5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D9E9CF-C301-494C-A172-5D6F5FC42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2C9075-CB4C-40C5-B1C1-3239341B8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ED2F1F-14C0-4146-B764-CBCC3E4E7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70BD8-1A18-41C3-87FC-8C9B77020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5489B7-8579-4DC8-9460-CE248708E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1511E6-D062-4521-AD7A-6F9FE1140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7F45DD-1EDC-48B4-B729-6E4287A27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29B9C9-14C2-40D0-80D6-CACD36BCB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9F72FF-78CF-43BF-A9F2-BE939F913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90D5E-131D-4D1E-A628-1097AF5D7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1A420-CE35-44D1-99AB-C1273CC2F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BC5B2-F8C7-4BC1-9417-1033B4B7B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F6135-BFC7-412C-95AD-00D6FFE43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E2A99-0458-495E-8158-816272AAF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0F3A-3616-4F3B-AEE6-956CD79C1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10D0A-A358-48D6-9E48-C0517763E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39DF3-8A3E-4850-A43D-8492D5A08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2B78E-8398-4DFE-B17F-5746582BF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54D59-496C-45EE-AB7A-0CC173496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1E04B-BAC3-429E-A65C-F6D7A5C26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7E2E9B-EFAA-4B19-A1FB-92E22081B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1AEE9F-119A-48CA-ADD0-4C8041635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A32A01-6934-4123-A6A1-E44340280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EBC65E-22D6-4379-B9B5-BA1D4B0AA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D80535-4045-41B4-95A3-6DA46D346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E11B-D725-4E40-929F-B02BCAF24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86E5EE-FBCC-45D3-B2F6-C6DC09CD7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6782B5-9047-4823-B270-8C917A269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5E22A1-4172-4B22-9C5F-7549AA276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2065D3-626B-4E35-AF1E-73C1CBAF4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C9237D-B5D5-47FB-B573-23372B6A6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8BE09B-F98D-45FA-96C8-0D58F7703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D7A96A-CDFB-4F3F-9D74-56CE721F4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E538C-80E5-482A-AE22-7A0C1716C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1D299-A065-490D-B26F-8AD411FA3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04151-0651-405B-A71F-229A6AEFD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31F8-0533-4669-BB7D-62E5E1324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F7D2D-2320-4C95-9F0B-CFF121B99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E9E75-1F27-4B04-9312-82987CB63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024B8-9944-4E3A-9369-590113CB3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14F91-58D1-4355-9EDA-982AA0842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60873-ABA8-4491-901B-371A4FCEA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96BE47-23BB-4341-98F5-D33AF464C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D1DFD-73E0-46EF-84F6-2E3CE54C1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919F1-863B-4CF8-A722-47BCE56D7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BC218-6921-4BE1-80FC-292C016AC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3C86A4-E4A8-4115-AF11-59958EEF8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2D19-49FC-4BA9-9CFF-15AF1AFCB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799286-D0C8-489E-B582-3BA714201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B78BC4-D0DB-4B02-AC79-A39AE0D87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9547BA-AB15-4775-B7F4-5783E041A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36F98B-BBC6-4AB2-AA09-3397F7953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CC05E7-E873-4656-B262-F4FC489CD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85BE8C-9D6B-4E33-AD2A-5D705BF23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DD59FD-D50B-4303-8178-EC0CE09EE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3C267C-65EC-457E-AF79-A08E1606F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002008-380A-41E5-A2CB-C2780FAD5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CB53D9-904D-4736-B209-C0793D2F4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A14F-F71D-49F9-A63B-3735134ED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D26319-381C-45F5-B0F0-3900B56C4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13342F-19F8-4C51-9CD1-65380E470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F2FBA7-110F-4D09-8565-61ED06114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1DA336-C062-4026-82D7-BBE3A0579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D9E708-EA49-4490-9516-33041309B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DFB07E-3EB9-45A2-8247-3870C00FE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99E083-34FF-4E84-83A8-FE860B3F2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B5145D-F3E1-4C6F-AC15-0B83F1A96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CCC801-AD21-4DE0-9E16-0DF5422BC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4FEB43-DC13-4B8C-99F5-8F066C82B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1A6E-81B3-4E12-BBE0-CA59C40B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5B5FC2-F401-4318-B754-E1C2B59A1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C8638A-6A12-4C21-BCA5-F59CF6D5E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E01C46-2FF4-4E51-B2AF-95B6B4DFC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FFB0FE-4CDE-494A-B4AB-626E16239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AC079C-2337-4C2C-98B6-DCDF487E0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CA8625-C277-4243-BEAB-8ADE3B22B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F01581-8B67-4E04-A5B6-5A15B223D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45F400-D80A-43C8-96B8-68A8125E0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8EAB51-AAAC-4720-BDED-45BF36A8D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5A195E-9DB4-4601-859A-614424878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A17A-A35F-4F87-89EA-DDBE9FC4C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7E10A6-41A9-4D78-856C-CBF2E3A79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40D993-B4F9-4AD3-821A-35FC70F73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3E9E65-D440-4D75-A7D5-23FD39F72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7399BD-4189-4E38-8DC7-6FFE107DC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A25329-7F13-4F08-AC6D-4A4F8C20D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7C5439-9D3F-4BA7-95D7-BEE2E07FF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F48A70-57B8-49A1-8759-545242F83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CA1734-0B2C-4EAB-A189-0374EA0F0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19812D-2068-44BC-A21F-DF7F6FC2E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727E2D-31D9-492D-BDDA-EC48099A1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1920-7483-44C2-BF1E-707A98B82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D5D350-55D0-4477-B418-33EBF818D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28F811-7FA0-4652-B286-257299BAC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2C8DBE-FD07-4F27-8472-B891AF914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B9D14B-34E3-47C5-AED5-6CD7935C0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B282DF-040B-48A7-B047-CD15A56AF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70D8FD-8F1A-4167-8DCE-81C7B0165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4FF286-17EC-47EB-8C84-62E548889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212F84-B87B-4CCB-958F-7BFA0ED79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81789A-9C98-40EC-874B-B7DF7E059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0EEDA2-76CE-4F69-8755-BE92849B0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48F0E-75D4-4087-B5CE-EF47871B382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-</a:t>
            </a:r>
            <a:fld id="{FEB2C52E-3940-4C3C-BCD3-A568CCF108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75E85-77B1-4963-AECE-D75B65A8855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4AB9B9ED-9B74-48CD-9C71-36CC25684D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6903E-EA0D-4553-BCD5-EFE483B2CC6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5AF0C9EA-6C20-47CB-A219-F1293734AB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53CBB-2E0B-4D30-ACC6-3FCEF777DB5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C1468DEE-00F1-40F3-B15E-7A4CDC4D0F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A5D52-4A35-4254-8970-A5D2476C4F4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0561D4CF-8CA7-4007-A2B7-81CBD326CA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876920" y="632412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8128F-B377-4F62-A4B9-25B1C9CB97A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6BBC9F19-D299-44FC-AC3B-9074DC84FF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9"/>
          </p:nvPr>
        </p:nvSpPr>
        <p:spPr>
          <a:xfrm>
            <a:off x="456840" y="6339960"/>
            <a:ext cx="4343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6584D-B41A-4644-A6BB-612202BB496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0349C89C-9027-421E-A1E8-BD12177FF7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3CF50-C17D-4FB5-991C-D6658CDC42A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AB73434A-8EDB-4B3C-82AD-40B2832CDE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908F4-72D0-40E6-AC89-FA7B000FC55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807BE21C-85A5-4416-A44B-1CDC970844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6B068-11D0-424A-8953-BCAE6C8A4CB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A6B97284-BBA5-4712-BE8F-6CED085D2C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9AF35-7C42-40E6-BC67-7DBF4FF1A32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3BD6C92E-56BA-41C0-80CF-6603559EA5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A8201-29E4-40DB-B204-749CE287BC3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4898E763-53C9-41D2-8761-DB60A4C04B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638680" y="456840"/>
            <a:ext cx="3276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pter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5638680" y="1905120"/>
            <a:ext cx="3353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low of Contr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3" name="Picture 2" descr=""/>
          <p:cNvPicPr/>
          <p:nvPr/>
        </p:nvPicPr>
        <p:blipFill>
          <a:blip r:embed="rId1"/>
          <a:stretch/>
        </p:blipFill>
        <p:spPr>
          <a:xfrm>
            <a:off x="152280" y="0"/>
            <a:ext cx="5535720" cy="6858000"/>
          </a:xfrm>
          <a:prstGeom prst="rect">
            <a:avLst/>
          </a:prstGeom>
          <a:ln w="0">
            <a:noFill/>
          </a:ln>
        </p:spPr>
      </p:pic>
      <p:pic>
        <p:nvPicPr>
          <p:cNvPr id="514" name="Rectangle 4" descr=""/>
          <p:cNvPicPr/>
          <p:nvPr/>
        </p:nvPicPr>
        <p:blipFill>
          <a:blip r:embed="rId2"/>
          <a:stretch/>
        </p:blipFill>
        <p:spPr>
          <a:xfrm>
            <a:off x="5937120" y="4943520"/>
            <a:ext cx="3054600" cy="1182600"/>
          </a:xfrm>
          <a:prstGeom prst="rect">
            <a:avLst/>
          </a:prstGeom>
          <a:ln w="0">
            <a:noFill/>
          </a:ln>
        </p:spPr>
      </p:pic>
      <p:sp>
        <p:nvSpPr>
          <p:cNvPr id="515" name="Rectangle 5"/>
          <p:cNvSpPr/>
          <p:nvPr/>
        </p:nvSpPr>
        <p:spPr>
          <a:xfrm>
            <a:off x="5715000" y="6427800"/>
            <a:ext cx="28195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opyright © 2008 Pearson Addison-Wesley. All rights reserve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6" descr=""/>
          <p:cNvPicPr/>
          <p:nvPr/>
        </p:nvPicPr>
        <p:blipFill>
          <a:blip r:embed="rId3"/>
          <a:stretch/>
        </p:blipFill>
        <p:spPr>
          <a:xfrm>
            <a:off x="8458200" y="6324480"/>
            <a:ext cx="6858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switch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tat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switc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tatement is the only other kind of Java statement that implement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multiwa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ranc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a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witc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tatement is evaluated, one of a number of different branches is execu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hoice of which branch to execute is determined by a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controlling express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nclosed in parentheses after the keyword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wit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controlling expression must evaluate to a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hor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or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by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EFAFBC15-A643-4C5F-96BD-D4577D5947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switch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tat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ch branch statement in a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witc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tatement starts with the reserved word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cas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followed by a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constan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lled a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case labe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followed by a colon, and then a sequence of state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ach case label must be of the same type as the controlling expres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se labels need not be listed in order or span a complete interval, but each one may appear only o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ach sequence of statements may be followed by a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break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statement (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break;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7DEE7D34-E808-4E17-A429-2A59664473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switch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tat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e can also be a section labeled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defaul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default</a:t>
            </a:r>
            <a:r>
              <a:rPr b="0" lang="en-US" sz="2000" spc="-1" strike="noStrike">
                <a:solidFill>
                  <a:srgbClr val="034ca1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tion is optional, and is usually la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ven if the case labels cover all possible outcomes in a given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witc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statement,  it is still a good practice to include a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defaul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s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t can be used to output an error message, for examp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the controlling expression is evaluated, the code for the case label whose value matches the controlling expression is execu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no case label matches, then the only statements executed are those following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defaul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label (if there is on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03100DE0-8367-4657-9DA9-842C77254E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switch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tat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switc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tatement ends when it executes a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brea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tatement, or when the end of 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switc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tatement is reach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the computer executes the statements after a case label, it continues until a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brea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tatement is reach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brea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tatement is omitted, then after executing the code for one case, the computer will go on to execute the code for the next c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brea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tatement is omitted inadvertently, the compiler will not issue an error mess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7E78C2B2-29AC-4FC1-9CEE-228D1A610D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witc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tatement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54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switch (Controlling_Expressio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case Case_Label_1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Statement_Sequence_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case Case_Label_2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Statement_Sequence_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case Case_Label_n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Statement_Sequence_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default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Default_Statement Sequ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Text Box 4"/>
          <p:cNvSpPr/>
          <p:nvPr/>
        </p:nvSpPr>
        <p:spPr>
          <a:xfrm rot="16200000">
            <a:off x="2431800" y="36637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alibri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1211573D-273A-4D1B-B710-66718E3EBF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ooter Placeholder 7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1752480" y="2743200"/>
            <a:ext cx="3429000" cy="762120"/>
          </a:xfrm>
          <a:prstGeom prst="rect">
            <a:avLst/>
          </a:prstGeom>
          <a:solidFill>
            <a:srgbClr val="ffffcc"/>
          </a:solidFill>
          <a:ln w="9360">
            <a:solidFill>
              <a:srgbClr val="034c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8"/>
          <p:cNvSpPr/>
          <p:nvPr/>
        </p:nvSpPr>
        <p:spPr>
          <a:xfrm>
            <a:off x="1752480" y="3753000"/>
            <a:ext cx="3429000" cy="304560"/>
          </a:xfrm>
          <a:prstGeom prst="rect">
            <a:avLst/>
          </a:prstGeom>
          <a:solidFill>
            <a:srgbClr val="ffffcc"/>
          </a:solidFill>
          <a:ln w="9360">
            <a:solidFill>
              <a:srgbClr val="034c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onditional operato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s a notational variant on certain forms of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if-els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stat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so called the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ternary operator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arithmetic i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following examples are equivalent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if (n1 &gt; n2)   max = n1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else           max = n2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34ca1"/>
                </a:solidFill>
                <a:latin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v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max = (n1 &gt; n2) ? n1 : n2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expression to the right of the assignment operator is a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conditional operator expre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the Boolean expression is true, then the expression evaluates to the value of the first expression (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n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, otherwise it evaluates to the value of the second expression (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n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Conditional Opera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A210067A-1EDA-4DD1-8E6A-E207F6E427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Footer Placeholder 8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olean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Boolean expression is an expression that is either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simplest Boolean expressions compare the value of two express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time &lt; lim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yourScore == mySco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te that Java uses two equal signs (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==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to perform equality testing:  A single equal sign (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is used only for assign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Boolean expression does not need to be enclosed in parentheses, unless it is used in an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if-els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stat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BF70E0D4-8A31-4A57-AA60-78B0C2B8E1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ava Comparison 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2" name="Picture 5" descr="D3_3"/>
          <p:cNvPicPr/>
          <p:nvPr/>
        </p:nvPicPr>
        <p:blipFill>
          <a:blip r:embed="rId1"/>
          <a:stretch/>
        </p:blipFill>
        <p:spPr>
          <a:xfrm>
            <a:off x="1000080" y="1828800"/>
            <a:ext cx="7515360" cy="3666960"/>
          </a:xfrm>
          <a:prstGeom prst="rect">
            <a:avLst/>
          </a:prstGeom>
          <a:ln w="0">
            <a:noFill/>
          </a:ln>
        </p:spPr>
      </p:pic>
      <p:sp>
        <p:nvSpPr>
          <p:cNvPr id="58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A4FFC2B0-10DF-412B-9AFC-B581D52245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itfall:  Using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with String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equality comparison operator (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==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can correctly test two values of a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primitiv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y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ever, when applied to two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objec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uch as objects of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lass,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==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ests to see if they are stored in the same memory location, not whether or not they have the same val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order to test two strings to see if they have equal values, use the method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equal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or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equalsIgnoreC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tring1.equals(string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tring1.equalsIgnoreCase(string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12FEF9E7-02C1-441B-A4D4-5C2FB3A762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xicographic and Alphabetical Or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Lexicographic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dering is the same as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SCII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rdering, and includes letters, numbers, and other charact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uppercase letters are in alphabetic order, and all lowercase letters are in alphabetic order, but all uppercase letters come before lowercase lett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s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s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re two variables of type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String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that have been given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String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values, then 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s1.compareTo(s2)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returns a negative number if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s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comes before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s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n lexicographic ordering, returns zero if the two strings are equal, and returns a positive number if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s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comes before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en performing an alphabetic comparison of strings (rather than a lexicographic comparison) that consist of a mix of lowercase and uppercase letters, use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compareToIgnoreCas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method inste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E42E298E-EA6A-4A91-AADD-9A9C22CDAA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low of Contr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 in most programming languages,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flow of contro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 Java refers to its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branch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loop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echanis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ava has several branching mechanisms: 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if-else</a:t>
            </a:r>
            <a:r>
              <a:rPr b="1" lang="en-US" sz="2400" spc="-1" strike="noStrike">
                <a:solidFill>
                  <a:srgbClr val="034ca1"/>
                </a:solidFill>
                <a:latin typeface="Calibri"/>
              </a:rPr>
              <a:t>,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if</a:t>
            </a:r>
            <a:r>
              <a:rPr b="1" lang="en-US" sz="2400" spc="-1" strike="noStrike">
                <a:solidFill>
                  <a:srgbClr val="034ca1"/>
                </a:solidFill>
                <a:latin typeface="Calibri"/>
              </a:rPr>
              <a:t>,</a:t>
            </a:r>
            <a:r>
              <a:rPr b="0" lang="en-US" sz="2400" spc="-1" strike="noStrike">
                <a:solidFill>
                  <a:srgbClr val="034ca1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witc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tate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ava has three types of loop statements: 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do-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for</a:t>
            </a:r>
            <a:r>
              <a:rPr b="0" lang="en-US" sz="2400" spc="-1" strike="noStrike">
                <a:solidFill>
                  <a:srgbClr val="034ca1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st branching and looping statements are controlled by Boolean express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Boolean expression evaluates to either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primitive typ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may only take the values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B2F7494B-C496-4074-9806-27C3CCC020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uilding Boolean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en two Boolean expressions are combined using the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"and"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&amp;&amp;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operator, the entire expression is true provided both expressions are tr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therwise the expression is fal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en two Boolean expressions are combined using the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"or"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||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operator, the entire expression is true as long as one of the expressions is tr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expression is false only if both expressions are fal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y Boolean expression can be negated using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!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per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ace the expression in parentheses and place the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!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operator in front of 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like mathematical notation, strings of inequalities must be joined by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&amp;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(min &lt; result) &amp;&amp; (result &lt; max)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rather than   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min &lt; result &lt; ma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620AB4C5-0C38-400C-8842-EC516CE067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valuating Boolean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en though Boolean expressions are used to control branch and loop statements,  Boolean expressions can exist independently as we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Boolean variable can be given the value of a Boolean expression by using an assignment stat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Boolean expression can be evaluated in the same way that an arithmetic expression is evalua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only difference is that arithmetic expressions produce a number as a result, while Boolean expressions produce either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s their 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boolean madeIt = (time &lt; limit) &amp;&amp; (limit &lt; max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93CE320F-77AA-40C7-AA9B-9DB4519690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uth T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2" name="Picture 7" descr="D3_5"/>
          <p:cNvPicPr/>
          <p:nvPr/>
        </p:nvPicPr>
        <p:blipFill>
          <a:blip r:embed="rId1"/>
          <a:stretch/>
        </p:blipFill>
        <p:spPr>
          <a:xfrm>
            <a:off x="1314360" y="795240"/>
            <a:ext cx="6829560" cy="5586480"/>
          </a:xfrm>
          <a:prstGeom prst="rect">
            <a:avLst/>
          </a:prstGeom>
          <a:ln w="0">
            <a:noFill/>
          </a:ln>
        </p:spPr>
      </p:pic>
      <p:sp>
        <p:nvSpPr>
          <p:cNvPr id="60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10E9BBC4-AE64-44E6-9EFF-06D970D21F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rt-Circuit and Complete Evalu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ava can take a shortcut when the evaluation of the first part of a  Boolean expression produces a result that evaluation of the second part cannot cha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is called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hort-circuit evalu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lazy evalu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 example, when evaluating two Boolean subexpressions joined by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&amp;&amp;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if the first subexpression evaluates to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then the entire expression will evaluate to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no matter the value of the second subexpres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like manner, when evaluating two Boolean subexpressions joined by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||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if the first subexpression evaluates to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then the entire expression will evaluate to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12DD40F6-C08E-4DCA-89B0-4146E56D3D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rt-Circuit and Complete Evalu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e are times when using short-circuit evaluation can prevent a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runtime err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the following example, if the number of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kid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s equal to zero, then the second subexpression will not be evaluated, thus preventing a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divide by zero err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te that reversing the order of the subexpressions will not prevent th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34ca1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if ((kids !=0) &amp;&amp; ((toys/kids) &gt;=2)) . .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metimes it is preferable to always evaluate both expressions, i.e., request complete evalu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this case, use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&amp;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|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perators instead of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&amp;&amp;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||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C53AFA95-D108-408B-B556-44A1FAEEF3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cedence and Associativity R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olean and arithmetic expressions need not be fully parenthesiz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some or all of the parentheses are omitted, Java will follow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precedenc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ssociativit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rules (summarized in the following table) to determine the order of oper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one operator occurs higher in the table than another, it has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higher precedenc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and is grouped with its operands before the operator of lower precedenc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two operators have the same precedence, then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ssociativity rul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determine which is grouped fir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F83E32A2-282F-47EE-A832-1F5FB2737D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714240" y="152280"/>
            <a:ext cx="2362320" cy="556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cedence and Associativity R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8" name="Picture 6" descr="D3_6"/>
          <p:cNvPicPr/>
          <p:nvPr/>
        </p:nvPicPr>
        <p:blipFill>
          <a:blip r:embed="rId1"/>
          <a:stretch/>
        </p:blipFill>
        <p:spPr>
          <a:xfrm>
            <a:off x="2973240" y="100080"/>
            <a:ext cx="6085080" cy="6329160"/>
          </a:xfrm>
          <a:prstGeom prst="rect">
            <a:avLst/>
          </a:prstGeom>
          <a:ln w="0">
            <a:noFill/>
          </a:ln>
        </p:spPr>
      </p:pic>
      <p:sp>
        <p:nvSpPr>
          <p:cNvPr id="61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B754D980-5F0C-4ED1-9229-714FF1EAE4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valuating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general, parentheses in an expression help to document the programmer's int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tead of relying on precedence and associativity rules, it is best to include most parentheses, except where the intended meaning is obvio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Bind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 The association of operands with their op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fully parenthesized expression accomplishes binding for all the operators in an expre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ide Effect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 When, in addition to returning a value, an expression changes something, such as the value of a vari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assignmen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cremen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decrement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all produce side effec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A3FC0E1F-62ED-413A-84A2-98054B855F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ules for Evaluating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form bind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termine the equivalent fully parenthesized expression using the precedence and associativity ru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eding left to right, evaluate whatever subexpressions can be immediately evalua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se subexpressions will be operands or method arguments, e.g., numeric constants or vari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aluate each outer operation and method invocation as soon as all of its operands (i.e., arguments) have been evalua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43507FB3-376E-469B-8193-12696848FE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o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Loop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 Java are similar to those in other high-level langua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ava has three types of loop statements:  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whi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do-whi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and 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tat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ode that is repeated in a loop is called th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bod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the 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ch repetition of the loop body is called an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ter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the 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CA6E5F97-C8D1-4F3E-AD87-C2F6A557D5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anching with an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f-els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tat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if-els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tatement chooses between two alternative statements based on the value of a Boolean expres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if (</a:t>
            </a:r>
            <a:r>
              <a:rPr b="1" i="1" lang="en-US" sz="2000" spc="-1" strike="noStrike">
                <a:solidFill>
                  <a:srgbClr val="034ca1"/>
                </a:solidFill>
                <a:latin typeface="Courier New"/>
              </a:rPr>
              <a:t>Boolean_Expression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i="1" lang="en-US" sz="2000" spc="-1" strike="noStrike">
                <a:solidFill>
                  <a:srgbClr val="034ca1"/>
                </a:solidFill>
                <a:latin typeface="Courier New"/>
              </a:rPr>
              <a:t>Yes_Stat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i="1" lang="en-US" sz="2000" spc="-1" strike="noStrike">
                <a:solidFill>
                  <a:srgbClr val="034ca1"/>
                </a:solidFill>
                <a:latin typeface="Courier New"/>
              </a:rPr>
              <a:t>No_Stat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Boolean_Express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must be enclosed in parenthe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Boolean_Express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s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then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Yes_Statemen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s execu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Boolean_Express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s false, then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No_Statemen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s execu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EAF05A2D-F22F-4943-924C-C0BDDF2B7E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tat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tatement is used to repeat a portion of code (i.e., the loop body) based on the evaluation of a Boolean expres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Boolean expression is checked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befor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he loop body is execu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en false, the loop body is not executed at al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efore the execution of each following iteration of the loop body, the Boolean expression is checked ag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true, the loop body is executed aga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false, the loop statement en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loop body can consist of a single statement,  or multiple statements enclosed in a pair of braces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{ }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3D32A1B5-F845-4A46-8EBE-764AF1208E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4"/>
          <p:cNvSpPr/>
          <p:nvPr/>
        </p:nvSpPr>
        <p:spPr>
          <a:xfrm>
            <a:off x="1955880" y="1407960"/>
            <a:ext cx="5618160" cy="1073160"/>
          </a:xfrm>
          <a:prstGeom prst="rect">
            <a:avLst/>
          </a:prstGeom>
          <a:solidFill>
            <a:srgbClr val="ffffcc"/>
          </a:solidFill>
          <a:ln w="9360">
            <a:solidFill>
              <a:srgbClr val="034c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5"/>
          <p:cNvSpPr/>
          <p:nvPr/>
        </p:nvSpPr>
        <p:spPr>
          <a:xfrm>
            <a:off x="1984320" y="2851200"/>
            <a:ext cx="5618160" cy="2975040"/>
          </a:xfrm>
          <a:prstGeom prst="rect">
            <a:avLst/>
          </a:prstGeom>
          <a:solidFill>
            <a:srgbClr val="ffffcc"/>
          </a:solidFill>
          <a:ln w="9360">
            <a:solidFill>
              <a:srgbClr val="034c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/>
          </p:nvPr>
        </p:nvSpPr>
        <p:spPr>
          <a:xfrm>
            <a:off x="2028960" y="1676520"/>
            <a:ext cx="5667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while (Boolean_Express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tat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while (Boolean_Express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tatement_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tatement_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tatement_L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ynta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Text Box 6"/>
          <p:cNvSpPr/>
          <p:nvPr/>
        </p:nvSpPr>
        <p:spPr>
          <a:xfrm rot="16200000">
            <a:off x="3190680" y="4325760"/>
            <a:ext cx="85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34ca1"/>
                </a:solidFill>
                <a:latin typeface="Calibri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FA9330A5-D42B-4C62-8869-4C990F1F8A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Footer Placeholder 9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do-whil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tat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do-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tatement is used to execute a portion of code (i.e., the loop body), and then repeat it based on the evaluation of a Boolean expres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loop body is executed at least o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Boolean expression is checked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after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the loop body is execu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Boolean expression is checked after each iteration of the loop bod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true, the loop body is executed aga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false, the loop statement en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n't forget to put a semicolon after the Boolean expre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ke the while statement, the loop body can consist of a single statement,  or multiple statements enclosed in a pair of braces (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{</a:t>
            </a:r>
            <a:r>
              <a:rPr b="0" lang="en-US" sz="2000" spc="-1" strike="noStrike">
                <a:solidFill>
                  <a:srgbClr val="034ca1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}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6E1858D2-B2DB-490D-B28D-336C4EF886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5"/>
          <p:cNvSpPr/>
          <p:nvPr/>
        </p:nvSpPr>
        <p:spPr>
          <a:xfrm>
            <a:off x="1662120" y="1544760"/>
            <a:ext cx="5850000" cy="1233360"/>
          </a:xfrm>
          <a:prstGeom prst="rect">
            <a:avLst/>
          </a:prstGeom>
          <a:solidFill>
            <a:srgbClr val="ffffcc"/>
          </a:solidFill>
          <a:ln w="9360">
            <a:solidFill>
              <a:srgbClr val="034c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4"/>
          <p:cNvSpPr/>
          <p:nvPr/>
        </p:nvSpPr>
        <p:spPr>
          <a:xfrm>
            <a:off x="1670040" y="3078000"/>
            <a:ext cx="5850000" cy="2698920"/>
          </a:xfrm>
          <a:prstGeom prst="rect">
            <a:avLst/>
          </a:prstGeom>
          <a:solidFill>
            <a:srgbClr val="ffffcc"/>
          </a:solidFill>
          <a:ln w="9360">
            <a:solidFill>
              <a:srgbClr val="034c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/>
          </p:nvPr>
        </p:nvSpPr>
        <p:spPr>
          <a:xfrm>
            <a:off x="1771200" y="1676520"/>
            <a:ext cx="59468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tat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while (Boolean_Expression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d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tatement_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tatement_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tatement_L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}  while (Boolean_Expression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do-whil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ynta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Text Box 6"/>
          <p:cNvSpPr/>
          <p:nvPr/>
        </p:nvSpPr>
        <p:spPr>
          <a:xfrm rot="16200000">
            <a:off x="2738160" y="44226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34ca1"/>
                </a:solidFill>
                <a:latin typeface="Calibri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0AFA71FC-57C6-482A-AAE8-99BBF5B725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Footer Placeholder 9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s and Pseudoco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hard part of solving a problem with a computer program is not dealing with the syntax rules of a programming langu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ather, coming up with the underlying solution method is the most difficult pa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lgorithm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s a set of precise instructions that lead to a sol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 algorithm is normally written in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pseudocod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which is a mixture of programming language and a human language, like Englis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seudocode must be precise and clear enough so that a good programmer can convert it to syntactically correct co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ever, pseudocode is much less rigid than code:  One needn't worry about the fine points of syntax or declaring variables, for examp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CD49B4C4-DF15-441C-A729-887BD97398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tat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tatement is most commonly used to step through an integer variable in equal incre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begins with the keyword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followed by three expressions in parentheses that describe what to do with one or mor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controlling variab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first expression tells how the control variable or variables are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nitialize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declare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nitialize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before the first iter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second expression determines when the loop should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based on the evaluation of a Boolean expression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befor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each iter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third expression tells how the control variable or variables are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update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fte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each iteration of the loop bod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D456EC7A-EF10-4DD3-BB2F-79F822D228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tatement Synta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for (Initializing; Boolean_Expression; Upda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Bod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ay consist of a single statement or a list of statements enclosed in a pair of braces (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{</a:t>
            </a:r>
            <a:r>
              <a:rPr b="0" lang="en-US" sz="2400" spc="-1" strike="noStrike">
                <a:solidFill>
                  <a:srgbClr val="034ca1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e that the three control expressions are separated by two, not three, semicol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e that there is no semicolon after the closing parenthesis at the beginning of the loop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37BFC83D-DEAB-4F90-B3D5-E683E31601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mantics of th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tat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8" name="Picture 6" descr="D3_9"/>
          <p:cNvPicPr/>
          <p:nvPr/>
        </p:nvPicPr>
        <p:blipFill>
          <a:blip r:embed="rId1"/>
          <a:stretch/>
        </p:blipFill>
        <p:spPr>
          <a:xfrm>
            <a:off x="1728720" y="781200"/>
            <a:ext cx="6319800" cy="5619600"/>
          </a:xfrm>
          <a:prstGeom prst="rect">
            <a:avLst/>
          </a:prstGeom>
          <a:ln w="0">
            <a:noFill/>
          </a:ln>
        </p:spPr>
      </p:pic>
      <p:sp>
        <p:nvSpPr>
          <p:cNvPr id="66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5EB35521-B4FD-4A3C-9508-281DF6CF4F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ement Syntax and Alternate Seman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2" name="Picture 6" descr="D3_10_1"/>
          <p:cNvPicPr/>
          <p:nvPr/>
        </p:nvPicPr>
        <p:blipFill>
          <a:blip r:embed="rId1"/>
          <a:stretch/>
        </p:blipFill>
        <p:spPr>
          <a:xfrm>
            <a:off x="1000080" y="1886040"/>
            <a:ext cx="7505640" cy="3085920"/>
          </a:xfrm>
          <a:prstGeom prst="rect">
            <a:avLst/>
          </a:prstGeom>
          <a:ln w="0">
            <a:noFill/>
          </a:ln>
        </p:spPr>
      </p:pic>
      <p:sp>
        <p:nvSpPr>
          <p:cNvPr id="67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F5A7DA80-AD22-4ECB-A2B7-4D50739E20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712800" y="-152640"/>
            <a:ext cx="8431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3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tatement Syntax and Alternate Semantic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6" name="Picture 4" descr="D3_10_2"/>
          <p:cNvPicPr/>
          <p:nvPr/>
        </p:nvPicPr>
        <p:blipFill>
          <a:blip r:embed="rId1"/>
          <a:stretch/>
        </p:blipFill>
        <p:spPr>
          <a:xfrm>
            <a:off x="1681200" y="668160"/>
            <a:ext cx="6046920" cy="5775480"/>
          </a:xfrm>
          <a:prstGeom prst="rect">
            <a:avLst/>
          </a:prstGeom>
          <a:ln w="0">
            <a:noFill/>
          </a:ln>
        </p:spPr>
      </p:pic>
      <p:sp>
        <p:nvSpPr>
          <p:cNvPr id="67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BBF6A706-CCB2-497F-9858-9362A19C9D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Stat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Yes_Statem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No_Statement</a:t>
            </a:r>
            <a:r>
              <a:rPr b="0" lang="en-US" sz="2800" spc="-1" strike="noStrike">
                <a:solidFill>
                  <a:srgbClr val="034ca1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ranch of an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if-els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an be a made up of a single statement or many stat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ompound Statem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 A branch statement that is made up of a list of stateme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compound statement must always be enclosed in a pair of braces (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{ }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compound statement can be used anywhere that a single statement can be u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FDBBFDFA-EE27-40EB-B5DB-5244FE907B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Comma in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tat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loop can contain multiple initialization actions separated with comm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ution must be used when combining a declaration with multiple a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 is illegal to combine multiple type declarations with multiple actions, for examp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avoid possible problems, it is best to declare all variables outside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stat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loop can contain multiple update actions, separated with commas, als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 is even possible to eliminate the loop body in this wa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ever, a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loop can contain only one Boolean expression to test for ending the 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D2DE5618-02C3-4237-BBA7-6900509D35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finite Loo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7900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whi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do-whi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or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loop should be designed so that the value tested in the Boolean expression is changed in a way that eventually makes it false, and terminates the loo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the Boolean expression remains true, then the loop will run forever, resulting in an 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nfinite loo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ops that check for equality or inequality (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==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!=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are especially prone to this error and should be avoided if possi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52584757-61DD-48A7-8155-1D065C4451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sted Loo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ops can b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nest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just like other Java structu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en nested, the inner loop iterates from beginning to end for each single iteration of the outer loo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int rowNum, columnNum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for (rowNum = 1; rowNum &lt;=3; rowNum++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for (columnNum = 1; columnNum &lt;=2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              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columnNum++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ystem.out.print(" row " + rowNum +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" column " + columnNum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ystem.out.println(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A404E459-4A0A-40D2-AE39-E434806615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continu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tat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543800" cy="43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brea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tatement consists of the keyword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brea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ollowed by a semicol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en executed,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break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statement ends the nearest enclosing switch or loop stat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continu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tatement consists of the keyword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continu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ollowed by a semicol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en executed,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continu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statement ends the current loop body iteration of the nearest enclosing loop stat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te that in a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loop,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continu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statement transfers control to the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expres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loop statements are nested, remember that any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brea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lang="en-US" sz="2400" spc="-1" strike="noStrike">
                <a:solidFill>
                  <a:srgbClr val="034ca1"/>
                </a:solidFill>
                <a:latin typeface="Calibri"/>
              </a:rPr>
              <a:t>continu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tatement applies to the innermost, containing loop stat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B0F143E4-E51E-4911-849B-FAADB0846F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Labeled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tat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54380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e is a type of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brea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tatement that, when used in nested loops, can end any containing loop, not just the innermost 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an enclosing loop statement is labeled with an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dentifier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n the following version of the break statement will exit the labeled loop, even if it is not the innermost enclosing loop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break someIdentifier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label a loop, simply precede it with an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dentifie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a col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omeIdentifier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8AE4E26C-317D-4FFC-9318-43B8A84A5F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exi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tat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brea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tatement will end a loop or switch statement, but will not end the progr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exi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tatement will immediately end the program as soon as it is invoke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ystem.exit(0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exi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tatement takes one integer argu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tradition, a zero argument is used to indicate a normal ending of the pro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C87BB1AC-7863-48F1-8008-9D12B85764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op Bug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two most common kinds of loop errors are unintende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nfinite loop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off-by-one err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 off-by-one error is when a loop repeats the loop body one too many or one too few ti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s usually results from a carelessly designed Boolean test expres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of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==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 the controlling Boolean expression can lead to an infinite loop or an off-by-one err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s sort of testing works only for characters and integers, and should never be used for floating-poi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4229C7F4-3478-4005-9FBE-801B7818FB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cing Vari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racing variabl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volves watching one or more variables change value while a program is ru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can make it easier to discover errors in a program and debug th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ny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D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 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ntegrated Development Environmen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have a built-in utility that allows variables to be traced without making any changes to the pro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other way to trace variables is to simply insert temporary output statements in a pro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ystem.out.println("n = " + n);  // Tracing 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en the error is found and corrected, the trace statements can simply be commented o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1EA7996D-1B56-485C-9439-342170EAC6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neral Debugg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ine the system as a whole – don’t assume the bug occurs in one particular pl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y different test cases and check the input val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ent out blocks of code to narrow down the offending co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eck common pitfa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ke a break and come back la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 NOT make random changes just hoping that the change will fix the problem!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9650305B-F0FA-4469-8577-E7FDCB1676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Footer Placeholder 4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bugging Example (1 of 9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ollowing code is supposed to present a menu and get user input until either ‘a’ or ‘b’ is enter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2BCF4969-5407-4E81-9596-589B1D0B27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Footer Placeholder 4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Box 5"/>
          <p:cNvSpPr/>
          <p:nvPr/>
        </p:nvSpPr>
        <p:spPr>
          <a:xfrm>
            <a:off x="1093320" y="2971800"/>
            <a:ext cx="743508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s = "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 c = ' '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anner keyboard = new Scanner(System.i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Enter 'A' for option A or 'B' for option B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 = keyboard.nex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.toLowerCas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 = s.substring(0,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(c != 'a') || (c != 'b'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Stat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if (myScore &gt; your Score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ystem.out.println("I win!"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wager = wager + 100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ystem.out.printl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("I wish these were golf scores."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wager = 0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079C2783-2E77-46EC-91D7-37437B7DB9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bugging Example (2 of 9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457200" y="3047760"/>
            <a:ext cx="8229600" cy="27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ing the “random change” debugging technique we might try to change the data type of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o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to make the types mat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results in more errors since the rest of the code treats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like a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6830EC38-1945-4ECB-A824-E5BE0B20CB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Footer Placeholder 4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Box 7"/>
          <p:cNvSpPr/>
          <p:nvPr/>
        </p:nvSpPr>
        <p:spPr>
          <a:xfrm>
            <a:off x="475560" y="1523880"/>
            <a:ext cx="510948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:  Syntax error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 = s.substring(0,1);    : incompatible ty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ound:  java.lang.St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d: ch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bugging Example (3 of 9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rst problem:  substring returns a String, use charAt to get the first charact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CC95E753-F2BC-4977-A98B-9FB84836D8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Footer Placeholder 4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Box 5"/>
          <p:cNvSpPr/>
          <p:nvPr/>
        </p:nvSpPr>
        <p:spPr>
          <a:xfrm>
            <a:off x="1017000" y="2666880"/>
            <a:ext cx="743508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s = "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 c = ' '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anner keyboard = new Scanner(System.i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Enter 'A' for option A or 'B' for option B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 = keyboard.nex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.toLowerCas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 = s.charAt(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(c != 'a') || (c != 'b'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Box 6"/>
          <p:cNvSpPr/>
          <p:nvPr/>
        </p:nvSpPr>
        <p:spPr>
          <a:xfrm>
            <a:off x="697680" y="5715000"/>
            <a:ext cx="794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the program compiles, but it is stuck in an infinite loop.   Employ trac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bugging Example (4 of 9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714EABCD-29B2-43E1-A49E-02D9F78ECE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Footer Placeholder 4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Box 5"/>
          <p:cNvSpPr/>
          <p:nvPr/>
        </p:nvSpPr>
        <p:spPr>
          <a:xfrm>
            <a:off x="712080" y="1371600"/>
            <a:ext cx="7541640" cy="43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Enter 'A' for option A or 'B' for option B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 = keyboard.nex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String s = " +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.toLowerCas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Lowercase s = " +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 = s.charAt(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c = " + c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(c != 'a') || (c != 'b'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ample outpu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'A' for option A or 'B' for option B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s =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owercase s =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 =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'A' for option A or 'B' for option B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Box 6"/>
          <p:cNvSpPr/>
          <p:nvPr/>
        </p:nvSpPr>
        <p:spPr>
          <a:xfrm>
            <a:off x="726120" y="5715000"/>
            <a:ext cx="733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racing we can see that the string is never changed to lowerc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ssign the lowercase string back to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bugging Example (5 of 9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ollowing code is supposed to present a menu and get user input until either ‘a’ or ‘b’ is enter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F8564998-801E-4D55-AACA-90DB10D292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Footer Placeholder 4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Box 5"/>
          <p:cNvSpPr/>
          <p:nvPr/>
        </p:nvSpPr>
        <p:spPr>
          <a:xfrm>
            <a:off x="1093320" y="2971800"/>
            <a:ext cx="74350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Enter 'A' for option A or 'B' for option B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 = keyboard.nex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 = s.toLowerCas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 = s.charAt(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(c != 'a') || (c != 'b'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Box 6"/>
          <p:cNvSpPr/>
          <p:nvPr/>
        </p:nvSpPr>
        <p:spPr>
          <a:xfrm>
            <a:off x="786960" y="5486400"/>
            <a:ext cx="617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it’s still stuck in an infinite loop.  What to try nex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bugging Example (6 of 9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d try the following “patch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0F932469-128C-402D-8998-4B47E06026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Box 5"/>
          <p:cNvSpPr/>
          <p:nvPr/>
        </p:nvSpPr>
        <p:spPr>
          <a:xfrm>
            <a:off x="864360" y="2133720"/>
            <a:ext cx="754164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Enter 'A' for option A or 'B' for option B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 = keyboard.nex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 = s.toLowerCas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 = s.charAt(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 c == 'a'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;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c == 'b'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(c != 'a') || (c != 'b'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Box 6"/>
          <p:cNvSpPr/>
          <p:nvPr/>
        </p:nvSpPr>
        <p:spPr>
          <a:xfrm>
            <a:off x="804960" y="5029200"/>
            <a:ext cx="750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rks, but it is ugly!  Considered a coding atrocity, it doesn’t fix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lying problem.   The boolean condition after the while loop has al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ome meaningless.  Try more trac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bugging Example (7 of 9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76F5CA0D-3C21-4067-A501-8B8B56E7D4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Footer Placeholder 4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Box 5"/>
          <p:cNvSpPr/>
          <p:nvPr/>
        </p:nvSpPr>
        <p:spPr>
          <a:xfrm>
            <a:off x="712080" y="1295280"/>
            <a:ext cx="7541640" cy="44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Enter 'A' for option A or 'B' for option B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 = keyboard.nex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 = s.toLowerCas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 = s.charAt(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c != 'a' is " + (c != 'a'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c != 'b' is " + (c != 'b'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(c != 'a') || (c != 'b')) is 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+ ((c != 'a') || (c != 'b')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(c != 'a') || (c != 'b'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ample out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'A' for option A or 'B' for option B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 != 'a' is fa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 != 'b' is tr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c != 'a') || (c != 'b')) is tr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Box 6"/>
          <p:cNvSpPr/>
          <p:nvPr/>
        </p:nvSpPr>
        <p:spPr>
          <a:xfrm>
            <a:off x="653040" y="5638680"/>
            <a:ext cx="821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trace we can see that the loop’s boolean expression is true becaus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not be not equal to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‘a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not equal to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‘b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t the same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bugging Example (8 of 9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x:  We use &amp;&amp; instead of ||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999AA01E-807B-4E0A-A287-DC8E4026B7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Footer Placeholder 4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Box 5"/>
          <p:cNvSpPr/>
          <p:nvPr/>
        </p:nvSpPr>
        <p:spPr>
          <a:xfrm>
            <a:off x="864720" y="2133720"/>
            <a:ext cx="74350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Enter 'A' for option A or 'B' for option B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 = keyboard.nex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 = s.toLowerCas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 = s.charAt(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(c != 'a'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&amp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 != 'b'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bugging Example (9 of 9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en better:  Declare a boolean variable to control the do-while loop.  This makes it clear when the loop exits if we pick a meaningful variable nam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B28016D1-0989-4677-97DF-670C9E882D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Footer Placeholder 4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Box 5"/>
          <p:cNvSpPr/>
          <p:nvPr/>
        </p:nvSpPr>
        <p:spPr>
          <a:xfrm>
            <a:off x="838080" y="2819520"/>
            <a:ext cx="784872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ean invalidKey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Enter 'A' for option A or 'B' for option B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 = keyboard.nex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 = s.toLowerCas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 = s.charAt(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c == 'a'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validKey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 if (c == 'b'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validKey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validKey = tru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invalidKey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ertion Chec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sser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a sentence that says (asserts) something about the state of a pro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 assertion must be either true or false, and should be true if a program is working proper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ertions can be placed in a program as com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ava has a statement that can check if an assertion is tr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assert Boolean_Expression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assertion checking is turned on and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Boolean_Express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evaluates to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the program ends, and outputs an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ssertion failed error mess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therwise, the program finishes execution normal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080C940C-9B49-4169-B641-C350520FE1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ertion Chec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rogram or other class containing assertions is compiled in the usual w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fter compilation, a program can run with assertion checking turned on or turned of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rmally a program runs with assertion checking turned of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order to run a program with assertion checking turned on, use the following command (using the actual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ProgramNam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4ca1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java –enableassertions ProgramNa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BC416B0C-EB80-4881-B2EB-48A4393D2A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mitting th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Pa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els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part may be omitted to obtain what is often called an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tat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if (Boolean_Express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Action_Stat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Boolean_Expression</a:t>
            </a:r>
            <a:r>
              <a:rPr b="0" lang="en-US" sz="2000" spc="-1" strike="noStrike">
                <a:solidFill>
                  <a:srgbClr val="034ca1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s true, then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Action_Statemen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s execu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Action_Statement</a:t>
            </a:r>
            <a:r>
              <a:rPr b="0" lang="en-US" sz="2000" spc="-1" strike="noStrike">
                <a:solidFill>
                  <a:srgbClr val="034ca1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n be a single or compound stat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therwise, nothing happens, and the program goes on to the next stat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if (weight &gt; ideal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calorieIntake = calorieIntake – 500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EB5CABBB-29C8-40E1-8E19-477E091A96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ventive Co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mental 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rite a little bit of code at a time and test it before moving 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de Re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ve others look at your co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ir Programm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gramming in a team, one typing while the other watches, and periodically switch ro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EF0E9376-F977-4A3E-BC93-5C21DF1AB1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Footer Placeholder 4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sted Stat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34ca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if-els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tatements and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tatements both contain smaller statements within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example, single or compound state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fact, any statement at all can be used as a subpart of an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if-els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tatement, including another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if-els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tat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ch level of a nested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if-els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hould be indented further than the previous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ception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multiway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if-else</a:t>
            </a:r>
            <a:r>
              <a:rPr b="0" lang="en-US" sz="2400" spc="-1" strike="noStrike">
                <a:solidFill>
                  <a:srgbClr val="034ca1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48E95738-8275-4223-A1B4-314B8C94F4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ultiway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44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tat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multiway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if-els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tatement is simply a normal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if-els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tatement that nests another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if-els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tatement at every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els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ran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 is indented differently from other nested stat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 of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Boolean_Expressions</a:t>
            </a:r>
            <a:r>
              <a:rPr b="0" lang="en-US" sz="2000" spc="-1" strike="noStrike">
                <a:solidFill>
                  <a:srgbClr val="034ca1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re aligned with one another, and their corresponding actions are also aligned with one anoth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Boolean_Expressio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re evaluated in order until one that evaluates to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s fou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final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s opti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BE85AB2C-6E26-4F63-9C67-5761EA34CB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ultiway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if-els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tat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if (Boolean_Express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tatement_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else if (Boolean_Express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tatement_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else if (Boolean_Expression_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tatement_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tatement_For_All_Other_Possibil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Text Box 4"/>
          <p:cNvSpPr/>
          <p:nvPr/>
        </p:nvSpPr>
        <p:spPr>
          <a:xfrm rot="16200000">
            <a:off x="1822320" y="31302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34ca1"/>
                </a:solidFill>
                <a:latin typeface="Calibri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79054B5A-563F-46C2-9EB8-5B64366371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Footer Placeholder 7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Kenrick</cp:lastModifiedBy>
  <dcterms:modified xsi:type="dcterms:W3CDTF">2007-05-29T07:39:05Z</dcterms:modified>
  <cp:revision>19</cp:revision>
  <dc:subject/>
  <dc:title>Slide 1</dc:title>
</cp:coreProperties>
</file>