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8283-6550-46A5-928D-F7B5723B2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D057-9553-44E4-B76C-232D132EA3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EC7A-D988-4A1D-8029-DA4E90E065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F672-7D95-42E0-B00C-1B568DBA51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B097-1F23-4F3F-806F-093EABA30C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D136-77AF-4416-A5C3-0D7029A144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ACC8-5773-4C53-9E0E-DB37FAED1A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7369-12DC-45A3-BE75-6F28CD9C56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E97B-9099-450B-A468-EC056877DC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FBF7-0E0C-4410-8D3F-305EAF2A4D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9E3B-C0F7-4DE6-A9CD-10ED422762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BE31-1AEB-40A9-9DB8-0162A9F33A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9AC8-FA10-4BB0-82B6-47CF6059AF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7BF7-8704-4F30-80A6-225C9DBBA8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5EEB-0AA2-4C92-8AD4-73AE27A492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4324-3268-42DA-B1D4-5EDCFF737C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36DD-C4D4-4ED2-8A4D-2AFF6DBBE2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E589-8559-4809-B866-2AC48BEEDC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B8A9-2A74-421B-9166-FF69D835C5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C951-8F4A-4D5F-B3AF-089AF402A3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7DBC-51FE-44FF-983B-3F4A42D42D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52DD-76C3-4EEA-AB63-F5C8F9D4EA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442E-184D-4E15-977B-48F30A3F4F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A318-4172-491F-A632-438B682EA1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94DA-9EA9-481F-8932-2659BDA9D4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7BC1-D696-4C33-913B-135383331C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848A-8C03-4CB3-86F6-94ADE07DA2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0DC0-BD6B-4D89-A85D-24BBB54D85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ED52-81F9-449F-A101-B07FE18856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4D3F-8583-4F84-A117-7BD102C689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13AC-77DB-4947-8702-17147F6090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71DF-48A0-4286-AED6-08BEA8462F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9509-80FA-458D-A6B3-BB5950ED36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A31A-95EE-44E1-9162-1474678954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DC3D-E78A-43A5-8E12-C0079F4B91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03DE-0E76-45E5-9596-0E40FE1E71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DEC7-D8BF-40CF-B497-C0AF213CFB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0AF1-9C40-46A9-859A-D63C95D8CF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5062-DE9A-4EE7-B453-5689C3BD6A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AE1C-7709-42E3-A724-646E0A02DD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659C-10B9-4F8E-97B3-8BC3AFC4AB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862E-415C-4AC0-B276-3535D5C2F7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24FA-9462-4FEB-9269-E9D3F472EA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9A03-F33C-4614-A94C-4DBF5B22CF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3B10-33DB-4E53-9210-5A4CB25A7A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3397-B809-4FEA-A1A0-98CCDEAD3A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28B1-05E4-43B2-86ED-9354F65D57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99F7-371E-45A2-A65A-D62C964AB3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8635-8B7E-44EB-8252-6BF6075015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7612-DEA7-438A-8C77-99D23C02B7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BE29-A76C-44CA-ACCD-8C89981F46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CCE9-3D82-4ADF-BE88-6FB31C11BC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82A8-3652-4FD9-AC60-F51D8D18F0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AF3D-BDE2-4C76-9C62-E213BA66F5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D98D-6245-4A53-8220-D77DB854B0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AAD5-D0A5-40EE-A248-F97B7F637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121A-93CD-4AFD-AE74-9BC0C98A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42C910-E4B0-4ED1-AEF1-C395D82A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9D596E-7103-468D-B63E-0719CF09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2F80A-E1BC-4A8F-8259-50764CD8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BD54D6-5998-44D0-AB64-D7FFEBEE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C64D0-B4DE-442C-86B6-45765518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D28728-C58F-4E67-988C-6D92B4DD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253B87-C9F7-4E22-BD0B-748CCC5C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3FEE2-EBC6-4755-B03A-8F090A42E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E9FF6-5E95-4B0F-AF7C-E7CB41DAA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5459E-DF64-4A38-B77E-C6565F8C8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80F5-2445-45ED-96DA-229AC57EE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7C0467-761D-4EE6-AAA4-60CCC9EA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66EFDD-7B39-4094-9459-2451252B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28BC4A-5AA1-4535-B5C8-0420401B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1BDF30-1915-4D7A-9C0C-CF6E7281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D78E46-681F-4B81-B039-B5EB9FD7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563380-A845-4345-B346-C642437F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7DA3A-53BC-4237-A90A-2EE27709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956671-3004-47BF-9EC5-C38CE5DD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8C4C8-E6FE-4498-A504-91E6A6F7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0F058-9411-4398-BACE-9BB111288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27DF-78BB-4078-9FCC-194ED75A3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06195-AED2-4FFA-8187-55B197775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C674C-BFB8-4D8E-80FD-130B7964D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364F6-6BB0-4A60-B7F0-382C0ADE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5A91D-2CC3-4E63-9728-465F29B2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3442A-F6E3-47F9-9473-895E59E8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0B2C9-0028-4B96-82A4-9E0A122C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1FCA3-3AB4-4CB8-BB7E-078DFD40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52F79-3B78-4653-A010-BD0DE7FF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1677A-81A5-455C-98CC-0BDED3EF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429FC-CC26-4ED3-A443-2BB2B561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FE47-FF12-47D0-AAD4-49B0CA8D0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522D5-5FB1-472B-90C6-ED8FBD08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C74AB-53F8-407A-918C-F7AC83C6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F4E18-55F2-435D-9F5F-797FC4FE4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58D6A6-030B-4E3F-B7AC-CD6ADA9AB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404B49-FE43-42F9-AABC-188B4CC3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531F78-EE85-4F91-AF1B-DFB1B4A4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A5A9B6-B63F-4BC8-AE24-B5D06143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12FCCA-6CC6-4667-8827-CAC3960C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9570FF-534D-432D-9BE6-659653C3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7EF992-8E73-47DD-904E-D813F391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F5EA-4609-454F-A6AD-8093062F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FE02D0-BF04-4EAA-A2A8-625FD2ED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9A58B4-A128-4A7E-8EC7-C6B7880A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1CF52F-C3EE-4423-B68C-4BC6DC59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CD60DB-8438-4C6F-A853-FF6188EF7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871764-70A4-4C45-B80E-263CEF25A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F030-32E2-4BC0-9E1F-2B9A14B0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39AA-723E-4808-AEF1-145405CE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C771-859D-449F-B20C-A5813926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5D75-3B11-4604-A59C-2AD8EFE7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B62F-B263-4273-9003-57CE6E98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1D8F-308E-48FD-BDAD-4531FDE8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8CC0-A2B9-40A7-B7CB-B25334C9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91CB-E446-44E1-8810-926C62EF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9112-5341-4CCA-86DA-609B6709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A9B2-D05B-43A6-B747-21F3FC5DE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A6D4-8835-4FE3-8CAC-76D069CB6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144BF1-1F06-4848-ADE8-BDDD63804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4F3ADA-A0C8-461B-9627-D3855C56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F72CD7-C8FD-4A65-B227-A092827C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606FE4-996D-4155-A212-98228F79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3AC068-E5CD-4B54-B9ED-2C69298E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961C-1636-4B76-897D-26B3888F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04A987-3BA6-48C6-B840-2692DBDA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6AC002-76F8-4064-8069-07769F0B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0D0906-FB13-41C9-AB48-DCC693E4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EF35F0-A9F7-46B0-8008-BBA3B710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6D14C2-14BC-4CCC-85B9-30F6F833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932181-3AA8-4707-A1AE-5A4D4BF52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F6ADD9-F3D4-46A4-BBD8-45BAF4D72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6C71F-3344-4CEE-BE19-62B3478D9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C6FA1-1D0C-4488-873F-2AB500C6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4F23F-7CD3-436A-A1E1-23BE7509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A834-484A-417E-BB12-881C582C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CCADE-3EC9-4AA4-9810-83557909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3BAB0-1B0D-4240-B287-21787647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4DACB-C2E5-45D3-8799-4E6FF650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57BDD-5112-40B9-901D-6224E7B3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2B807-DFEF-4AF2-8450-8F858301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C770D-750E-4416-AE22-C54568A8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D48C5-BF6F-461A-8992-DB1219FE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438C3-3A5F-41CB-A9FB-EC2BB2CBC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D109C-7F4D-4833-B412-EE16B36BF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52062-D5A9-4E1F-B83F-13126B2B7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BBB7-CF35-4FF4-8EE3-D4FEA18D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9DF16-DB6A-43AE-967E-7B1BEE2B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69EB0-7E1A-4479-943C-31D93465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79CCC-48B8-4459-AD15-EEC6D6EA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F1515-0B88-496F-B482-918B539C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D9906-BDD8-4A17-995C-EF644409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F39D1-6E4B-4870-8863-8435A9FA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05D5F-314F-4196-A907-51058893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82776-289C-411C-A560-7EA1A01E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E0A93-6FEF-4C56-AF08-661B65BC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A32B7-BE6A-4622-A9FB-A70D80433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48E1-81F8-4CF6-8801-90684AC6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4D1A6-D73C-48C5-BDF5-02CE7EEA8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CB8A2-EC19-4EF3-AAE0-E29777AAC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2F8C4-6EA9-45D8-82A4-6D140487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785ED-F2DD-4828-B94E-B93CFD60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DF10F-F9FC-402B-AD48-0871C0E7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7955D-C951-4214-80E1-7C6484D8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59D28-40C4-438B-A307-039332B0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52A56-D37E-4A55-9070-21A7F2F1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F3005-9A40-4CAB-A251-09C7D3C3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11196-CC2A-4322-AF95-584D3408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D292-3856-4940-8EDC-9560DEFD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76CDD-2285-4DB4-8101-9518FB80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509D6-6CB8-418F-88EE-00B70AA4E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BD72F-6F78-4723-9953-185704F84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22DD2-F4C8-4699-ABB9-FE6DB6C31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13200-57BD-4732-9829-CF70FB22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7C9D4-BB35-496C-B23A-19D19F68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2C3FB-C32F-41C2-AD48-09A575D5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5190D-0E9B-42D3-AC92-7C41FCEE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55579-7AE2-4796-B2FE-C4CCDB2E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DFD1B-AFCE-492A-899A-620BA984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91FF-8D3B-44B9-A351-32C18549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D04CE-0E48-4207-986E-1D10C39F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8C375-8EA0-4A8A-A9D5-A1635CA9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C2DB6-F2E8-4AB8-A6A2-1192E185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BA677-2900-43D5-A9E6-D867E88CB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1832A-195D-4C2E-B851-322983B02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81A92-10A0-4FBF-A54D-E78D344AE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E1587-92F9-47C8-B086-27EEB4F8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18FB9-4537-4E21-870E-6F0CBEA5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89EBC-B3F2-48AD-9C2D-7458CFCC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07ACA-4C34-441D-9096-541FE6EF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21E7-7548-4910-B209-DF9AF27A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E0320-70F6-4C36-A241-12C5D6E8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C0DA0-D840-4849-A11B-940F88EE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02629-9B35-4470-849D-1FEA3938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8979F-CD00-4344-874A-06B12B06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62D0F-875D-4898-A073-FA65F40B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51860-AB8F-4BE8-A75A-8091782E5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F8131-FB1E-4642-87A9-3BA9687F1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0CC74-6DBE-47B8-BB05-32716F96B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75AA9B-B697-4A0F-AF86-C75E5D66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6B756-B668-416E-8906-78F89765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0BE9-E9CB-4A22-8E77-7EFCA0387D5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9A2DACA-BA97-4E23-B11C-7A6BC27B0F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E8B0-7742-478E-B96E-B1F75460113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3-</a:t>
            </a:r>
            <a:fld id="{A69E976B-9529-4FBE-B935-10DC2CA168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C95C-E14C-4EDA-BCD0-1295C0A14F1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3-</a:t>
            </a:r>
            <a:fld id="{2F3417CD-A01C-4832-9FBE-EDA7101DF6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6846-60BC-40CF-8E0B-01D6FA99139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3-</a:t>
            </a:r>
            <a:fld id="{A44D092D-2957-4511-97F0-674B16363F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7FC3-A5BA-4FFB-BEE5-B1DCACC6F6B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3-</a:t>
            </a:r>
            <a:fld id="{3BE6729D-A42E-4B36-B67D-0465730CB4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876920" y="632412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A5BE-AED5-498A-B7B5-62B1AD28DB8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3-</a:t>
            </a:r>
            <a:fld id="{5D3B54B0-5A04-44DC-8D4E-F41653B640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456840" y="6339960"/>
            <a:ext cx="4343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B7CE-694F-4D47-A956-E8449A82425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3-</a:t>
            </a:r>
            <a:fld id="{8E3AFFF3-DB68-4AC5-8050-1BCF84F157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32CD-BCAF-483F-863D-A7943A993AC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3-</a:t>
            </a:r>
            <a:fld id="{8592E358-4657-44BF-8E6D-87EDC093A9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EA05-82A6-4605-8385-12CDD40F25E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3-</a:t>
            </a:r>
            <a:fld id="{1CCF0F7E-ECE4-4F08-ACF0-1A50DE514C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F6E8-0B44-4912-BB20-6D309859041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3-</a:t>
            </a:r>
            <a:fld id="{F7D25B15-5B0E-438A-8D94-0C7F741A56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7704-6E5E-4463-9430-4DAB8300A31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3-</a:t>
            </a:r>
            <a:fld id="{766B9B73-EA4A-46E3-9717-345F97060C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5FB4-0894-4518-8BCB-1D63A2F07BD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3-</a:t>
            </a:r>
            <a:fld id="{5243AFD6-960F-4400-9861-FCDB25BF11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638680" y="456840"/>
            <a:ext cx="327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5638680" y="1905120"/>
            <a:ext cx="3353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terfaces and Inner Cl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152280" y="0"/>
            <a:ext cx="553572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Rectangle 4" descr=""/>
          <p:cNvPicPr/>
          <p:nvPr/>
        </p:nvPicPr>
        <p:blipFill>
          <a:blip r:embed="rId2"/>
          <a:stretch/>
        </p:blipFill>
        <p:spPr>
          <a:xfrm>
            <a:off x="5937120" y="4943520"/>
            <a:ext cx="3054600" cy="53640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5"/>
          <p:cNvSpPr/>
          <p:nvPr/>
        </p:nvSpPr>
        <p:spPr>
          <a:xfrm>
            <a:off x="5715000" y="6427800"/>
            <a:ext cx="2819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pyright © 2008 Pearson Addison-Wesley. All rights reserv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Picture 6" descr=""/>
          <p:cNvPicPr/>
          <p:nvPr/>
        </p:nvPicPr>
        <p:blipFill>
          <a:blip r:embed="rId3"/>
          <a:stretch/>
        </p:blipFill>
        <p:spPr>
          <a:xfrm>
            <a:off x="8458200" y="6324480"/>
            <a:ext cx="685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bstract Class Implementing an Interf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Picture 4" descr="D13_3"/>
          <p:cNvPicPr/>
          <p:nvPr/>
        </p:nvPicPr>
        <p:blipFill>
          <a:blip r:embed="rId1"/>
          <a:stretch/>
        </p:blipFill>
        <p:spPr>
          <a:xfrm>
            <a:off x="942840" y="1181160"/>
            <a:ext cx="7515360" cy="5295960"/>
          </a:xfrm>
          <a:prstGeom prst="rect">
            <a:avLst/>
          </a:prstGeom>
          <a:ln w="0">
            <a:noFill/>
          </a:ln>
        </p:spPr>
      </p:pic>
      <p:sp>
        <p:nvSpPr>
          <p:cNvPr id="5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B096F499-F127-4A6A-9E77-8534939793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rived Interfa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ke classes, an interface may be derived from a base inte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calle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xtend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interf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erived interface must include the phr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xtends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BaseInterface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oncrete class that implements a derived interface must have definitions for any methods in the derived interface as well as any methods in the base inte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F9706F9F-0A20-44DF-89FD-D06D0BC4DD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ending an Interf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Picture 5" descr="D13_4"/>
          <p:cNvPicPr/>
          <p:nvPr/>
        </p:nvPicPr>
        <p:blipFill>
          <a:blip r:embed="rId1"/>
          <a:stretch/>
        </p:blipFill>
        <p:spPr>
          <a:xfrm>
            <a:off x="971640" y="1638360"/>
            <a:ext cx="7486560" cy="3581280"/>
          </a:xfrm>
          <a:prstGeom prst="rect">
            <a:avLst/>
          </a:prstGeom>
          <a:ln w="0">
            <a:noFill/>
          </a:ln>
        </p:spPr>
      </p:pic>
      <p:sp>
        <p:nvSpPr>
          <p:cNvPr id="5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575EC097-11B3-4184-99DB-C67F822A98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Interface Semantics Are Not Enforc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a class implements an interface, the compiler and run-time system check the syntax of the interface and its imple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ever, neither checks that the body of an interface is consistent with its intended mea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ired semantics for an interface are normally added to the documentation for an interf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then becomes the responsibility of each programmer implementing the interface to follow the semant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 method body does not satisfy the specified semantics, then software written for classes that implement the interface may not work correc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8F58858A-5231-4B33-831C-2D7E34CA9B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Interf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pter 6 discussed the Selection Sort algorithm, and examined a method for sorting a partially filled array of typ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to increasing 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code could be modified to sort into decreasing order, or to sort integers or strings inst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ch of these methods would be essentially the same, but making each modification would be a nuis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only difference would be the types of values being sorted, and the definition of the ord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terface could provide a single sorting method that covers all these 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6A988065-8D70-4713-AD65-DEDD4E6325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Interf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Compara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terface is in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ava.la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ackage, and so is automatically available to  any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has only the following method heading that must be implement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ublic int compareTo(Object other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the programmer's responsibility to follow the semantics of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Compara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terface when implementing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FB78A621-B8ED-4029-8AD4-CE8A6DB282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terface Seman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etho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compareT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ust ret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negative number if the calling object "comes before" the parameter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zero if the calling object "equals" the parameter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ositive number if the calling object "comes after" the parameter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parameter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oth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not of the same type as the class being defined, then 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ClassCastExcep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hould be thr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E49C4BF1-F7E9-4BF0-9772-C3A6179C4D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terface Seman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most any reasonable notion of "comes before" is accep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particular, all of the standard less-than relations on numbers and lexicographic ordering on strings are sui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lationship "comes after" is just the reverse of "comes before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D1D65145-CB7E-4C2C-A5A9-AC6992B731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terface Seman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orderings may be considered, as long as they are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otal ord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ch an ordering must satisfy the following ru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rreflexiv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For no object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oe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me befor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richotom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For any two object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one and only one of the following holds true: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mes befor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mes afte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o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equal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ransitiv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If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mes befor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mes befor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mes befor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"equals" of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semantics should coincide with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if possible, but this is not absolutely requi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B85647FD-1077-4341-B422-8AB35D1155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Interf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llowing example reworks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electionSor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from Chapter 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new version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GeneralizedSelectionSor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includes a method that can sort any partially filled array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hose base type implements the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Comparable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interf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contains appropriat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dexOfSmalle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terchang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thods as we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:  Both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es implement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terf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faces apply to classes on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rimitive type (e.g.,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cannot implement an interf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11425964-1726-4626-869D-DAE3103A7F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fa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something like an extreme case of an abstract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ever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n interface is not a 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t is a type that can be satisfied by any class that implements the interf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yntax for defining an interface is similar to that of defining a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cept the wor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terfa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used in place of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interface specifies a set of methods that any class that implements the interface must h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contains method headings and constant definitions on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contains no instance variables nor any complete method defini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21583F28-7755-47EB-9895-8AC80B107C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eneralizedSelectionSor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: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or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0" name="Picture 5" descr="D13_5_1a"/>
          <p:cNvPicPr/>
          <p:nvPr/>
        </p:nvPicPr>
        <p:blipFill>
          <a:blip r:embed="rId1"/>
          <a:stretch/>
        </p:blipFill>
        <p:spPr>
          <a:xfrm>
            <a:off x="990720" y="1266840"/>
            <a:ext cx="7543800" cy="4829040"/>
          </a:xfrm>
          <a:prstGeom prst="rect">
            <a:avLst/>
          </a:prstGeom>
          <a:ln w="0">
            <a:noFill/>
          </a:ln>
        </p:spPr>
      </p:pic>
      <p:sp>
        <p:nvSpPr>
          <p:cNvPr id="5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92530AEA-7107-4312-ABA2-1263FD2A38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eneralizedSelectionSor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: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or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4" name="Picture 5" descr="D13_5_1b"/>
          <p:cNvPicPr/>
          <p:nvPr/>
        </p:nvPicPr>
        <p:blipFill>
          <a:blip r:embed="rId1"/>
          <a:stretch/>
        </p:blipFill>
        <p:spPr>
          <a:xfrm>
            <a:off x="914400" y="1228680"/>
            <a:ext cx="7543800" cy="4714920"/>
          </a:xfrm>
          <a:prstGeom prst="rect">
            <a:avLst/>
          </a:prstGeom>
          <a:ln w="0">
            <a:noFill/>
          </a:ln>
        </p:spPr>
      </p:pic>
      <p:sp>
        <p:nvSpPr>
          <p:cNvPr id="5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E3013090-FD67-4855-BCA8-4DE5024B72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eneralizedSelectionSor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: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terchang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8" name="Picture 4" descr="D13_5_2"/>
          <p:cNvPicPr/>
          <p:nvPr/>
        </p:nvPicPr>
        <p:blipFill>
          <a:blip r:embed="rId1"/>
          <a:stretch/>
        </p:blipFill>
        <p:spPr>
          <a:xfrm>
            <a:off x="961920" y="1752480"/>
            <a:ext cx="7496280" cy="3533760"/>
          </a:xfrm>
          <a:prstGeom prst="rect">
            <a:avLst/>
          </a:prstGeom>
          <a:ln w="0">
            <a:noFill/>
          </a:ln>
        </p:spPr>
      </p:pic>
      <p:sp>
        <p:nvSpPr>
          <p:cNvPr id="5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7AF6624A-6BB6-4CDC-AEDD-0ABE770D5E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rting Arrays of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2" name="Picture 5" descr="D13_6a"/>
          <p:cNvPicPr/>
          <p:nvPr/>
        </p:nvPicPr>
        <p:blipFill>
          <a:blip r:embed="rId1"/>
          <a:stretch/>
        </p:blipFill>
        <p:spPr>
          <a:xfrm>
            <a:off x="990720" y="762120"/>
            <a:ext cx="7102440" cy="5668920"/>
          </a:xfrm>
          <a:prstGeom prst="rect">
            <a:avLst/>
          </a:prstGeom>
          <a:ln w="0">
            <a:noFill/>
          </a:ln>
        </p:spPr>
      </p:pic>
      <p:sp>
        <p:nvSpPr>
          <p:cNvPr id="6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149648E5-B9FB-40EF-BF18-816CB884DC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rting Arrays of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6" name="Picture 5" descr="D13_6ba"/>
          <p:cNvPicPr/>
          <p:nvPr/>
        </p:nvPicPr>
        <p:blipFill>
          <a:blip r:embed="rId1"/>
          <a:stretch/>
        </p:blipFill>
        <p:spPr>
          <a:xfrm>
            <a:off x="905040" y="1295280"/>
            <a:ext cx="7553160" cy="3248280"/>
          </a:xfrm>
          <a:prstGeom prst="rect">
            <a:avLst/>
          </a:prstGeom>
          <a:ln w="0">
            <a:noFill/>
          </a:ln>
        </p:spPr>
      </p:pic>
      <p:sp>
        <p:nvSpPr>
          <p:cNvPr id="6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7FF18FEA-8B96-4F51-83C0-F35C557BA1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rting Arrays of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0" name="Picture 5" descr="D13_6bb"/>
          <p:cNvPicPr/>
          <p:nvPr/>
        </p:nvPicPr>
        <p:blipFill>
          <a:blip r:embed="rId1"/>
          <a:stretch/>
        </p:blipFill>
        <p:spPr>
          <a:xfrm>
            <a:off x="981000" y="1219320"/>
            <a:ext cx="7477200" cy="4181400"/>
          </a:xfrm>
          <a:prstGeom prst="rect">
            <a:avLst/>
          </a:prstGeom>
          <a:ln w="0">
            <a:noFill/>
          </a:ln>
        </p:spPr>
      </p:pic>
      <p:sp>
        <p:nvSpPr>
          <p:cNvPr id="6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61944853-53C7-4744-8AB8-E62F71A72D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ined Constants in Interfa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interface can contain defined constants in addition to or instead of method head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 variables defined in an interface must be public, static, and fi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cause this is understood, Java allows these modifiers to be omit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y class that implements the interface has access to these defined const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7F18C162-9D1E-471D-97F8-244C7AA85E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tfall: Inconsistent Interfa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Java, a class can have only one base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prevents any inconsistencies arising from different definitions having the same method hea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ddition, a class may implement any number of interfa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ce interfaces do not have method bodies, the above problem cannot a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there are other types of inconsistencies that can a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60098E68-059C-463A-A178-84B7EB8185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tfall: Inconsistent Interfa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a class implements two interfac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type of inconsistency will occur if the interfaces have constants with the same name, but with different val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other type of inconsistency will occur if the interfaces contain methods with the same name but different return ty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 class definition implements two inconsistent interfaces, then that is an error, and the class definition is illeg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FC68592A-899A-4E7F-95AE-E2BC94CA69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Serializabl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Interf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xtreme but commonly used example of an interface is the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Serializab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terf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has no method headings and no defined constants: It is completely emp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used merely as a type tag that indicates to the system that it may implement file I/O in a particular w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3160CF89-DB90-4DE0-BB56-19EFD74EFE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fa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interface serves a function similar to a base class, though it is not a base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languages allow one class to be derived from two or more different base cla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ultiple inheritan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not allowed in J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ead, Java's way of approximating multiple inheritance is through interf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459D5EB7-B831-4D5A-84A3-1D7DD0BD71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Cloneabl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Interf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Cloneab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terface is another unusual example of a Java interf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does not contain method headings or defined const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used to indicate how the metho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clo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inherited from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) should be used and redef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087FB3E4-7B6C-4E8D-8D32-95638A8703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Cloneabl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Interf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etho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Object.clone(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oes a bit-by-bit copy of the object's data in stor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data is all primitive type data or data of immutable class types (such a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then this is adequ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the simple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ollowing is an example of a simple class that has no instance variables of a mutable class type, and no specified base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 the base class i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CD152A95-8530-471B-8FFF-CB524F0F8D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the Metho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lon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 C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8" name="Picture 6" descr="D13_7"/>
          <p:cNvPicPr/>
          <p:nvPr/>
        </p:nvPicPr>
        <p:blipFill>
          <a:blip r:embed="rId1"/>
          <a:stretch/>
        </p:blipFill>
        <p:spPr>
          <a:xfrm>
            <a:off x="942840" y="1314360"/>
            <a:ext cx="7515360" cy="5086440"/>
          </a:xfrm>
          <a:prstGeom prst="rect">
            <a:avLst/>
          </a:prstGeom>
          <a:ln w="0">
            <a:noFill/>
          </a:ln>
        </p:spPr>
      </p:pic>
      <p:sp>
        <p:nvSpPr>
          <p:cNvPr id="6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B359142B-106B-4F19-8336-80EBAFB1D5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Cloneabl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Interf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 data in the object to be cloned includes instance variables whose type is a mutable class, then the simple implementation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lo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ould cause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rivacy le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implementing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loneab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terface for a class like thi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rst invoke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lo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thod of the base cla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or whatever the base class i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n reset the values of any new instance variables whose types are mutable class ty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is done by making copies of the instance variables by invoking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i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lone metho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2C97BFB4-AA7E-4F0C-84C6-996B3B2110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Cloneabl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Interf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that this will work properly only if the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Cloneab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terface is implemented properly for the classes to which the instance variables belo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for the classes to which any of the instance variables of the above classes belong, and so on and so for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ollowing shows an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BE9212C2-5B1E-41AB-9516-AE0331734C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Implementation of the Method </a:t>
            </a:r>
            <a:r>
              <a:rPr b="1" lang="en-US" sz="2900" spc="-1" strike="noStrike">
                <a:solidFill>
                  <a:srgbClr val="000000"/>
                </a:solidFill>
                <a:latin typeface="Courier New"/>
              </a:rPr>
              <a:t>clone: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Harder Cas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0" name="Picture 20" descr="savitch_c13d08"/>
          <p:cNvPicPr/>
          <p:nvPr/>
        </p:nvPicPr>
        <p:blipFill>
          <a:blip r:embed="rId1"/>
          <a:srcRect l="0" t="0" r="0" b="15903"/>
          <a:stretch/>
        </p:blipFill>
        <p:spPr>
          <a:xfrm>
            <a:off x="825480" y="1143000"/>
            <a:ext cx="6657840" cy="490212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9" descr="savitch_c13d08"/>
          <p:cNvPicPr/>
          <p:nvPr/>
        </p:nvPicPr>
        <p:blipFill>
          <a:blip r:embed="rId2"/>
          <a:srcRect l="9447" t="86764" r="37175" b="2410"/>
          <a:stretch/>
        </p:blipFill>
        <p:spPr>
          <a:xfrm>
            <a:off x="1565280" y="5791320"/>
            <a:ext cx="3794040" cy="631800"/>
          </a:xfrm>
          <a:prstGeom prst="rect">
            <a:avLst/>
          </a:prstGeom>
          <a:ln w="0">
            <a:noFill/>
          </a:ln>
        </p:spPr>
      </p:pic>
      <p:sp>
        <p:nvSpPr>
          <p:cNvPr id="65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8440D90B-6311-4FF3-BCDD-0EEDCFD3B6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Footer Placeholder 7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Uses of Inner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ner classes are classes defined within other cl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lass that includes the inner class is called the outer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is no particular location where the  definition of the inner class (or classes) must be place within the outer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cing it first or last, however, will guarantee that it is easy to fi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993ECF0B-8773-4EE0-B9B3-88B9A8163B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Uses of Inner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inner class definition is a member of the outer class in the same way that the instance variables and methods of the outer class are me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inner class is local to the outer class defin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name of an inner class may be reused for something else outside the outer class defin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 inner class is private, then the inner class cannot be accessed by name outside the definition of the outer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0B090551-090D-437E-A8CD-80737F8753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Uses of Inner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two main advantages to inner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can make the outer class more self-contained since they are defined inside a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h of their methods have access to each other's private methods and instance vari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ing an inner class as a helping class is one of the most useful applications of inner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used as a helping class, an inner class should be marked priv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A69522CA-B8D0-410E-9021-448F07D14C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p:  Inner and Outer Classes Have Access to Each Other's Private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in the definition of a method of an inner clas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is legal to reference a private instance variable of the outer 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is legal to invoke a private method of the outer 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in the definition of a method of the outer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is legal to reference a private instance variable of the inner class on an object of the inner 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is legal to invoke a (nonstatic) method of the inner class as long as an object of the inner class is used as a calling 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in the definition of the inner or outer classes, the modifier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equival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7337F923-2A3D-4038-A248-2D0B0FC2AB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fa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interface and all of its method headings should be declared publ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cannot be given private, protected, or package ac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a class implements an interface, it must make all the methods in the interface publ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cause an interface is a type, a method may be written with a parameter of an interface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at parameter will accept as an argument any class that implements the interf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D4EB0C41-19AD-4D09-AD24-75E03F479B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 with an Inner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1" name="Picture 5" descr="D13_9_1a"/>
          <p:cNvPicPr/>
          <p:nvPr/>
        </p:nvPicPr>
        <p:blipFill>
          <a:blip r:embed="rId1"/>
          <a:stretch/>
        </p:blipFill>
        <p:spPr>
          <a:xfrm>
            <a:off x="1017720" y="800280"/>
            <a:ext cx="7211880" cy="5448240"/>
          </a:xfrm>
          <a:prstGeom prst="rect">
            <a:avLst/>
          </a:prstGeom>
          <a:ln w="0">
            <a:noFill/>
          </a:ln>
        </p:spPr>
      </p:pic>
      <p:sp>
        <p:nvSpPr>
          <p:cNvPr id="6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9EDAD82C-C1AA-40F9-8BA8-55FA944849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 with an Inner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5" name="Picture 4" descr="D13_9_1b"/>
          <p:cNvPicPr/>
          <p:nvPr/>
        </p:nvPicPr>
        <p:blipFill>
          <a:blip r:embed="rId1"/>
          <a:stretch/>
        </p:blipFill>
        <p:spPr>
          <a:xfrm>
            <a:off x="952560" y="1171440"/>
            <a:ext cx="7505640" cy="4619880"/>
          </a:xfrm>
          <a:prstGeom prst="rect">
            <a:avLst/>
          </a:prstGeom>
          <a:ln w="0">
            <a:noFill/>
          </a:ln>
        </p:spPr>
      </p:pic>
      <p:sp>
        <p:nvSpPr>
          <p:cNvPr id="6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BA18E71E-2B55-4272-8F7A-29264F015C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 with an Inner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9" name="Picture 4" descr="D13_9_2"/>
          <p:cNvPicPr/>
          <p:nvPr/>
        </p:nvPicPr>
        <p:blipFill>
          <a:blip r:embed="rId1"/>
          <a:stretch/>
        </p:blipFill>
        <p:spPr>
          <a:xfrm>
            <a:off x="990720" y="838080"/>
            <a:ext cx="7134120" cy="5615280"/>
          </a:xfrm>
          <a:prstGeom prst="rect">
            <a:avLst/>
          </a:prstGeom>
          <a:ln w="0">
            <a:noFill/>
          </a:ln>
        </p:spPr>
      </p:pic>
      <p:sp>
        <p:nvSpPr>
          <p:cNvPr id="68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B97A4D6D-4200-41A4-A22E-E4102B1436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.clas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File for an Inner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iling any class in Java produces 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.cla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ile named </a:t>
            </a:r>
            <a:r>
              <a:rPr b="1" i="1" lang="en-US" sz="2800" spc="-1" strike="noStrike">
                <a:solidFill>
                  <a:srgbClr val="034ca1"/>
                </a:solidFill>
                <a:latin typeface="Courier New"/>
              </a:rPr>
              <a:t>ClassName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.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iling a class with one (or more) inner classes causes both (or more) classes to be compiled, and produces two (or more) .class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ch as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ClassName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.clas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ClassName$InnerClassName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.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1ACB2C9A-7CD7-412C-AA67-A0D7E06BC4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tic Inner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normal inner class has a connection between its objects and the outer class object that created the inner class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allows an inner class definition to reference an instance variable, or invoke a method of the outer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certain situations, however, when an inner class must be sta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an object of the inner class is created within a static method of the outer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 inner class must have static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6C242351-F280-4D97-9319-DD68E61AE0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tic Inner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ce a static inner class has no connection to an object of the outer class, within an inner class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ance variables of the outer class cannot be referen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nstatic methods of the outer class cannot be invok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voke a static method or to name a static variable of a static inner class within the outer class, preface each with the name of the inner class and a d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DC15C095-EA3E-4FD9-87E2-8276895B7B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blic Inner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n inner class is marke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n it can be used outside of the outer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case of a nonstatic inner class, it must be created using an object of the outer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ankAccount account = new BankAccount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ankAccount.Money amount =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account.new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Money("41.99"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that the prefix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account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ust come before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new object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mou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 now invoke methods from the inner class, but only from the inner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C33EC43E-6DF9-4613-8E90-3517265513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blic Inner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case of a static inner class, the procedure is similar to, but simpler than, that for nonstatic inner cl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uterClass.InnerClass innerObject =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ew OuterClass.InnerClass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 that all of the following are accep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nerObject.nonstaticMethod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nerObject.staticMethod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uterClass.InnerClass.staticMethod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93A976C4-5EC4-4F6E-A368-6E6ABDFCB5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p:  Referring to a Method of the Outer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 method is invoked in an inner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 inner class has no such method, then it is assumed to be an invocation of the method of that name in the outer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both the inner and outer class have a method with the same name, then it is assumed to be an invocation of the method in the inner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both the inner and outer class have a method with the same name, and the intent is to invoke the method in the outer class, then the following invocation must be use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OuterClassName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.this.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methodName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35388C03-B62D-4D52-A1A4-A9E540DF64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sting Inner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legal to nest inner classes within inner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ules are the same as before, but the names get lon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n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which has public inner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which has public inner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n the following is vali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 aObject = new A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.B bObject = aObject.new B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.B.C cObject = bObject.new C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81CC8B96-6FF3-4DD1-BE5F-1320628D7F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Ordere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Interf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0" name="Picture 4" descr="D13_1"/>
          <p:cNvPicPr/>
          <p:nvPr/>
        </p:nvPicPr>
        <p:blipFill>
          <a:blip r:embed="rId1"/>
          <a:stretch/>
        </p:blipFill>
        <p:spPr>
          <a:xfrm>
            <a:off x="923760" y="1428840"/>
            <a:ext cx="7763040" cy="3317760"/>
          </a:xfrm>
          <a:prstGeom prst="rect">
            <a:avLst/>
          </a:prstGeom>
          <a:ln w="0">
            <a:noFill/>
          </a:ln>
        </p:spPr>
      </p:pic>
      <p:sp>
        <p:nvSpPr>
          <p:cNvPr id="5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1959F612-3B65-41FC-A85A-AAA04DF3C7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ner Classes and Inheri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a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OuterCla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at has a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Inner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erivedClas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OuterClas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ll automatically hav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nnerClas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s an inner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is case,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erivedClas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not override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nner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outer class can be a derived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inner class can be a derived class als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208C250D-61C5-467B-9EA7-D0A9BF4F63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onymous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an object is to be created, but there is no need to name the object's class, then a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nonymous clas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finition can be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lass definition is embedded inside the expression with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onymous classes are sometimes used when they are to be assigned to a variable of another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other type must be such that an object of the anonymous class is also an object of the other 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other type is usually a Java interf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1F436F5B-92F8-43E6-90CE-24CFF2AAB5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onymous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9" name="Picture 4" descr="D13_11a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286160"/>
          </a:xfrm>
          <a:prstGeom prst="rect">
            <a:avLst/>
          </a:prstGeom>
          <a:ln w="0">
            <a:noFill/>
          </a:ln>
        </p:spPr>
      </p:pic>
      <p:sp>
        <p:nvSpPr>
          <p:cNvPr id="7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232A65CF-A0E6-4168-B928-A94DD53254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onymous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3" name="Picture 4" descr="D13_11b"/>
          <p:cNvPicPr/>
          <p:nvPr/>
        </p:nvPicPr>
        <p:blipFill>
          <a:blip r:embed="rId1"/>
          <a:stretch/>
        </p:blipFill>
        <p:spPr>
          <a:xfrm>
            <a:off x="914400" y="776160"/>
            <a:ext cx="6676920" cy="5700960"/>
          </a:xfrm>
          <a:prstGeom prst="rect">
            <a:avLst/>
          </a:prstGeom>
          <a:ln w="0">
            <a:noFill/>
          </a:ln>
        </p:spPr>
      </p:pic>
      <p:sp>
        <p:nvSpPr>
          <p:cNvPr id="7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8D6D2619-39C1-4C59-9937-33268E530D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onymous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7" name="Picture 4" descr="D13_11c"/>
          <p:cNvPicPr/>
          <p:nvPr/>
        </p:nvPicPr>
        <p:blipFill>
          <a:blip r:embed="rId1"/>
          <a:stretch/>
        </p:blipFill>
        <p:spPr>
          <a:xfrm>
            <a:off x="914400" y="1600200"/>
            <a:ext cx="7539120" cy="3422520"/>
          </a:xfrm>
          <a:prstGeom prst="rect">
            <a:avLst/>
          </a:prstGeom>
          <a:ln w="0">
            <a:noFill/>
          </a:ln>
        </p:spPr>
      </p:pic>
      <p:sp>
        <p:nvSpPr>
          <p:cNvPr id="72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E604C858-4A40-49CB-A947-C8DACEFADD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fa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mplement an interfa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 concrete class must do two thing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must include the phr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mplements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Interface_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 the start of the class defin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more than one interface is implemented, each is listed, separated by comm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lass must implement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method headings listed in the definition(s) of the interface(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 the use of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s the parameter type in the following exampl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FC7C109F-C312-4771-AEA1-93B39A4ABD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lementation of an Interf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Picture 4" descr="D13_2a"/>
          <p:cNvPicPr/>
          <p:nvPr/>
        </p:nvPicPr>
        <p:blipFill>
          <a:blip r:embed="rId1"/>
          <a:stretch/>
        </p:blipFill>
        <p:spPr>
          <a:xfrm>
            <a:off x="923760" y="1295280"/>
            <a:ext cx="7763040" cy="3916440"/>
          </a:xfrm>
          <a:prstGeom prst="rect">
            <a:avLst/>
          </a:prstGeom>
          <a:ln w="0">
            <a:noFill/>
          </a:ln>
        </p:spPr>
      </p:pic>
      <p:sp>
        <p:nvSpPr>
          <p:cNvPr id="5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2377771A-AA1D-45EF-9BD7-4623EF5733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lementation of an Interf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Picture 4" descr="D13_2b"/>
          <p:cNvPicPr/>
          <p:nvPr/>
        </p:nvPicPr>
        <p:blipFill>
          <a:blip r:embed="rId1"/>
          <a:stretch/>
        </p:blipFill>
        <p:spPr>
          <a:xfrm>
            <a:off x="971640" y="1295280"/>
            <a:ext cx="7791480" cy="3807000"/>
          </a:xfrm>
          <a:prstGeom prst="rect">
            <a:avLst/>
          </a:prstGeom>
          <a:ln w="0">
            <a:noFill/>
          </a:ln>
        </p:spPr>
      </p:pic>
      <p:sp>
        <p:nvSpPr>
          <p:cNvPr id="5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6979A741-614B-4999-A9D9-23134E6E7E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stract Classes Implementing Interfa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stract classes may implement one or more interfa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y method headings given in the interface that are not given definitions are made into abstract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oncrete class must give definitions for all the method headings given in the abstract clas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nd the interf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24FB794A-996A-466A-B87A-5402413799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Kenrick</cp:lastModifiedBy>
  <dcterms:modified xsi:type="dcterms:W3CDTF">2007-05-28T06:39:23Z</dcterms:modified>
  <cp:revision>13</cp:revision>
  <dc:subject/>
  <dc:title>Slide 1</dc:title>
</cp:coreProperties>
</file>