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A09E-2DB4-4677-8555-2AA948EC6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D40E-FD82-4A69-B015-D25C98083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DE94-FE1E-487B-9367-85D5F8CF4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36C2-BB4A-4ED9-8166-D940DDFA7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DA70-58FD-4D82-8E77-ACC2EC916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A061-995A-46CB-93CC-C38CD4205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8952-A46A-4BFA-9511-3ED73FA40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E0FF-419D-4519-A6BD-C5301C8CA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CC80-CA98-44BC-8F76-2496640E4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AB4D-C205-4CAC-8EC6-9C53A4693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746F-387F-42D5-A539-8F510A586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B587-2F90-4249-9B18-5C6435D86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242E-BD62-475D-ABAF-4364EC667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A6C6-C86F-4032-B4A9-41E8DA71C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2107-2D3B-4F7E-98F7-76A327C6B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7352-7427-4C46-95F0-732DB35EF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5300-5C68-43D8-933B-693192051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A4F7-F3A1-4030-A11F-CD376B678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DF5A-D486-4AE5-A52C-9C852E547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A3EF-8F1E-428F-A614-454BC2D74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0922-C3F2-47E6-9E1B-42607901F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2A15-670C-4C4E-972C-8FE470635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C12-1C85-432E-B3C5-398CDEA3F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B639-4716-402A-A6FC-239D2D829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9D55-AB80-469F-B05A-91BB0D70A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1F88-FFC6-4CC5-AE6A-F3A2D9FB1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F174-C11F-4052-BB52-23E9F5124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573E-251E-4FB7-86E5-B045AEEC0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317F-F398-4430-939C-31491E31C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A6C1-FCD8-4F18-87C7-EFD286EE2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BFE3-94EF-478E-A6EF-4E48FB37F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49A7-7CAD-414A-8577-544E6490B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C137-110E-4F1F-9A48-57393C8D6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D95C-3E27-47C2-B431-B0CA99F80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B235-3172-4FA3-A557-D49274D5C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1445-89B7-43BF-9864-48242BFD3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17EB-676C-475E-B180-17C1BEBE4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988D-6110-428E-A6BA-994C1DDB3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4E33-8584-48CC-9F46-2B92478AA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DEBD-FB7D-401E-BC4B-C293729F5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35DC-BC10-4303-88D5-4995D17E2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3852-E8B0-4C24-8DEE-F58053C72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7AB0-6E13-438F-84F1-7C81EB23A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AF9-DFAD-4624-A554-0B21DE02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7A0-E9B5-48A7-B53B-9CB21B23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37FD3-F40E-4977-87A3-29CED410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0DD3D-7D90-4B95-9F0D-B1FAED12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27477-1DC2-4E3A-8C69-1BCE24B3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81553-DBAC-460C-9203-5A1DF02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9D411-61F8-4E92-963B-B88252F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81C24-7F34-40D8-BF8A-B7CE4BF2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F5A25-A4D6-4CA5-AE0F-A0E61766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32F5A-956E-4700-BCF7-C2A54B23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71EEA-D53F-454A-8D04-CCC3CBA3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F447C-5F62-4C3A-B541-7B986D5C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E1F-5131-4C66-A737-D9754D0F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31902-D193-4584-8DF1-02849E7C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65416-1EC1-4C74-A0D1-CC462353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887B4-C2E1-4B73-961B-513B9955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E5E1F-03F2-4334-91C3-203B45E6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E2BB5-AA1E-4ED0-85D6-F0E44B6D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783CE-3D48-4F3A-927D-9054392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CADAB-A356-4C2D-A5BD-957FCF35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F60ED-33FF-4AA1-AD5B-37359FE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F1575-97E4-4C3D-A30D-B4724B75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D4474-E3A6-4C8C-A64B-F985EA4D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458-A480-4E7A-8E2C-B6BF7221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BE901-DEF4-4289-A196-35334360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24715-A453-4A0E-9650-6A6D0261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24220-11D9-46A7-98AC-1CE82996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3C32E-34F7-4DEE-AB5F-2FE4CB8F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C56AC-DFCB-4FD9-8C91-8FCF7CA8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D3BF4-CDFF-4BA1-A799-B802654A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6A43B-298B-41EB-B280-AEA616B0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C56D2-CB56-4E5E-8FEC-8B699D66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43EE7-4557-45D0-B74E-943EC2B0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BCDCE-2BBC-4DC1-95FE-09DDC901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1870-25C6-4F19-A096-1BA16427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49549-CFC7-4321-8FC2-99A185B4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71885-E077-4DB6-A867-9CC82338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F382C-DE2F-4386-AB3B-382F92BA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D3493-0F68-47AD-8B42-D57FDD3A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0137A-BB73-4D27-9A2B-DCEB6FB3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C6DD5-66BB-4B80-B594-78934F4F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C4A9D-002F-42EB-8BA8-A54FCC0C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06218-C1C5-401C-877E-98A66273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AE292-CCE1-4AB3-9B46-132C60F5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8F521-7C79-4CB9-AAAE-CC0CAC08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2186-6DC2-4C63-95C0-D4DA4BC6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FFA4D-6E19-42D9-8FC2-1C32EA87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4BF77-8F75-42B7-8033-E21F96D1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9C37C-5188-4CC5-A402-0EA43172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2DB1D-7E2B-41FE-A13B-F2DFA7E5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473D3-4175-4438-8EAF-8510DB54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B863-BD5F-4C1B-BE9D-6E90D713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8BAE-C8B5-440D-B220-98B812B5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1D2C-9DEE-40B1-85A8-E64FA895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55B2-6754-4F8D-B765-711C7203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4CB4-20FC-405C-975A-3EC82CE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790-AFF4-4E26-84D6-EDB8E5B2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326E-8A77-4AB4-974F-D08D3F2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E5F1-5C1F-4FF6-837C-9913CE91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8183-F929-4CBE-BD9D-FDF0CFA0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AB20-5D49-400C-89A2-9633FB42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C0EA-58E9-4CB1-8100-1EE09300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8A797-2CAF-4246-B76E-558A4260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E2992-5833-42E3-B2B6-B611C3A7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FB996-97F6-455F-97A2-4B500405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EF34C-E1DE-42EB-9E01-E69E6C66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6BF41-F222-4D3F-A013-B665F029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A11-718E-4EEE-BFCC-FF9D6F5A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59534-1E84-48C3-97C0-24FB236A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02016-FFA8-424B-A053-649D165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3B7AD-C973-43D0-AC59-11EC3B1E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6F6C1-4631-498B-9123-167DCE4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ED9F04-A261-43B0-BE47-B1AA0299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89990-D3B2-47DD-A68B-63A344B4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041BE-A1B7-438E-8405-1E2E9ABC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0FA30-FD4F-4562-96E3-CD59C6B9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24CD-4A33-4267-B63F-D4682659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9AF2-0B5C-4304-BF91-812F15B7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516-3A78-47E9-AFC5-0EA5EA33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9C56-6BB1-40A8-9DC9-84CC56D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8333A-F182-46B2-B77D-AFF84BAA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703E-3466-4AE8-91FB-23426B55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12D75-5F86-4EE6-82E9-720C9B8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31497-7BEE-477B-B622-54B302D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0026-59F8-423A-9460-640EAE8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5DB8-8980-41DD-83A0-B591B2C0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3E95E-EBF8-4127-A8A9-718D47DB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AC45-46D6-4DD0-AE04-FCC8F6A7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C8689-8597-479E-AEC5-99A8A61A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047-6F2F-42DB-8D13-852D76F8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6BF99-9D04-48C8-9AFD-77A3D487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84F1-9E01-4E1F-ADB7-F0BC4E69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D263-FDC6-47F2-9CA4-F34D1A94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159B4-F376-4D56-8916-C8644C97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45FA6-7F5B-4C6A-AD20-6F70FC2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E0F2D-D5F1-4F2C-B330-2F1BE1E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D0BC-604C-4040-9761-D585813F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5CD50-44E7-45CE-8C65-7C6E526C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295C3-898C-4BC5-9CE3-AE5C6E88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9A89E-AE72-4FC9-9575-79C7C688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EFE-D2FA-424A-A447-4BAB1339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C7D3B-A7DC-4121-97E1-B7CDBB4F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C6C81-1A0D-4413-8B6D-5DA8FB5A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2A772-0B4B-449B-B7D1-3B3A0CE9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531CD-ABDB-49EF-BAE0-CFAAF034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85521-367F-4C83-82C5-922FA362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0018B-55AB-4351-B922-07346A95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D8FE-64B0-4930-AA0E-B218442C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F5711-7197-44A5-80CE-E3DBBACE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288E4-B90A-4BEC-AA71-B6B82242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5B339-11FC-4A14-A6E4-31317C80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1FD-01BC-4FB7-8150-87286DFF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29F51-43BC-4DF4-B484-AC45C588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9E35D-0FF3-4C16-83C5-2C314B93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69E7B-FE66-4285-AC7E-346FA3F7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C0E8-98B0-4111-8A23-7E03333C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BD27-D154-4B19-BF41-4385912C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DEBF1-9E45-4BF8-A2BF-4452919D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7F007-C39D-48CE-8795-5BC35789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F033F-C2A4-44DD-8E74-F8180955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508E5-433F-4E44-9AEE-7E39EBF2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07303-8F76-4A4A-A90A-7DC13D9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E5A2-CB24-4528-A385-8E10E9B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EA914-1FDC-4E6C-860E-C04A50EB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C3C0-BEBA-4753-BEE7-EF78F4C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2448-BCD1-449E-9B79-FEF8F7B6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0B546-C60D-4E35-A825-2338B611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98094-DA2B-4B36-9AB8-00B96222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C275-C6B0-4CB8-B421-E14ACE5A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3A747-175A-4CB3-B0A2-BD5A5F20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5D646-0A6B-46E8-875A-7EE5CAB2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0CD3C-C184-4CB0-897E-B7258AD0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2BF87-D0C4-4E56-B1B6-0DEE0D77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B26-72BB-47F2-8887-730DBC7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71F49-CB3C-447C-BD7D-D1854DEB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B9864-1BF5-4C33-8D7C-F51134A5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0F9EC-BF52-440D-98DF-AAE13705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B5BE9-65FA-44E4-B418-BB6DDB9C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1BF5A-3284-4523-91A6-BE83F4CB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8A21A-B9E4-4A62-9768-FF67C0E4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8F5EE-85CD-4E3C-9E38-EE8841D9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07FA6-1319-4A44-93B9-4BA0A406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99051-305D-4804-A891-045E9A4B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543C5-AA47-40C4-9667-A85C3531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59DE-5D59-4D10-A1B5-EC219235823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8E55753-17D9-4893-BAD5-E7DF4B1A4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E80-04B1-4D25-91FF-ADAC6E1DA35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669EC658-8B86-493E-8322-52F897384C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9A1B-7CA5-4D64-84FB-9700DA43C3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906B8686-784F-4283-BFF8-8CC5ED3E6B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B8BA-5CAB-4EFC-A236-7F8350F2557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F46C0E7B-3443-483B-88FC-BE03FC6B6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81A9-37AC-4302-A501-6AFE45E91BC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497EC4AA-E201-451A-88C4-DF628A15E9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2A8B-8F78-4968-B7F7-D45F450FA7B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5903B1B7-50E7-4259-A61C-B65219F08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A929-485F-40D1-BE00-73D3E293DE6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54E6B971-64CC-451F-A11A-45817D0C5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8B52-E491-4EF4-843A-6FD54EDE914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F2ED93D3-D4EE-4CDB-A081-4B4935CF9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F9F2-D299-45D2-814C-08F61B657C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B2FFC5F1-4C43-4E3E-96F6-C74898DBA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3544-528D-4F90-B4AE-E9E421ED0CB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982514BF-AACD-43D7-8595-2B83EDB9E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B80C-A413-416E-A923-00BF4E32B2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D9031EF1-A49C-4DBF-9092-C2D2071ED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AF97-E931-4C05-A2E8-9E44B645672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27A4A289-B3AE-4202-BE40-386E79F616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olymorphism and Abstract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ouble bill(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pri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ouble bill(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fraction = discount/10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(1 - fraction) * getPrice(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195775D3-FC5E-477A-86BC-E0E1BFC0E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957240" y="5470560"/>
            <a:ext cx="7461360" cy="53640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following in a progr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simple = new sale("floor mat", 10.0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 discount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("floor mat", 11.00, 1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discount.lessThan(simple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$" + discount.bill()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 &lt; " + "$" + simple.bill()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 because late-binding works!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would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$9.90 &lt; $10 because late-binding work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90E60088-31FA-4736-8446-7253B991B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previous example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pression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return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output indicates, whe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ssTh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s executed, it knows whic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to invo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whe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as created and compiled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and i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did not ye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results are made possible by late-bi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245F3416-858F-4780-A20A-74666279A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decision of which definition of a method to use is made at compile time, tha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tic bi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ecision is made based on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ype of the variable naming th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uses static, not late, binding with private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static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cas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, late binding would serve no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in the case of a static method invoked using a calling object, it does make a dif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4DF2FD94-951A-433C-9FB8-636044579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nouncement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announcement(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Sale class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nouncement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announcement(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DiscountSale class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D097858B-07C2-4A53-892D-69E373705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revious example, the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)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scount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bjects were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he following assign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imple = discou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the two variables point to the sam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variable name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4640D7DB-67D5-4529-911A-371356D39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942840" y="2873520"/>
            <a:ext cx="7504200" cy="50796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he invo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imple.announcemen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utpu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here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nnounc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tatic method invoked by a calling object (instead of its class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 the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determined by its variable name, not the object that it 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F7FCF1C5-4CF6-4DD3-A70F-4B4727920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other cases where a static method has a calling object in a more inconspicuous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a static method can be invoked within the definition of a nonstatic method, but without any explicit class name or calling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case, the calling object is the implicit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708DBFEF-0C1E-4FBC-BBF2-95989E92B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od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k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dicates that it cannot be overridden with a new definition in a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mpiler can use early binding with the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final void someMethod() 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k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dicates that it  cannot be used as a base class from which to derive any othe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B840CC4B-84BC-4B7A-895C-F2FC3D218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1752480" y="4390920"/>
            <a:ext cx="5867640" cy="53352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appropriat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defined for a class, then an object of that class can be output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aSale = new Sale("tire gauge", 9.95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aSal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produce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re gauge Price and total cost = $9.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orks because of late bi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Binding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1B321638-D0F2-475D-BD0B-47AC2B90E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hree main programming mechanisms that constitute object-oriented programming (OOP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morphism is the ability to associate many meanings to one method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this through a special mechanism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ynamic bi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AFF98087-89A2-4997-B090-E89D27B7D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Binding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definition of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akes a single argument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println(Object theOb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theObject.toString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urn, It invokes the version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takes a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was defined befor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exi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t, because of late binding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s used, no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16DBE16E-02FA-4983-BF78-5C98DE749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knows the Definitions of its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of a class variable determines which method names can be used with the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object named by the variable determines which definition with the same method name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al case of this rule is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of a class parameter determines which method names can be used with the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gument determines which definition of the method name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F1CAB237-687A-49DF-B99D-93AF3303A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asting and Down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pcas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when an object of a derived class is assigned to a variable of a base class (or any ancestor cla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saleVariable; //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 discountVariable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("paint", 15,10); //Derive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Variable = discountVariable; //Upca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saleVariable.toString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of late binding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uses the definition given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8DB54BE9-8D33-4225-830E-987C07532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asting and Down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owncas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when a type cast is performed from a base class to a derived class (or from any ancestor class to any descendent cla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casting has to be done very carefu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any cases it doesn't make sense, or is illeg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countVariable =              //will 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DiscountSale)saleVariable;//run-time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countVariable = saleVariable //will 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compiler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times, however, when downcasting is necessary, e.g., insid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for a cla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otherSale = (Sale)otherObject;//downca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4ADFF07D-E412-462C-9858-9D736377B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Down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responsibility of the programmer to use downcasting only in situations where it makes s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does not check to see if downcasting is a reasonable thing t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downcasting in a situation that does not make sense usually results in a run-time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8FB8978C-C671-4501-A100-32FE615C2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hecking to See if Downcasting is Legit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casting to a specific type is only sensible if the object being cast is an instance of that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exactly wha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 t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instanceof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ill return true if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it will return true if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instance of any descendent class of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A6E787D4-44AE-4F0E-BC77-E0841246B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irst Look at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object inherits a method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no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supposed to return a deep copy of the calling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e inherited version of the method was not designed to be used as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each class is expected to override it with a more appropriate v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978D0444-CBFB-4C42-A856-334CECEC7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irst Look at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eading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define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otected Object clone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eading for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that overrides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can differ somewhat from the heading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hange to a more permissive access, such as from 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s always allowed when overriding a metho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ing the return type from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the type of the class being cloned is allowed because every class is a descendent class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an example of a covariant return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847ED9FC-54F3-4275-BF2B-24E9A81FE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irst Look at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class has a copy constructor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for that class can use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py construc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create the copy returned by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Sale clon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eturn new Sale(thi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other 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DiscountSale clon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eturn new DiscountSale(thi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76012E64-7CAA-4148-A809-45B2363C8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Sometime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Return Type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version 5.0, Java did not allow covariant return typ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were no changes whatsoever allowed in the return type of an overridde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or all classes ha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its retur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return type of the clone method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return type of the overriding clone method of any other class w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3285BCE7-7D22-4910-96CC-3ED13D049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ance allows a base class to be defined, and other classes derived from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e for the base class can then be used for its own objects, as well as objects of any derived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morphism allows changes to be made to method definitions in the derived classes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 have those changes apply to the software writt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379D84E6-3B2E-400D-8369-BBF18A6A67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Sometime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Return Type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 to Java version 5.0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ould have looked like th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Object clone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new Sale(thi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the result must always be type cast when using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written for an older version of 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copy = (Sale)original.clon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BC37BD26-07D4-4201-9AFF-E611DBFCB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Sometime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Return Type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still perfectly legal to use Object as the return type for a clone method, even with classes defined after Java version 5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n doubt, it causes no harm to include the type 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he following is legal for the clone method of the Sale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copy = original.clon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dding the following type cast produces no probl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copy = (Sale)original.clon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956FF552-1AC5-44C8-85A1-BB95EF42F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Limitations of Copy Constru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the copy constructor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or a class appear to do the same thing, there are cases where only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given a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adcop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copies an array of s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is array of sales contains objects from a derived class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.e.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then the copy will be a plain sale, not a true 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[i] = new Sale(a[i]); //plain Sale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D32EDD7B-623B-4BDB-B438-7C9AE790B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Limitations of Copy Constru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used instead of the copy constructor, then (because of late binding) a true copy is made, even from objects of a derived class (e.g.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[i] = (a[i].clone());//DiscountSale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ason this works is because 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the same name in all classes, and polymorphism works with method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py constructors nam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different names, and polymorphism doesn't work with methods of different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DE230417-32ED-4C7D-B4D9-20CFE00BE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bstract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hapter 7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se class and two of its derived classes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aried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ere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 is added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ompares employees to to see if they have the same pa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samePay(Employee oth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(this.getPay() == other.getPay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E0AC5784-AEF0-4471-9558-B2EADEBEE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bstract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problems with this meth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invoke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mePay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 in each of the derived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n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, nor is there any way to define it reasonably without knowing whether the employee is hourly or salar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278BA6EC-2F75-4E07-B730-794FCEB85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bstract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al situation would be if there were a way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pone the definition of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 until the type of the employee were known (i.e., in the derived clas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ve some kind of not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to indicate that it was accounted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prisingly, Java allows this using abstract classes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6125A13D-28E6-4AA6-A2F8-1CBBED6E3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bstract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postpone the definition of a method, Java allows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stract meth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e decl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bstract method has a heading, but no method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dy of the method is defined in the derived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that contains an abstract method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strac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EDDEC5D7-FBDA-4AB1-8611-004927E6F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bstract method is like a placeholder for a method that will be fully defined in a descend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a complete method heading, to which has been added the modifi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not be priv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no method body, and ends with a semicolon in place of its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abstract double getPay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abstract void doIt(int cou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74CBAA4B-55B0-4401-95D0-CE07214D8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that has at least one abstract method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strac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bstract class must have the modifi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cluded in its class hea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abstract class Employ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instanceVariabl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abstract double getPay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2618C499-A72D-4016-99C9-EA2226A69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of associating a method definition with a method invocation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method definition is associated with its invocation when the code is compiled, tha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arly bi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method definition is associated with its invocation when the method is invoked (at run time), tha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te bin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6F77AA8B-B0B0-40E9-9C0F-6AF454DFB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bstract class can have any number of abstract and/or fully define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derived class of an abstract class adds to or does not define all of the abstract methods, then it is abstract also, and must ad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bstrac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ts mod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lass that has no abstract methods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ret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D3A3BE90-8077-4189-BF5E-B89AD5495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You Cannot Create Instances of an Abstract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bstract class can only be used to derive more specialized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 it may be useful to discuss employees in general, in reality an employee must be a salaried worker or an hourly wor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bstract class constructor cannot be used to create an object of the abstrac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derived class constructor will include an invocation of the abstract class constructor in the form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14100EC6-E770-40FC-AE3F-3EE2EF817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An Abstract Class Is 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an object of an abstract class cannot be created, it is perfectly fine to have a parameter of an abstract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makes it possible to plug in an object of any of its descendent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so fine to use a variable of an abstract class type, as long is it names objects of its concrete descendent classes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CB20DA5F-1416-4820-87DF-921ADE655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uses late binding for all methods (except private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tatic metho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late binding, a method can be written in a base class to perform a task, even if portions of that task aren't yet 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n example, the relationship between a base class call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ts derived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be exam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6F4D927D-BC6B-4308-B4AB-772668C1A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contains two instanc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name of an item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price of an item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ontains three constru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o-argument constructor that se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No name yet"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price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wo-parameter constructor that takes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f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f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py constructor that takes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as a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9B454E3E-1B80-49BE-A07D-9F62773AB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also has a set of accessor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mutator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overridd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, and a static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nounc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has a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at determines the bill for a sale, which simply returns the price of the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s two methods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De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ssTh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ach of which compares two sale objec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 comparing their bi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return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C521E04C-C33A-4D43-A580-283A4E741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nherits the instance variables and methods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it has its own instance variabl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percent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and its own suitable constructor methods, accessor method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Dis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mutator method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Dis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overrid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, and static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nounc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has its ow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which computes the bill as a function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B18DA3CD-8E86-4035-BAAE-FA3CEEAF0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ess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nvoc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lessThan (Sale otherS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otherSale == nu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Error: null object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(bill( ) &lt; otherSale.bill( 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1CE2FB23-08CE-4AE7-8017-089D3DDBD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7:41Z</dcterms:modified>
  <cp:revision>13</cp:revision>
  <dc:subject/>
  <dc:title>Slide 1</dc:title>
</cp:coreProperties>
</file>