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87A8-EEB8-429E-AA77-E27CAB238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6CF5-F862-4E77-B395-15F9E037A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31EE-28DE-415F-B920-C63C81F03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E677-8865-4CDB-BAB9-9A718A832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8E48-A19F-4BAB-BE52-054662B67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C11A-CA1F-4467-AEBA-C1C0CC854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4DF4-CFCF-4E08-BC9B-C3D38C766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E09D-F113-49EC-BA3C-DDDD806FD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B724-2A63-4EDB-93DE-CC09196B5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D0CA-687D-4382-A90A-67590014A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9C50-AE6B-4317-B201-2DF045B0A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1B56-F9EA-4E3C-87B5-3D368042A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25D2-225B-406B-A741-9220A4F2E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2ADD-B933-4351-9996-A6DB205A0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10E5-1244-4A4F-9969-606AA4C4C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8667-4227-444A-9AD0-BC38F34EA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0591-99B0-4D5E-98F2-C5E4D1D9F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1E5A-31FE-4FFD-BF09-31528B698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0661-E33B-4665-A8EB-A86A98BD5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4828-BF94-4691-AE08-BCC8D4D19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E4B9-4EF0-4FB6-BEC1-A7C2BDED2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69D4-3821-4C09-8BFE-1360C3CE7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2A56-8A31-46A1-B445-095600F93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7A6C-E1E6-441A-94DB-D9882FCEB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7F3C-3A3B-42BF-BA74-B9E7EDC2F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3DE6-D3AC-4E59-B989-86469BE0F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3C8D-627E-437A-9960-7201E80D3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BD5D-F9BC-4DB8-8CA0-3C2B8775F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9AD9-EAA7-4B38-958A-3C6D350D1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486E-96B5-42F9-82A0-F25361EDA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1489-1589-4E21-AB3D-3B6D19B19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DF73-DCA7-47B6-9F88-964F7C2CF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5FE1-D3B0-49A0-97F4-EB81C7FF8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72AD-A57E-41C0-9943-FCA0B1B9A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B785-C0EB-4D9F-8309-30A5902C7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2956-0F8C-4284-8AF1-A724789E7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E019-CD9C-4075-921F-7EA06739D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B412-2F56-4508-9607-AF01B429E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E724-EE27-4C9A-BF7C-853CEC7CA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AB0C-C53A-41F6-8AA4-09A4C78E5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2B80-0C66-4A50-B812-D3E42DA58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48C1-1C2D-4720-A883-06AD32BE0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AB0A-99AE-48D0-A672-CCBBC79EA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902E-DF09-4332-9A51-DD8B3E861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212C-EB19-4BC5-A3E7-18B961B4C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9893-6C13-46A0-8A59-6C0D925B6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8F69-84B9-44C8-BD50-65E987F37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46F3-1E3B-4EC9-BAD2-6D9679861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8E83-4D2D-4C9B-997F-5BE87A81F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803A-5AE9-41B1-BEC6-6562FF4C0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E284-BC2D-4AFD-8533-33487C164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4707-8860-41CF-B342-9726AAE85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AAEE-D154-40F4-AC0D-EEE3CFFB7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DCE2-C665-4F0E-B064-A0A5D92E7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CB62-2CAE-493B-882A-B93BE1AC5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18DA-1E53-4412-81BA-1BFCDD52D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13CB-B972-4DC1-A41C-864FB0893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0416-0808-4CD2-B49E-356A14CC0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C67C-285E-4CA1-915C-9CCD3F3A0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0998-F0F8-4FFA-B19E-23DD0270B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84B8-ED55-40BF-A85B-2C65DC3A4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59A8-66F7-4508-B212-F52B26021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A707-D4B4-45E1-AA20-1F83FDA5D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A71-9389-498E-8624-8B8EDAAD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B36-5877-48EC-9DBB-208FE7BF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2AB7E-161F-4C85-AAC7-960149EC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EB7D9-07C3-46EA-83F4-5B61C9FB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AD5C5-9D93-47B4-8CEF-0E3FE273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C5ED2-1A51-45C1-AABA-1BBEEE60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15A8B-C433-4302-B5E3-C2F2B648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88BA1-1B2E-406D-B418-2125CC47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3460D-222B-45DB-8461-BD1DD42F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42B5E-1DFC-4B2F-920C-2A62B79A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0209D-AE09-4CFE-8579-F4EFD25E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9DDDD-DC1F-43FD-9CD4-2A359C79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EB1-1DCF-4242-876B-FBE5E290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D7809-C956-4F8A-BF80-8307B397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688FE-F685-423B-83CB-D5D7E77F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54A77-BE29-4584-9F25-D187A618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F00A5-3D3B-42A5-9F19-640A621B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7BA7B-531A-41CC-AA55-D2F58FCF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12C0E-0322-406E-874F-A1D54CA9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905A7-B93B-43C2-B972-9499F88A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6681F-C195-41B2-A073-6BA3EDF5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B5442-598A-416F-83FF-A20D5617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A4061-7B02-47C7-88C3-2AB0EE4E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964-F847-43BF-9894-4E37FC3B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42513-1696-450A-AE7D-1F19C0AD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3888F-7B89-4DCD-87E9-5EA33A69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AFAF8-3C12-43B8-8D91-7ECE371E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EC0E6-50D9-4D76-8FE3-52ABCF25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8F389-ADCA-462C-94CC-473CD9EF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9BD8E-D8D5-401A-8D11-CB390C18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32DA8-3902-4BDF-A69E-E60270ED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D8272-DA6F-4372-B362-740BC945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36AF6-8907-487F-8CDF-ACBB56F1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726CF-2467-4FE3-8402-230E6010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C0A0-A5A9-4BC8-B0F8-CA29F10E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0A811-5AF8-4FDD-ABB8-06204129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D3FC0-9DF3-4051-A650-FDACBE0C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389B1-E7BC-4496-9DB8-78C6BAF3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D2852-CF4C-4D23-AC29-7D2CECE3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025B8-F038-44F9-90E1-353E83D0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E6A43-7DB8-49C4-BCF7-D95A6A98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ACFC4-2768-4CCE-A40A-C6E0CEC9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F8355-367E-4E0A-B868-65DD81D5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E509D-B261-4133-84F0-37EAF0AC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0CFA7-8389-4D4D-B7AF-85B4D36D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56E3-E12A-4C11-B87C-29F8A02C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D9736-FE1F-4B48-BEFB-6CA99E78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97DB1-0557-4A6B-AB5D-3CF93579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6FD95-BC4F-4783-A1E4-1D34E97A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C724D-75FF-46EF-9204-970F772C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F130C-14FC-4EBF-98BD-8520BEBA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EF24-C51B-4037-931A-19C0663B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2F4A-5FD3-4270-8121-62445F83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DA2C-7189-459F-A14B-B16AD2E4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9749-2037-45A9-A6FC-810AAAB7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B357-FC64-4808-88A2-5F596024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EE7-675A-4E56-B28C-1E9B2EF1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D28A-DFC4-4245-9577-960FA1F6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787E-848C-49FE-93E2-6BDF5D06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579D-7F27-4CC5-B0F8-CEE2A9E3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CCEB-731F-4AE8-A011-5CD5B15A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F55B-5673-4C25-92B0-1F5492CC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10DDC-A524-456F-950B-08E6CF4B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30C84-1AF6-4FB6-ABD9-6544101A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8D5BC-D813-4DA2-B78A-CF355B3F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B3A9F-6525-412B-BA6E-1AB7B201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8F631-2B09-46CF-B79C-6AA6FDB2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F59-AACA-459C-879C-951BB7D5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42653-55BC-4789-9890-0DBE995E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C4714-8B2E-4538-9BB0-23773B5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AAA5F-4893-4B50-8588-0CAED907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787A6-1B44-4B9C-9E3E-805B47FF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BB6EE-F523-44C4-B463-DF93A594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16ED7-6763-486D-8C33-91399E88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5B6AD-53E1-4AE6-A42D-03ABD479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18872-6E8C-48CB-A2DC-90A863F8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7F174-449A-4006-808F-BB8ACBF3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60651-41C8-4012-BE02-B9ABC5BF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CFF2-4E2E-44D1-A550-48794093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8A567-D31E-473A-B83B-417A408B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AE975-4F7A-4F8D-AF17-F8DA3F83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50F16-7E85-4E58-94B6-263A2F39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00444-DC0E-4CE1-B296-0FB9685D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75D80-46ED-4271-883A-71A0E0C7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D794D-8077-4A22-A4D6-2A08FF94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5D767-9A84-4568-8651-0047D40C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7F69A-9DF8-47F9-B2D1-643106E4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63F6D-F3C1-4422-A9A9-145395C8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50261-9A7C-4951-8A10-01DC3AAB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188-D0C0-4D06-B6DF-7587F858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C94F8-35F1-4124-808D-16C12C7E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CC5D9-1EE3-4BBF-AC30-61B3C640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A9633-CD9E-4F64-8E03-783584DA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D16B9-AA94-444B-AEDE-73D957F7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75EE1-FA2A-41A5-B968-D5DB088C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85CA3-C580-44C4-9E98-221A8593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506FB-46FA-4AF3-89F1-4D333A08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E2A59-7FA7-40E4-9FAE-318D0CA2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3BF84-12E3-4279-933E-956CF946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D7297-D016-4220-A2A6-AA50C78F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646-13E2-4A99-8BAD-8E2A8340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CBFBB-306D-4ECC-AE27-C0A8F42B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41137-2997-41C7-A64A-AB5A8BDC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97C4E-01A1-48C9-B7FA-F8317207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65B79-4E9A-4C04-9CD0-E82AB300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32B1A-3C1D-4206-97F1-23CBFAD0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8040F-6357-4CF5-A7CB-8A9684F0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13D36-91FC-4F75-A353-02C45916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BF9E9-6F48-408D-BDB4-5CC89B2A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E7434-1B88-4AA0-96F6-D751C1D0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BD267-E37B-4677-B3E2-EBADB873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9CE-369E-4B14-B2DB-46976750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5A3D1-BCF6-4DBA-9A19-701D3CB7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909CA-0FE2-474B-95A3-5E78F336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10053-0CC2-437C-ADF2-0A48ECAD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BE076-4DB7-4436-9872-D21890FB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266BB-F6CC-4C75-A293-E1EFB5B5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18AD6-D88D-41A9-94CA-BEB1A8CA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BB066-1D80-4F2D-87D7-2E0966A1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E5C9D-FA5C-4024-8CCF-00A46179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05DC6-66A3-4A24-8918-9DD5360B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C1911-11BF-49F2-931F-4C7927DE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A0B-A67C-4615-8EBB-8B222B9B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2B265-3E66-422A-8D93-596C956E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3A7AF-06EE-45A7-9E7E-F37AC568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64C6F-1334-4A33-9188-798917D3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0D1E4-901C-40C5-8D93-7DE868C1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2B32E-5E95-4688-AE4E-B2C61189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2B05A-14F5-464B-A0D6-5F17699B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6FB60-F276-4910-B32B-C47DAACC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E3737-B8F4-40CB-B044-DB77789F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22564-1C9A-4038-85FC-1C6FA7DC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73C96-EAC1-4960-AD82-D36A42C8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CD82-CA0B-4CA7-9137-D1569AE6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5A7FE-D055-4AED-A900-5B4B448D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E22A5-533B-4571-8D41-132185AF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D0C6D-4503-4146-97F8-418CF208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8F7C5-6267-4A5B-952C-E8C148C1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34E85-6EC7-4AD3-A64E-56FEBE1E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4807F-1368-496A-995E-A3F05F8E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8B18D-30BA-4A82-9AB0-1B9B927C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05630-319D-4094-A7B9-343BB944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8FE7F-3B3B-4EE4-B362-4799A997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BDCD4-A174-40F6-A13A-3B9B6480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7973-3574-4268-AB1C-8CAD1A482FC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60C5E1C-B535-45F0-8B5D-66112E0932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C20B-B288-4DAC-94A4-FE57324E829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AA0A4577-38C9-44B2-9182-ACA0408619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50FC-E960-456D-9748-E9AF7242371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57389D8E-FC77-4B3D-9692-4BE009CFF6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EA95-BE4F-48F3-8FF4-A0B6BD344B5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9D01567A-CBD4-4A92-82FB-44A7BC4EE5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BBD4-4E8A-489F-BD00-41B665F21A0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9836B0D6-3816-4BDF-BB11-AEE2D19549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A751-7297-4AE0-A3AF-1FE4DD035AB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D95447ED-ACFC-4140-8502-300ADFA3B9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13C1-6C15-47A3-BF82-B36A424691D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8BCFE680-08A9-435F-8282-D95BCA9D7C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CED4-2746-474C-ACF2-8CAB1765135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C86D3F04-4D4D-4A0B-BCC2-E3A87D0D0E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F3F2-25EB-4303-A6CC-23CADD5D6F9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610CD648-432F-4234-A671-9E52D0F0C8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09F6-F994-46F8-B760-9169638D874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5AB30391-3F67-4018-8C21-D3020DCE45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8C94-A92F-4940-A4CE-4D7FB64B783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29874068-DFC9-4D12-BD53-3E002ED43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F7BB-F6A2-4BC5-BBE4-3A2820C6B6F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8066906F-8D0A-4C23-A1E9-C4A0B8D900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p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ching pairs of commands may be nested inside one another, but they may not cross each oth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ike Java, HTML commands are not case sens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HTML file is a text file whose name should end wit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Formatting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6858000" y="2666880"/>
            <a:ext cx="1600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h1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center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K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/center&gt; &lt;/h1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743200" y="2666880"/>
            <a:ext cx="1600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h1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center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op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/h1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/center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3" name="Group 13"/>
          <p:cNvGrpSpPr/>
          <p:nvPr/>
        </p:nvGrpSpPr>
        <p:grpSpPr>
          <a:xfrm>
            <a:off x="2209680" y="2859120"/>
            <a:ext cx="524160" cy="907920"/>
            <a:chOff x="2209680" y="2859120"/>
            <a:chExt cx="524160" cy="907920"/>
          </a:xfrm>
        </p:grpSpPr>
        <p:sp>
          <p:nvSpPr>
            <p:cNvPr id="554" name="Line 9"/>
            <p:cNvSpPr/>
            <p:nvPr/>
          </p:nvSpPr>
          <p:spPr>
            <a:xfrm>
              <a:off x="2209680" y="2863800"/>
              <a:ext cx="0" cy="898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10"/>
            <p:cNvSpPr/>
            <p:nvPr/>
          </p:nvSpPr>
          <p:spPr>
            <a:xfrm>
              <a:off x="2209680" y="3767040"/>
              <a:ext cx="517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12"/>
            <p:cNvSpPr/>
            <p:nvPr/>
          </p:nvSpPr>
          <p:spPr>
            <a:xfrm>
              <a:off x="2216160" y="2859120"/>
              <a:ext cx="517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7" name="Group 14"/>
          <p:cNvGrpSpPr/>
          <p:nvPr/>
        </p:nvGrpSpPr>
        <p:grpSpPr>
          <a:xfrm>
            <a:off x="2319480" y="3171960"/>
            <a:ext cx="421920" cy="907920"/>
            <a:chOff x="2319480" y="3171960"/>
            <a:chExt cx="421920" cy="907920"/>
          </a:xfrm>
        </p:grpSpPr>
        <p:sp>
          <p:nvSpPr>
            <p:cNvPr id="558" name="Line 15"/>
            <p:cNvSpPr/>
            <p:nvPr/>
          </p:nvSpPr>
          <p:spPr>
            <a:xfrm>
              <a:off x="2319480" y="3176640"/>
              <a:ext cx="0" cy="898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16"/>
            <p:cNvSpPr/>
            <p:nvPr/>
          </p:nvSpPr>
          <p:spPr>
            <a:xfrm>
              <a:off x="2319480" y="4079880"/>
              <a:ext cx="416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17"/>
            <p:cNvSpPr/>
            <p:nvPr/>
          </p:nvSpPr>
          <p:spPr>
            <a:xfrm>
              <a:off x="2324520" y="3171960"/>
              <a:ext cx="416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1" name="Group 18"/>
          <p:cNvGrpSpPr/>
          <p:nvPr/>
        </p:nvGrpSpPr>
        <p:grpSpPr>
          <a:xfrm>
            <a:off x="6103800" y="2851200"/>
            <a:ext cx="757080" cy="1255320"/>
            <a:chOff x="6103800" y="2851200"/>
            <a:chExt cx="757080" cy="1255320"/>
          </a:xfrm>
        </p:grpSpPr>
        <p:sp>
          <p:nvSpPr>
            <p:cNvPr id="562" name="Line 19"/>
            <p:cNvSpPr/>
            <p:nvPr/>
          </p:nvSpPr>
          <p:spPr>
            <a:xfrm>
              <a:off x="6103800" y="2857320"/>
              <a:ext cx="0" cy="1242360"/>
            </a:xfrm>
            <a:prstGeom prst="line">
              <a:avLst/>
            </a:prstGeom>
            <a:ln w="9360">
              <a:solidFill>
                <a:srgbClr val="034c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Line 20"/>
            <p:cNvSpPr/>
            <p:nvPr/>
          </p:nvSpPr>
          <p:spPr>
            <a:xfrm>
              <a:off x="6103800" y="4106520"/>
              <a:ext cx="747720" cy="0"/>
            </a:xfrm>
            <a:prstGeom prst="line">
              <a:avLst/>
            </a:prstGeom>
            <a:ln w="9360">
              <a:solidFill>
                <a:srgbClr val="034c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Line 21"/>
            <p:cNvSpPr/>
            <p:nvPr/>
          </p:nvSpPr>
          <p:spPr>
            <a:xfrm>
              <a:off x="6113160" y="2851200"/>
              <a:ext cx="747720" cy="0"/>
            </a:xfrm>
            <a:prstGeom prst="line">
              <a:avLst/>
            </a:prstGeom>
            <a:ln w="9360">
              <a:solidFill>
                <a:srgbClr val="034c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5" name="Group 22"/>
          <p:cNvGrpSpPr/>
          <p:nvPr/>
        </p:nvGrpSpPr>
        <p:grpSpPr>
          <a:xfrm>
            <a:off x="6345360" y="3164040"/>
            <a:ext cx="523440" cy="617400"/>
            <a:chOff x="6345360" y="3164040"/>
            <a:chExt cx="523440" cy="617400"/>
          </a:xfrm>
        </p:grpSpPr>
        <p:sp>
          <p:nvSpPr>
            <p:cNvPr id="566" name="Line 23"/>
            <p:cNvSpPr/>
            <p:nvPr/>
          </p:nvSpPr>
          <p:spPr>
            <a:xfrm>
              <a:off x="6345360" y="3166920"/>
              <a:ext cx="0" cy="610920"/>
            </a:xfrm>
            <a:prstGeom prst="line">
              <a:avLst/>
            </a:prstGeom>
            <a:ln w="9360">
              <a:solidFill>
                <a:srgbClr val="034c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Line 24"/>
            <p:cNvSpPr/>
            <p:nvPr/>
          </p:nvSpPr>
          <p:spPr>
            <a:xfrm>
              <a:off x="6345360" y="3781440"/>
              <a:ext cx="517320" cy="0"/>
            </a:xfrm>
            <a:prstGeom prst="line">
              <a:avLst/>
            </a:prstGeom>
            <a:ln w="9360">
              <a:solidFill>
                <a:srgbClr val="034c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Line 25"/>
            <p:cNvSpPr/>
            <p:nvPr/>
          </p:nvSpPr>
          <p:spPr>
            <a:xfrm>
              <a:off x="6351480" y="3164040"/>
              <a:ext cx="517320" cy="0"/>
            </a:xfrm>
            <a:prstGeom prst="line">
              <a:avLst/>
            </a:prstGeom>
            <a:ln w="9360">
              <a:solidFill>
                <a:srgbClr val="034c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2B48C810-9C0D-4030-A446-062AE9B3A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ooter Placeholder 2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 of an HTML Docu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tire HTML document should be enclosed in the pai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html&g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/html&g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the beginning and end of the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ead of the document is enclosed i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head&g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/hea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ead is not displayed when the page is 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records information that is used by a brow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ead can contain a title, enclosed i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title&g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/title&g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itle is used as a name for the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17BCBDBA-7E60-4D65-A569-88404676C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 of an HTML Docu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t of the document that is displayed on the screen is divided into two p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dy is the real content of the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enclosed i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body&g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ther part should contain the e-mail address for contacting the document's maintainer, and the date that the document was last mod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enclosed i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address&g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/address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53280381-8C19-4C52-A286-0AC2B0BCA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line of a Simple HTML Document 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990B3687-0BCC-4672-938D-8B4538721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676440" y="1824120"/>
            <a:ext cx="7789680" cy="3209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line of a Simple HTML Document 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082821F6-7928-4629-8804-D2513BEE5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676440" y="1461960"/>
            <a:ext cx="7789680" cy="393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line of a Simple HTML Document 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9A81E113-945A-43BC-8C57-A41B42355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676440" y="1971720"/>
            <a:ext cx="7789680" cy="291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HTML Document (Part 1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DEE4FDA1-4F75-4301-B091-D3263419C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676440" y="1619280"/>
            <a:ext cx="77896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HTML Document (Part 2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BF298753-5CAC-4850-B562-FA9AAABAD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676440" y="1395360"/>
            <a:ext cx="778968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HTML Document (Part 3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F5A5AA2A-3463-4A5A-B1A5-0A6CD2DD0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676440" y="1814400"/>
            <a:ext cx="7789680" cy="3229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owser View of HTML Docu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1AF208AD-FD1E-414E-9142-BA4213829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286520" cy="501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va programs are divided into two main categories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pple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pplication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ordinary Jav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pplet is a kind of Java program that can be run across the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648DCF15-9F15-4953-A7E9-1D02ADB34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R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name of an HTML document on the We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L is an acronym f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iform Resource Loc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Ls often begin with </a:t>
            </a:r>
            <a:r>
              <a:rPr b="1" i="1" lang="en-US" sz="2800" spc="-1" strike="noStrike">
                <a:solidFill>
                  <a:srgbClr val="034ca1"/>
                </a:solidFill>
                <a:latin typeface="Courier New"/>
              </a:rPr>
              <a:t>ht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the name of the protocol used to transfer and interpret the HTML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browsers will fill i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ttp:/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 it is omit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57DBE7A9-AC75-4836-940C-0A4C266BD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er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xt can be marked as a hyperlink so that if a user clicks that text, the browser goes to another Web page specified by the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a href="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PathToDocument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TextToCli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PathToDocume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a full or relative path name to an HTML file, or a URL to any place on the W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TextToClic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be displayed and underlined by the brow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9F2F2665-D900-4D1B-988A-5C5BD5DF3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rting a Pictu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icture can also be inserted in an HTML docu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img src="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PathToPicture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PathTo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a full or relative path name to a file with a digitally encoded pi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ommonly used picture-encoding formats are accepted, such a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gi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tif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C0B53DBC-4FB8-445B-B7D6-6BAF14472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HTML Document with a Hyperlink and a Picture 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46EC6E14-EC26-4BEB-A66E-44865E2E0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757080" y="1395360"/>
            <a:ext cx="762804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HTML Document with a Hyperlink and a Picture 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1AE0EC3C-EDEE-4673-8605-B9867C7F6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Picture 2" descr=""/>
          <p:cNvPicPr/>
          <p:nvPr/>
        </p:nvPicPr>
        <p:blipFill>
          <a:blip r:embed="rId1"/>
          <a:stretch/>
        </p:blipFill>
        <p:spPr>
          <a:xfrm>
            <a:off x="704880" y="1595520"/>
            <a:ext cx="7732800" cy="3666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HTML Document with a Hyperlink and a Picture 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73B1ACCB-B0C6-4CAB-ADFF-704AD4922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804960" y="1514520"/>
            <a:ext cx="7532640" cy="3828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iew of an HTML Document with a Hyperlink and a Pi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Picture 13" descr="savitch_c18d05"/>
          <p:cNvPicPr/>
          <p:nvPr/>
        </p:nvPicPr>
        <p:blipFill>
          <a:blip r:embed="rId1"/>
          <a:srcRect l="0" t="7979" r="0" b="2232"/>
          <a:stretch/>
        </p:blipFill>
        <p:spPr>
          <a:xfrm>
            <a:off x="811080" y="1200240"/>
            <a:ext cx="6562800" cy="5234040"/>
          </a:xfrm>
          <a:prstGeom prst="rect">
            <a:avLst/>
          </a:prstGeom>
          <a:ln w="0">
            <a:noFill/>
          </a:ln>
        </p:spPr>
      </p:pic>
      <p:sp>
        <p:nvSpPr>
          <p:cNvPr id="63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A85B7A24-E0F9-4D8F-B041-379207C40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Not Using Your Browser's Refresh Com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 normally keep copies of the most recently viewed HTML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helps the browser retrieve a page quickly when someone returns to that 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feature can be a problem when designing and debugging an HTML 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 change is made to a page, and that page is viewed again, it may still look the s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because the copy is being viewed, not the new 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 have a command to reload a page, and thus get the most recent version of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usually called "Refresh" or "Reload", and is a button or menu i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DBB6424D-5060-4254-B6D6-23F5DA02D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Other Languages for Authoring Web P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ML is a low-level language for a Web browser much the same as assembly language is a low-level language for a 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Web page designers today use a high-level Web page design language that translates into 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 Dreamweaver (Macromedia, Inc.), FrontPage (Microsoft Corporation), and GoLive (Adobe Systems In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09076D9D-B295-496B-BE8C-C7E9C416F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amming Appl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meant to suggest a sma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ets were intended to be small programs run over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re are no size constraints on appl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ets can be viewed over the Internet, or without any connection to the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pplet is similar to a Swing GU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fact, almost all of the Swing techniques can be used in appl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1B887FF2-AD76-4F59-B0B1-3BD2341E7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rief Introduction to HTM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TM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nds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ypertext Markup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yperte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ext viewed on a browser that contains clickable entrie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yperl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link or hyperlink is clicked, the document specified by the link is display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ML is a language used to writ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TML docum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a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will be viewed on a Web brow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95AD806B-E2C5-4B91-AEA9-8D98B0CAB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ng an App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pplet class is normally defined as a derived class of the clas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JApp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in the packag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vax.s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lso an older class,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ppl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which has been superseded by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JAppl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D4C96A9B-3AB8-484D-A6ED-6733EFBBB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ets in the Class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A99677DE-01DB-497F-B26B-14E1EDAF5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72040" cy="52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ing an App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pplet class can be designed as a derived class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much the same way that regular Swing GUIs are defined as derived classes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an applet normally defines no constru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erforms the initializations that would be performed in a constructor for a regular Swing GU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F6F86A97-CF13-4B79-A24B-E8AA46F81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ing an App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 can be added to an applet in the same way that a component is added to 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to add components to an applet in the same way that components are added to a 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F5ABE68B-E1D3-4169-A8DE-92FA32513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(Part 1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5643AE15-1E49-4E37-A099-3FBAA8327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2" descr=""/>
          <p:cNvPicPr/>
          <p:nvPr/>
        </p:nvPicPr>
        <p:blipFill>
          <a:blip r:embed="rId1"/>
          <a:stretch/>
        </p:blipFill>
        <p:spPr>
          <a:xfrm>
            <a:off x="676440" y="1452600"/>
            <a:ext cx="7789680" cy="3952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(Part 2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600CAA57-5173-4EA7-A1F3-00660D018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608960" cy="4886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pplets Differ from Swing GU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of the items included in a Swing GUI are not included in an appl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ets do not conta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Visi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ets are displayed automatically by a Web page or an applet view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ets do not have tit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, they do not us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Tit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normally embedded in an HTML document, and the HTML document can add any desire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7E065B1C-1258-451B-B4D6-5C68C4108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pplets Differ from Swing GU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ets do not use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Siz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TML document takes care of sizing the appl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ets do not have a close-window 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they do not have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DefaultCloseOper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HTML document containing the applet is closed, then the applet is automatically clo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5F8C4398-F230-4752-9B32-5D4EF20E5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nning an App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pplet class is compiled in the same way as any other Java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an applet is run differently from other Java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ormal way to run an applet is to embed it in an HTML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pplet is then run and viewed through a Web brows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AFBAD0E2-0952-4259-A48C-98086E71C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nning an App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pplet can also be viewed using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pplet vie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pplet viewer is a program designed to run an applet as a stand-alon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Jav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ppletvie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 to run an app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ppletviewer FirstApplet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be necessary, however, to create the HTML document, and place the applet in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69765E55-AB6A-49F4-B84B-0C53F5E17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rief Introduction to HTM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ML is made up of a collection of simple commands that can be inserted into a text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onverts the text file into a document meant to be viewed with a Web brows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ommands allow pictures and hyperlinks to be inse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s are editing commands that specify the main heading, subheading, paragraph beginning, and so fo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AB4258F9-D8A6-43DA-AC23-9EB9CA1B1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nus in a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App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us are constructed and added to 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JAppl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s they are for 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pple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a method nam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JMenuB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behaves the same as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JMenuB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of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also have menu bars added to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to a panel that is part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2A83DC46-751E-465C-A0CF-2F26BCFE4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Converting a Swing Application to an App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astest and easiest way to explain how to define an applet, is to explain how to modify a Swing GUI to transform it into an ap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ive the class from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Appl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tead of from the 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 the constructor with a no-parameter method name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ody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i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can be the same as the body of the deleted constructor, but with some items remov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89B8EB77-E39A-44C7-88B3-41DFA7D7C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Converting a Swing Application to an App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e any invoca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e any method invocations that program the close-window button of a windowing GU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e any invoca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Ti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e any invoca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Siz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applet was generated in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00EE3660-ACD6-4A67-A451-72BEB3D5D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1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47984F0B-DE7F-4C3F-9770-1C4C85A60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738360" y="1990800"/>
            <a:ext cx="7665840" cy="28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2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3F2A4269-9C72-478A-8962-BC0F7A4D3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Picture 2" descr=""/>
          <p:cNvPicPr/>
          <p:nvPr/>
        </p:nvPicPr>
        <p:blipFill>
          <a:blip r:embed="rId1"/>
          <a:stretch/>
        </p:blipFill>
        <p:spPr>
          <a:xfrm>
            <a:off x="733320" y="1976400"/>
            <a:ext cx="767556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3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FBABF374-6DC5-4205-A763-C077CC077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757080" y="1643040"/>
            <a:ext cx="762804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4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B4D6A4FC-97E3-410A-BE68-37D26A94E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1"/>
          <a:stretch/>
        </p:blipFill>
        <p:spPr>
          <a:xfrm>
            <a:off x="747720" y="1876320"/>
            <a:ext cx="7647120" cy="310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5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D78BFB96-2685-4F2F-8AD1-848218FC7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7"/>
          <p:cNvSpPr/>
          <p:nvPr/>
        </p:nvSpPr>
        <p:spPr>
          <a:xfrm>
            <a:off x="1066680" y="53341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Perform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identical to the one in Display 17.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Picture 2" descr=""/>
          <p:cNvPicPr/>
          <p:nvPr/>
        </p:nvPicPr>
        <p:blipFill>
          <a:blip r:embed="rId1"/>
          <a:stretch/>
        </p:blipFill>
        <p:spPr>
          <a:xfrm>
            <a:off x="709560" y="1666800"/>
            <a:ext cx="7723080" cy="352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23080" cy="428652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6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728531CA-8E1D-4672-B5AD-91FE17727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7"/>
          <p:cNvSpPr/>
          <p:nvPr/>
        </p:nvSpPr>
        <p:spPr>
          <a:xfrm>
            <a:off x="2986560" y="3809880"/>
            <a:ext cx="54295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 methods assumingCorrectNumberFormats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ringToDouble are identical to the ones in Display 17.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7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8FBB33AE-F46D-4E44-BFF2-4E1D7106B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8" name="Picture 2" descr=""/>
          <p:cNvPicPr/>
          <p:nvPr/>
        </p:nvPicPr>
        <p:blipFill>
          <a:blip r:embed="rId1"/>
          <a:stretch/>
        </p:blipFill>
        <p:spPr>
          <a:xfrm>
            <a:off x="700200" y="1452600"/>
            <a:ext cx="7742160" cy="3952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rief Introduction to HTM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of HTML is simply a language for formatting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HTML is not a word proces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more like a very simple programming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similar to the annotations used by copy editors to mark a manuscript before it is typeset for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ML is not part of the Java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can be interaction between HTML and J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ML can be used to display a Java applet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64A46744-477B-4457-A730-0A212A96C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8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F19985B1-8386-468C-B90A-8A6653B71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2" descr=""/>
          <p:cNvPicPr/>
          <p:nvPr/>
        </p:nvPicPr>
        <p:blipFill>
          <a:blip r:embed="rId1"/>
          <a:stretch/>
        </p:blipFill>
        <p:spPr>
          <a:xfrm>
            <a:off x="709560" y="1866960"/>
            <a:ext cx="77230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9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51C8E3FB-2C0E-45BC-85B7-C2DDB55EE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1"/>
          <a:stretch/>
        </p:blipFill>
        <p:spPr>
          <a:xfrm>
            <a:off x="795240" y="1395360"/>
            <a:ext cx="755172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con is a pi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typically, but not always, a small pi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con can be stored in a file of many different standard forma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ch as .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i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.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if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r .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mageIc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used to convert a picture file to a Swing ic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it can be added as a component to any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ntain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, such a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App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ageIc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avax.sw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ageIcon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NameOfImageIcon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=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ageIcon("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PictureFileNam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4162F8C3-8E4C-4C97-84DD-69FCCCAD6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Icons to an App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siest way to display an icon in an applet is to place it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Lab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three lines create a label, create an icon, and then add the icon to the lab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Label aLabel=new JLabel("Welcome to my applet.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ageIcon dukeIcon = n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ageIcon("duke_waving.gif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Label.setIcon(dukeIco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aracter pictured in this icon is named </a:t>
            </a:r>
            <a:r>
              <a:rPr b="0" i="1" lang="en-US" sz="2400" spc="-1" strike="noStrike">
                <a:solidFill>
                  <a:srgbClr val="034ca1"/>
                </a:solidFill>
                <a:latin typeface="Calibri"/>
              </a:rPr>
              <a:t>Du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is Sun Microsystem's mascot for the Java langu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EC1662E1-0A9E-4488-9023-7CA97F32A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with an Icon (Part 1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6FD10A73-0F26-411D-BA81-6E83EEF28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1"/>
          <a:stretch/>
        </p:blipFill>
        <p:spPr>
          <a:xfrm>
            <a:off x="676440" y="1743120"/>
            <a:ext cx="7789680" cy="3371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with an Icon (Part 2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5BB244C6-647E-40FC-A552-B3E0C278B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tretch/>
        </p:blipFill>
        <p:spPr>
          <a:xfrm>
            <a:off x="709560" y="2257560"/>
            <a:ext cx="7723080" cy="2342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with an Icon (Part 3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821B5C3E-9497-444F-A238-69CEC976D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90040" cy="4600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ing an Applet in an HTML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pplet can be placed in an HTML document with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pplet ta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applet code="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PathToApplet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idth=Number1 height=Number2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given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.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le name only, then the HTML file and the applet file must be in the same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PathToAppl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a full or relative path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87DF61B9-403E-4244-8312-7DEABBAC6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ing an Applet in an HTML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name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ile, no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ile, is gi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also that the width and height of the applet is given in this command, and not within the applet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idth and height are in pix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code, when placed in an HTML document, will display the calculator applet in a browser as sh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applet code="AppletCalculator.class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idth=400 height=300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4815719B-FDAF-43B9-9465-6BB4084A4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in an HTML Docu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titl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Vampire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/titl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applet code="AppletCalculator.class" width=400 height=300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040B1BEB-C5AA-4C5D-B766-67A545F1D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Formatting Comman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basic kinds of HTML command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ose that mark the beginning and end of a section of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ose that mark a single location in the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s that mark the beginning and end of a section of text have the for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Comman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ome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/Comman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0FC8A918-9D6E-4D83-9479-3D1A47E50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owser 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50562DDE-5069-4E43-A70C-87BC3B1BE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2" name="Picture 2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905280" cy="532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Using an Old Web Brow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ld browser may not be able to run applets from an HTML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if a java application runs correctly on the sam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browsers do not use the same Java Virtual Machine used to run regular Java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ld browser will have an old Java Virtual Machine, or perhaps, no Java Virtual Mach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an applet viewer will work, as long as a recent version of Java is inst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2857C128-ABC8-463C-9422-47DC010DE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ets and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pplet can be a program, written by someone else, that runs on your 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ever someone else's program runs on your computer, there are security questions you should as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 it read information from your fil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 it corrupt your operating syst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ets are designed so that they cannot do any of these things (at least easi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D301F649-F457-4AEA-A524-71CEFA292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Formatting Comman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llowing makes the phrase "World's Greatest Home Page" a level 1 head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 1 is the largest standard h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h1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orld's Greatest Home 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/h1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er headings, Level 2 and level 3, are generated by the command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h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h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so fo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2EB1369D-69DB-43E7-A756-7F8FD8D3D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Formatting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s that mark a single location in the text are not closed with the command of form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/Command&g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the horizontal line comman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hr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s in HTML are relative commands, instead of being absolute commands that determine exact size or lo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rowser determines the exact sizes and 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DF99EFD7-DDC9-44D3-AB43-3736AE74A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Formatting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rowser normally determines the location of line breaks in the displayed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a line break can be forced by inserting a break comman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br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layout specifications can be made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thing between the command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center&g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/center&g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be centered on the pa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ABD7D9D2-2B00-415A-85B8-27B7D2F17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42:11Z</dcterms:modified>
  <cp:revision>15</cp:revision>
  <dc:subject/>
  <dc:title>Slide 1</dc:title>
</cp:coreProperties>
</file>