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CF72-A51E-45E0-B990-E1F1EDDD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AEB4-B2FF-4C2E-989C-F1B7618D2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C4F-0B3B-49FE-8E9F-BFBB4DB8E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19A-7B7B-4C5D-AADA-32CCF151B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68FA-69F6-45D7-84A5-284CC7676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6CE3-8C56-4C90-ABA4-6CF08CDC5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2CB8-5AA2-4B2A-ADA6-AD9D99A62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460A-D117-4C4E-91D7-C82422832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9F7-6FA2-4398-8867-5359663B1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299C-046F-4D88-9190-F82B024B9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4803-0814-42DB-8BC6-D8B774594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82E3-F547-4EB6-9496-B747B9158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3596-1AE7-4AF5-BBD0-326780BB8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58B-DFFB-40DE-A165-41718FA1C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AC33-679E-4A46-84BF-04CD66992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E129-AB7E-4A2B-AF0F-63D1374A2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C671-861B-4701-915D-D5680E187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3CFF-1A83-4311-A681-531FC1E08A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4D36-27EE-4B30-99BE-BDABFC7D9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145-790C-4542-A78E-37635B971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414C-1D05-4CD8-B7E1-BA9BEBBFF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7B2-D2E7-4FB6-9A82-1C091E095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D464-14C5-43C3-819B-756F0BFAF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1E8-D338-4736-9B97-C28FABA11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E020-A0D9-41B2-80EC-D3E50C1A8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B13-D72B-4554-9A70-6E227247F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C43D-CC33-4995-B04E-D96E35F3E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A059-6D00-4423-8F55-F9B3AD2CE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E24C-FEC3-48C2-BC2A-FABC9E4E3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E32-E083-4E9A-BE56-CC311E17E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A747-A176-4402-B9B6-DA78D1A77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A954-F38A-44BE-9D19-45514987F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5A1-2164-49A0-A0F2-18C322AC2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9560-3355-4D71-B853-EE85D27E8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CC9C-3F10-47E9-BD0A-697687463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251E-55A9-43F0-98E3-B78E67882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F13-E0A5-4947-9C2C-8CACA2C33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6EC-E067-4A7C-BB7C-12E4E4DAF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B0C-281C-4FE8-9BC7-24B6696D7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5AB-8EDD-436F-A449-F33048DE1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B4BB-7D82-4265-9B65-B51B433EC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F506-B7E2-4848-B5D3-DD340D991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914-6C36-4BEE-8212-4C51820B1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8B2-8F8C-4E58-BD2F-FF1616FE3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2CC6-6C89-4638-8081-0E6D639EE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56D-990C-44B0-BEC9-7F9F0A9DB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74C2-ADD5-40B3-BA54-4427FA2A1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CEF-E682-49EF-ADBA-777DF3D05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0A92-E42B-44C3-B5B0-70FE9B2AA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D2DD-7ABD-4DD6-B377-A953FE339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55EF-DBE6-4714-8D8B-A524D6172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AB0-D898-4DA8-B528-B9F336503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7120-6BBE-445B-990B-9786DB2D2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E521-A0A0-42C1-A6AD-87AF56414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8B29-B517-4DF8-B3B5-647B5A532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D67-52A2-492B-B904-3B6C145F8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563C-C85E-4986-90BB-5B72A770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0D9C-7235-4009-A211-6B13E8BF0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0EA-A1C9-4863-9AE5-B7BD09CD0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254-A2D3-4119-8D91-39D8B6594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59B-AA35-4870-B00D-6A3F4C9710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91B9-A5C6-4403-8BD4-EA464D2F4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174-8E91-4F72-BFE7-F85DD631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79B-6C15-46E4-A896-FFD4F6C6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D6477-8CBD-4468-8D6E-9232D19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6FB4E-E59C-4BE9-8ECB-87D7B9D9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08F65-FB7E-470B-8F1C-E0454C7F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54F33-A8F6-4556-BC1B-BA58F037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E0B82-A735-410A-91C2-9C7118E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48CC2-E3E5-4615-A5BD-39C48DA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C658-8D91-4CE8-BCD5-D3181E6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7984E-642C-43D0-AEA7-99B5B9D4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7B36F-C5F8-48C9-B974-0BF54D71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B1EAC-1F12-423C-A435-E227D2B0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2CF-5C77-4309-AEFC-5BC5A3A5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1DD2F-B6B7-4BD2-AADC-CEF616B9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F17E9-A6CA-4212-9063-E886E4CA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A4E72-81B5-4C9B-AA8E-85174D8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A9F77-06D4-46B8-A28F-9ACD6175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A4A6-545E-48B1-A112-258E6BA8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C61DF-0F26-4753-AA58-7D98FBBE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4F55-E70E-41F9-B700-314D5D9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6B43F-B07A-4F13-BFB1-7E68709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E5479-1F6A-48FD-8450-E11AE08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7C5AB-0D87-468C-BFA6-0530AF11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A30-D7DF-4315-8569-B7322121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86B52-BF31-418C-9238-FEB0C46A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4BBF6-1FDD-4FF1-850A-DCD257A3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25D84-6F12-4EE8-BADE-815A4C5C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E5FB3-F391-4CC4-B21B-AAFEBD6E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17A9C-F009-44CC-993E-8F71B4C0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DA420-4F51-400D-BE10-42FEE29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9A7FC-0D11-4652-9EBB-B51034AA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DA634-AE11-4D07-803E-F7336E2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D7B30-F0EB-4ECD-9797-C6B76AC2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6E4E0-7AD0-410B-9827-7886AEB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D6D9-7F8E-407F-B198-CC1F659A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3E86-763E-4AD3-AF21-B8613E3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5E40F-0E07-448E-AB21-FA174449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42DD5-9F2F-48BE-B64E-FAA686CF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3304E-3104-4751-AAC3-59FE015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AD97A-B13A-48EC-ACB5-BFE5186C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BA32C-A6A6-42C4-8047-757FB650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2C91B-AC2A-41B0-A0C2-0B6A1297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A3DDB-7F13-478E-818E-362B9A83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172DB-9013-4B44-9551-2800C84F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60B8B-F332-4B13-8DE8-7AB7366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2B1-4775-4657-A2BA-695B512D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74078-C7B8-45C2-87FF-0DAE2CE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7D763-E35B-4D69-9BF9-581F96C4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B104B-53AB-44AD-9D1E-2B8785F8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132E3-2DF6-410D-AACA-ECAF699D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4D65B-B6E0-495C-B768-40E2512C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9D5-7D22-4018-B56A-D141076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7A19-3C26-4F84-B3EE-B4F41E66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E530-F58F-4C78-AA16-0628C13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0B23-1BE7-4404-B021-6F117832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996-AADC-48CD-B89D-15C19AEA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138-30AA-48E3-8259-8697565E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787A-1F46-4B73-9D6C-19CC047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26EA-723C-4026-B71E-D43B25F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F36C-369E-4F8A-9D62-3C5199F1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E78A-97FB-4091-AB78-97BBF965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8157-47CE-4BF9-BADE-18852CBC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5B546-E1F9-4875-BBDF-951086A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190E6-B2D7-4653-82E4-FD4A1E0D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51933-42E5-4B59-A3EF-B11985E4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16F76-C85F-425D-AF3F-4FB55B6A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165C0-92CA-4E92-AFEE-8C590F77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631-0659-46FA-BE02-A760C60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81F38-989C-4993-BE97-39A69A0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25350-22BC-422B-A0E4-CC53F5F5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57224-F46E-4233-9C4A-CCDEA33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9A3CC-5B7E-4E00-A233-26662C97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AC434-49B5-4BA0-9F06-EFF8E526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966A7-A3FC-455E-898A-93F2D71E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61A4C5-8EC7-4BC9-BEDD-D7648AC3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F605-CA8B-4DD6-8E17-43DEA2B2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29E6-FC58-44EE-83E5-01E906F7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EF29-9301-40E1-8823-462F5BF2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D14-D384-4E31-AD65-5214EE7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A601E-3613-4821-AD7F-F08FC83B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198F-257F-4591-B89E-0C349C0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9886-FE93-448B-BEA1-6308CB2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5319B-D390-46A5-AE78-4A6AC3F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7FB8-62A6-47BF-B4D8-177607A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21AEE-7FFE-40B4-8B90-E509B63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CF59-E97A-4467-A88B-765C907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3D8A-C725-4136-A7D8-1A2EEFEA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1E17-E91E-4FB2-93AB-DD4482E9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1721-568C-4C5C-A04D-E02EEB489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4AC-A20C-4159-A5CC-BB52E57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4F4F-D2BD-42D6-A714-4530CF88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D7A03-9583-44C1-8915-39154291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58BA-4617-4A12-A1D3-C38C5C7D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BCD3-2609-4537-9E24-9CD002D5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E19E-FAED-4ED6-9544-E0C76E51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D64E-CF64-4893-8407-9825DFC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BD4D-CE30-4613-B923-4835F09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B62A-0F2F-4101-A353-23EC762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EA48-B72E-417D-868A-F3259C99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ED25-AA82-4D95-A456-793FA298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5D0-DF7D-4103-9768-1B3BF870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7582-3217-4CA1-96FA-1579A3D9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2C9E-4DAE-41CC-8DBF-59B1C628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BB98-225D-4FFB-826B-32330597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6DDD-A0DF-4FD7-BF38-A32FD5CB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DB881-3EB7-4CFC-9C2B-50A80AA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48438-4AA5-4E39-9221-A3CC4C86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9577-AA88-482D-BD3A-D49AD30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69C02-4913-44D9-A58E-3834263C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A59D-624B-49CB-973C-149D32E1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50D3-15EF-4183-9CEA-90C5B39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FC3-D9E6-4F88-B482-E99DD07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C355-89E0-40FD-A005-F9E8B5F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0F86-1123-4230-9D3F-A752E555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9C41-1040-4D1C-AFCD-D4B098F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D8A2-0CDB-4B35-B9EA-16C4B6C9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13C2-30FE-4469-B657-8022F4A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3B44-F16F-4781-94AA-150099D2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0618-51A2-4E04-83BA-B148FD7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2FD2E-617D-4A78-98DE-2DBEF4B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AA65F-01E9-49DA-BD11-E45F50B0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19E4E-126D-4EEE-99CB-2FC2136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997-89D5-49C2-B8F1-C29130C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27ACD-AA19-4A69-88B9-140B8FC8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CA601-6919-4A70-8FFD-554850B2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79690-F741-4852-8FB7-5ADAEFEA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493B-98F8-485E-AA09-C3F44226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1DC3A-D81A-449D-9AE7-4D7D6AF7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B22DA-6339-4E02-AD60-A960F953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C877-BBD7-4159-9B5C-60ADCC5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F973-B294-44B0-89A1-7204665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7BA5-F3CA-44F8-ADB5-5D560E2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A212-3278-4492-A95F-18D1954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578-470A-4AC3-AD5F-D5DC17E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D4273-3B1C-4DE5-9AB1-30B0285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4176-6C12-411B-930C-786B5EE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1B63-A293-41CF-B471-8EBC83D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E86BB-07DA-4FBF-9F9E-43BCF42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9A843-A145-4538-9380-E7CC71AA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23C05-0147-4602-A3EC-90819966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2C6E5-85AD-46C2-A704-EBDE4B64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43E9-D879-4BD4-AF3D-516A070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6EF6-B57B-46FD-A3A1-DCBB86C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C4BAE-F5A7-4B76-807F-D137F397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1F9-9B75-41BB-B52A-E7597E8304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71A984B-95E8-4101-8756-3A60E4F3D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80D-E342-4B18-8978-A18114DC6D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3C0C362C-BA35-48E6-BEF8-DE334B8DD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76C-2934-4338-B693-2601FC1323C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5C04686D-9D41-42C1-9B4D-0A90DDD0D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3E98-3AD7-4FB0-89CA-9BCC83EC0E6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3B2585C9-DE58-43D2-BBC2-2EA153C5F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6B4-A9BC-474F-91D3-D138EDD6FD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6C8EC54F-528B-4597-971B-B87077D04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0881-555F-4738-81BC-C2BF0321E8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CAF4ECAD-FA58-43DC-BEA6-F3411915A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056D-C98A-4457-AC76-1640031E78D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3B3C4C1F-CC66-4E4A-865E-3EA2900D3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A4A-8D06-4B74-B700-2FD18E8EA8F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172A7252-B87F-431D-9AEC-F22F343BC9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A04-5164-4D78-9F67-16FE20E9D1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04FF962E-3CAF-455C-B87A-D352FA6B9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0AD-335F-4897-8F8E-05F4641598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9240BAB4-FE4D-4C8B-8041-BB2865DBE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3F8E-A20C-4B35-B9C0-4AE17E0FB77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CD2911A0-F2A8-4DEA-9937-8A46D79C1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547C-B4FC-4F71-BB89-F2BB567D33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18795B26-C943-43DB-A483-671EDCC27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se part begins with the method cal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qua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123/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evaluates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is point, the current method computation is placed on hold, and the recursiv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xecuted with th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recursive call is finished, the execution of the suspended computation will return and continue from the point ab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085D37B-A9F5-4127-8ADC-DDC9DB9DE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6" descr="P582"/>
          <p:cNvPicPr/>
          <p:nvPr/>
        </p:nvPicPr>
        <p:blipFill>
          <a:blip r:embed="rId1"/>
          <a:stretch/>
        </p:blipFill>
        <p:spPr>
          <a:xfrm>
            <a:off x="1143000" y="2233440"/>
            <a:ext cx="6781680" cy="272448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80B380B-7E40-4162-844F-66EEBA6E4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less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lse part begins with the method cal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qua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2/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evaluate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AC43C7C-AEFF-405B-B843-61D1A7E66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is second comput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uspended, leaving two computations waiting to resume , as the computer begins to execute another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recursive call is finished, the execution of the second suspended computation will return and continue from the point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3F3FC69-54BF-45B9-AF1E-8CEEA3484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6" descr="P583a"/>
          <p:cNvPicPr/>
          <p:nvPr/>
        </p:nvPicPr>
        <p:blipFill>
          <a:blip r:embed="rId1"/>
          <a:stretch/>
        </p:blipFill>
        <p:spPr>
          <a:xfrm>
            <a:off x="1143000" y="1832040"/>
            <a:ext cx="7086600" cy="322884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996BC5E-AEDB-441F-92E4-D7C1EAF2A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ess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 Boolean expression is finally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statement writes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the screen, and the method ends without making another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is is the stopping c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13AC509-5FE2-437D-8989-D2D29ED3C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riteVertical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6" descr="P583b"/>
          <p:cNvPicPr/>
          <p:nvPr/>
        </p:nvPicPr>
        <p:blipFill>
          <a:blip r:embed="rId1"/>
          <a:stretch/>
        </p:blipFill>
        <p:spPr>
          <a:xfrm>
            <a:off x="990720" y="1668600"/>
            <a:ext cx="7315200" cy="359568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491D154-166F-4D14-B497-BBB45E3C5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, the suspended computation that was waiting for it to end (the one that was initiated by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sumes execution where it lef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outputs the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%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nds th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first suspended computation can resume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ECBCF2E-03BD-43BA-B0B4-F11CED214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6" descr="P584a"/>
          <p:cNvPicPr/>
          <p:nvPr/>
        </p:nvPicPr>
        <p:blipFill>
          <a:blip r:embed="rId1"/>
          <a:stretch/>
        </p:blipFill>
        <p:spPr>
          <a:xfrm>
            <a:off x="1066680" y="1776240"/>
            <a:ext cx="7239240" cy="34131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92DB89B-C83A-4CDA-829A-5098DCBB8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suspended method was the one that was initiated by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sumes execution where it lef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outputs the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%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ecution of the original method call 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result, the digits 1,2, and 3 have been written to the screen one per line, in that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D7EAAD2-B6D5-4F7D-AC10-46EBBA400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cur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a method that includes a call to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on is based on the general problem solving technique of breaking down a task into sub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cursion can be used whenever one subtask is a smaller version of the original tas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CF09A16-AE73-4CF9-8B95-08390E2D1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6" descr="P584b"/>
          <p:cNvPicPr/>
          <p:nvPr/>
        </p:nvPicPr>
        <p:blipFill>
          <a:blip r:embed="rId1"/>
          <a:stretch/>
        </p:blipFill>
        <p:spPr>
          <a:xfrm>
            <a:off x="1143000" y="1981080"/>
            <a:ext cx="6610320" cy="27320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E746115-1D25-4A99-A1C2-1BEC96622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er keeps track of recursive call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called, the computer plugs in the arguments for the parameter(s), and starts executing the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encounters a recursive call, it temporarily stops its com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recursive call is completed, the computer returns to finish the outer com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0CE08153-F2C4-4254-9175-8AC1DDB55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encounters a recursive call, it must temporarily suspend its execution of a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this becaus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 must know the result of the recursive call before it can proc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aves all the information it needs to continue the computation later on, when it returns from the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timately, this entire process terminates when one of the recursive calls does not depend upon recursion to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5B23925-24CC-4E15-8C86-3B57111C7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Form of a Recursive Method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eneral outline of a successful recursive method definition i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r more cases that include one or more recursive calls to the method being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ecursive calls should solve "smaller" versions of the task performed by the method being 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r more cases that include no recursive calls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opp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5D282F9-9CB2-4D2A-9213-F593D5C07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, the series of recursive calls eventually reached a call of the method that did not involve recursion (a stopping c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, instead, every recursive call had produced another recursive call, then a call to that method would, in theory, run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inite recu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ractice, such a method runs until the computer runs out of resources, and the program terminates abnorm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8005A31-48D0-4F0F-B49A-88550EC20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version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No stopping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static v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WriteVertical(int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WriteVertical(n/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ystem.out.println(n%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1E89340-1A79-4648-A0CD-E0D49817A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with this method will compile and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2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17A331F-7A6B-437E-991B-D1E3D89B3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(0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so on, forev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definition of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no stopping case, the process will proce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e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until the computer runs out of re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CAD18D0-A145-4117-BB72-19BC91A73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rack of recursion (and other things), most computer systems us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ck is a very specialized kind of memory structure analogous to a stack of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n analogy, there is also an inexhaustible supply of extra blank sheets of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is placed on the stack by writing on one of these sheets, and placing it on top of the stack (becoming the new top of the sta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formation is placed on the stack by  writing on another one of these sheets, placing it  on top of the stack, and so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20775185-660E-4F2B-BDA2-D8C06333B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information out of the stack, the top paper can be read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t only the top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more information, the top paper can be thrown away, and then the new top paper can be read, and so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last sheet put on the stack is the first sheet taken off the stack, a stack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st-in/first-o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structur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(LIF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81F8EC3-9B04-4BD0-A3CE-9111B954B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tic recursive 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es one (nonnegative)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gument, and writes th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digits going down the screen one per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Recursive methods need not be st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ask may be broken down into the following two sub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ase:  If n&lt;10, then write the number n to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ursive Case:  If n&gt;=10, then do two subtask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all the digits except the last dig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the last dig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DEB3F54-EE78-49BA-B29B-7EC2451E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rack of recursion, whenever a method is called, a new "sheet of paper" is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definition is copied onto this sheet, and the arguments are plugged in for the metho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uter starts to execute the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t encounters a recursive call, it stops the computation in order to make the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rites information about the current method on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places it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F2F430A1-C6F6-4478-9D00-3456001CE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sed for the recursive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er writes a second copy of the method, plugs in the arguments, and starts to execute it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copy gets to a recursive call, its information is saved on the stack also, and a ne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the new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95BF0DD-0120-41F2-819A-5481F3A9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ocess continues until some recursive call to the method completes its computation without producing any more recursive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then discar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computer goes to the top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heet contains the partially completed computation that is waiting for the recursive computation that just en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 it is possible to proceed with that suspended comp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0A26466-18C7-4F0D-B354-D708C6FF2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suspended computation ends, the computer discards its corresponding sheet of paper (the one on t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spended computation that is below it on the stack now becomes the computation on top of the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rocess continues until the computation on the bottom sheet is comp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67323743-F101-4FEC-9C89-40D603409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how many recursive calls are made, and how the method definition is written, the stack may grow and shrink in any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ck of paper analogy has its counterpart in the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nts of one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s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ck 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vation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ck frames don't actually contain a complete copy of the method definition, but reference a single copy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078E9C0-67C2-41A2-B1ED-9ABAB1CF7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Stack Over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lways some limit to the size of the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a long chain in which a method makes a call to itself, and that call makes another recursive call, . . . , and so forth, there will be many suspended computations placed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are too many, then the stack will attempt to grow beyond its limit, resulting in an error condition known a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ck over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cause of stack overflow is infinite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2FB902C-AE0A-4381-8616-F6151E806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on Versus It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ion is not absolutely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task that can be done using recursion can also be done in a nonrecursive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onrecursive version of a method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ive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teratively written method will typically use loops of some sort in place of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cursively written method can be simpler, but will usually run slower and use more storage than an equivalent iterative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E937F1E-C56F-4F02-81C2-2D2CFFD19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4" descr="D11_2"/>
          <p:cNvPicPr/>
          <p:nvPr/>
        </p:nvPicPr>
        <p:blipFill>
          <a:blip r:embed="rId1"/>
          <a:stretch/>
        </p:blipFill>
        <p:spPr>
          <a:xfrm>
            <a:off x="990720" y="990720"/>
            <a:ext cx="7505640" cy="5076720"/>
          </a:xfrm>
          <a:prstGeom prst="rect">
            <a:avLst/>
          </a:prstGeom>
          <a:ln w="0">
            <a:noFill/>
          </a:ln>
        </p:spPr>
      </p:pic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BA78398-9510-4ABE-A763-3447A1BF5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Methods that Return a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is not limit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ecursive method can return a value of any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utline for a successful recursive method that returns a value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or more cases in which the value returned is computed in terms of calls to the sam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guments for the recursive calls should be intuitively "smaller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or more cases in which the value returned is computed without the use of any recursive calls (the base or stopping c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0C2940D-66DF-479A-9075-DC904ED4E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Powers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Math class computes p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takes two arguments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turns a value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kes two argument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turns a value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based on the following formu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x</a:t>
            </a:r>
            <a:r>
              <a:rPr b="1" lang="en-US" sz="2000" spc="-1" strike="noStrike" baseline="30000">
                <a:solidFill>
                  <a:srgbClr val="034ca1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is equal to x</a:t>
            </a:r>
            <a:r>
              <a:rPr b="1" lang="en-US" sz="2000" spc="-1" strike="noStrike" baseline="30000">
                <a:solidFill>
                  <a:srgbClr val="034ca1"/>
                </a:solidFill>
                <a:latin typeface="Calibri"/>
              </a:rPr>
              <a:t>n-1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*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3448922-C609-4ACF-8B85-291E51B7B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argument 1234, the output of the first subtask would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utput of the second part would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B69B141-70D1-4B53-8C45-3139296DC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Powers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rms of Java, the value returned by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&gt;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uld be the sam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er(x, n-1) *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=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uld retur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stopping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F2B9FD6-406A-44B8-85F6-C8AFEAAB5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5" descr="D11_3a"/>
          <p:cNvPicPr/>
          <p:nvPr/>
        </p:nvPicPr>
        <p:blipFill>
          <a:blip r:embed="rId1"/>
          <a:stretch/>
        </p:blipFill>
        <p:spPr>
          <a:xfrm>
            <a:off x="990720" y="1390680"/>
            <a:ext cx="7515000" cy="3943440"/>
          </a:xfrm>
          <a:prstGeom prst="rect">
            <a:avLst/>
          </a:prstGeom>
          <a:ln w="0">
            <a:noFill/>
          </a:ln>
        </p:spPr>
      </p:pic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7E42AE2-9137-4884-AB23-B2AFD8C9B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D11_3b"/>
          <p:cNvPicPr/>
          <p:nvPr/>
        </p:nvPicPr>
        <p:blipFill>
          <a:blip r:embed="rId1"/>
          <a:stretch/>
        </p:blipFill>
        <p:spPr>
          <a:xfrm>
            <a:off x="990720" y="1380960"/>
            <a:ext cx="7515000" cy="3571920"/>
          </a:xfrm>
          <a:prstGeom prst="rect">
            <a:avLst/>
          </a:prstGeom>
          <a:ln w="0">
            <a:noFill/>
          </a:ln>
        </p:spPr>
      </p:pic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6EB28A1-9558-42AB-9638-597B27D98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Recursive Method Cal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(2,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6" descr="D11_4"/>
          <p:cNvPicPr/>
          <p:nvPr/>
        </p:nvPicPr>
        <p:blipFill>
          <a:blip r:embed="rId1"/>
          <a:stretch/>
        </p:blipFill>
        <p:spPr>
          <a:xfrm>
            <a:off x="988920" y="1219320"/>
            <a:ext cx="6554880" cy="522900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2A32A294-8C81-48CE-83FC-1ABB33848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Recurs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problem lends itself to recursion, it is more important to think of it in recursive terms, rather than concentrating on the stack and the suspended compu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n)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 n-1) *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methods that return a value, there are three properties that must be satisfied,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7410A90-7871-49DB-BDA9-B468C02A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Recurs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chain of recursive calls must reach a stopping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topping case returns the correct value for tha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cases that involve recursion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 recursive calls return the correct valu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final value returned by the method is the correct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properties follow a technique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thematical in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4134F1E-28E9-4766-B240-5C68FB00C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Desig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ame rules can be applied to a recursiv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opping case performs the correct action for that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of the cases that involve recursion:  if all recursive calls perform their actions correctly, then the entire case performs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9FC67F0-C902-4A02-AD77-4F09718DD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ary search uses a recursive method to search an array to find a specifie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rray must be a sorted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2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a[finalIndex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is found, its index is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is not found, -1 is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Each execution of the recursive method reduces the search space by about a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F1E1084-F939-42B5-B6EA-7C2FFC452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to solve this task looks at the middle of the array or array segment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looked for is smaller than the value in the middle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second half of the array or array segment can be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rategy is then applied to the first half of the array or array 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7410570-CBD5-430A-8DE4-9BEA68A4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value looked for is larger than the value in the middle of the array or array 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the first half of the array or array segment can be igno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trategy is then applied to the second half of the array or array seg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value looked for is at the middle of the array or array segment, then it has been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ntire array (or array segment) has been searched in this way without finding the value, then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2DFD69FA-2428-4079-BFC3-663688E5D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composition of tasks into subtasks can be used to derive the method 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ask 1 is a smaller version of the original task, so it can be implemented with a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ask 2 is just the simpl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8AFFECF-7F8D-41A1-9F59-D66BD3BC6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udocode for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6" descr="D11_5"/>
          <p:cNvPicPr/>
          <p:nvPr/>
        </p:nvPicPr>
        <p:blipFill>
          <a:blip r:embed="rId1"/>
          <a:stretch/>
        </p:blipFill>
        <p:spPr>
          <a:xfrm>
            <a:off x="990720" y="1152360"/>
            <a:ext cx="7495920" cy="5096160"/>
          </a:xfrm>
          <a:prstGeom prst="rect">
            <a:avLst/>
          </a:prstGeom>
          <a:ln w="0">
            <a:noFill/>
          </a:ln>
        </p:spPr>
      </p:pic>
      <p:sp>
        <p:nvSpPr>
          <p:cNvPr id="7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E240E08-B4E6-4A7C-8F14-16F434A73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Method for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D11_6"/>
          <p:cNvPicPr/>
          <p:nvPr/>
        </p:nvPicPr>
        <p:blipFill>
          <a:blip r:embed="rId1"/>
          <a:stretch/>
        </p:blipFill>
        <p:spPr>
          <a:xfrm>
            <a:off x="990720" y="757080"/>
            <a:ext cx="7394400" cy="572004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75265FF-F6E9-4B27-993B-C441D1B16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5" descr="D11_7a"/>
          <p:cNvPicPr/>
          <p:nvPr/>
        </p:nvPicPr>
        <p:blipFill>
          <a:blip r:embed="rId1"/>
          <a:stretch/>
        </p:blipFill>
        <p:spPr>
          <a:xfrm>
            <a:off x="990720" y="1219320"/>
            <a:ext cx="7534080" cy="471492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1540CBF-E6C2-4C02-A0AC-B7ED85D7B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D11_7b"/>
          <p:cNvPicPr/>
          <p:nvPr/>
        </p:nvPicPr>
        <p:blipFill>
          <a:blip r:embed="rId1"/>
          <a:stretch/>
        </p:blipFill>
        <p:spPr>
          <a:xfrm>
            <a:off x="990720" y="1219320"/>
            <a:ext cx="7515000" cy="492444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5F8DB54-4DEA-431A-8833-E2D89C056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each recursive call, the valu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creased, or the valu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chain of recursive calls does not end in some other way, then eventually the method will be calle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th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107ADBD-0402-4239-9E4D-611074645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opping case performs the correct action for that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 &gt; l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re are no array elements betwe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first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las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in this segment of the array,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rrectly se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key == a[mid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rrectly se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63DA2D73-C253-4CA5-B022-C2E4124F3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of the cases that involve recursion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recursive calls perform their actions correctly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entire case performs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 &lt; a[mi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one of the elemen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first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mid-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should then search only those elements, which i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cursive call is correct, therefore the entire action is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015EE25-AFAB-4AB2-B9FD-1B0FFC5A8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 &gt; a[mi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one of the elemen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mid+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last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should then search only those elements, which i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cursive call is correct, therefore the entire action is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sses all three te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is a good recursive method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52BA4AF-56A0-4AF4-8F40-5DF7EAA33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ary search algorithm is extremely fast compared to an algorithm that tries all array elements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half the array is eliminated from consideration right at the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a quarter of the array, then an eighth of the array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49B80BC-CF0B-4870-B107-BA9AB7B7A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an array with 1,000 elements, the binary search will only need to compare about 10 array elements to the key value, as compared to an average of 500 for a serial search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inary search algorithm has a worst-case running time that is logarithmic:    O(lo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al search algorithm is linear:  O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esired, the recursive vers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converted to an iterative version that will run more effici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F8C2F79-8E8D-4DAD-B5DE-7E1F55146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for 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n&lt;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the number n with the last digit removed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the last digit of 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/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last digit removed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%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ast digit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4DF8B05-518E-436E-A617-0371C7147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Binary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Picture 5" descr="D11_9a"/>
          <p:cNvPicPr/>
          <p:nvPr/>
        </p:nvPicPr>
        <p:blipFill>
          <a:blip r:embed="rId1"/>
          <a:stretch/>
        </p:blipFill>
        <p:spPr>
          <a:xfrm>
            <a:off x="914400" y="1447920"/>
            <a:ext cx="8010360" cy="4038480"/>
          </a:xfrm>
          <a:prstGeom prst="rect">
            <a:avLst/>
          </a:prstGeom>
          <a:ln w="0">
            <a:noFill/>
          </a:ln>
        </p:spPr>
      </p:pic>
      <p:sp>
        <p:nvSpPr>
          <p:cNvPr id="7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041F517-F1F2-4C1B-94A1-EC41F6371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Binary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Picture 4" descr="D11_9b"/>
          <p:cNvPicPr/>
          <p:nvPr/>
        </p:nvPicPr>
        <p:blipFill>
          <a:blip r:embed="rId1"/>
          <a:stretch/>
        </p:blipFill>
        <p:spPr>
          <a:xfrm>
            <a:off x="914400" y="1295280"/>
            <a:ext cx="7943760" cy="5153040"/>
          </a:xfrm>
          <a:prstGeom prst="rect">
            <a:avLst/>
          </a:prstGeom>
          <a:ln w="0">
            <a:noFill/>
          </a:ln>
        </p:spPr>
      </p:pic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AF04B0D-6548-4C47-BCC8-B3A81F258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cursi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5" descr="D11_1a"/>
          <p:cNvPicPr/>
          <p:nvPr/>
        </p:nvPicPr>
        <p:blipFill>
          <a:blip r:embed="rId1"/>
          <a:stretch/>
        </p:blipFill>
        <p:spPr>
          <a:xfrm>
            <a:off x="914400" y="1219320"/>
            <a:ext cx="7562880" cy="435276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8F6EE89-9003-4FBD-96F6-7ED97DD75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cursi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7" descr="D11_1b"/>
          <p:cNvPicPr/>
          <p:nvPr/>
        </p:nvPicPr>
        <p:blipFill>
          <a:blip r:embed="rId1"/>
          <a:stretch/>
        </p:blipFill>
        <p:spPr>
          <a:xfrm>
            <a:off x="914400" y="1123920"/>
            <a:ext cx="7534440" cy="504828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BEFD31C-3C48-4779-9387-8EC706F2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methods are processed in the same way as any method call</a:t>
            </a:r>
            <a:r>
              <a:rPr b="0" lang="en-US" sz="3200" spc="-1" strike="noStrike">
                <a:solidFill>
                  <a:srgbClr val="034ca1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3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less th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F60C40D3-7564-409E-AEF2-533ED7487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8:47Z</dcterms:modified>
  <cp:revision>13</cp:revision>
  <dc:subject/>
  <dc:title>Slide 1</dc:title>
</cp:coreProperties>
</file>