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3941-FC01-49E6-BBEE-DEC847A3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A06-07D9-44B8-A93A-606F913E5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97BF-F17F-4FEF-AF27-6D66E015D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DBF3-DAF7-4E92-9DD3-3A5729D29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D90-0F03-409A-8614-824A4B92B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2EC-633D-4A80-B41E-4BAF2C391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BE80-F1FC-4A58-BDFD-30D7359A4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C166-C9EE-467B-9E04-C1CF4DD48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2A7C-0B94-4146-ADEB-91876C8DB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C80-2381-493C-8AFC-55E20519D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5E7-283C-4DF3-9B8E-FBB09032B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0CF-660D-4A47-9A9C-8CE6BD0D7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3F17-821C-48D5-98FE-8C1B768F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EC0-A2D2-4BD1-BC3B-9A925727A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A5C4-1ED1-42CD-B8B1-BB44E077B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F3C1-F7D0-4CD1-B298-3ABA0D935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D6FE-E88A-4C6F-B7F0-C0794CD9E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096-446B-40D6-BC90-DCCD4ED13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200A-ACE7-44B6-B03C-536F1D2DF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9F9-33E9-439C-9B6A-43B66F256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2337-889C-48AC-B8CD-260A6DC70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E365-B7DE-4142-A416-483FC881E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3A81-6BD4-476C-AE6C-8C0B1EF43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984D-2775-449D-AAE9-EF9A3FA6B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4031-1BBE-46EB-B30C-684FC38DF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68C7-7D9F-4A47-BBD2-0AD3A923A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3E35-1DC8-4609-A74E-D79CFE8C3A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6300-A5C4-42BE-B031-7E5AD03BD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C115-D9F7-4F6B-ADA1-7D8A179D6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37BE-C026-434F-A6A7-C402EBD89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B012-FB1C-4F6A-B4FB-DE5E483C0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BC9F-5F50-4BA8-91FE-889D5E033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E7C-763D-4EB7-AB19-483BEDC23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F40-8DD8-4E43-A476-94E2BBD2B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887B-FAD9-40CB-B5A3-3DBAFA400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0121-7BF7-402A-885B-A9B8DB74A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37DA-131A-4CFA-B645-75ECBEF96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2344-2D99-4600-BDB2-A3CD9B343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FD59-D96A-4BB4-989A-87AF1EF76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342-DD47-4237-B348-FC66B3CDE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A42-2919-4929-8603-07533CE38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E31F-33F7-4FF9-9D31-6837B846A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AC52-E512-4D13-9015-41B6D4394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4ED3-F877-434C-BA2C-26A2F2FF0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72F0-9FD0-4A2C-A71E-9749147E1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318-F0F3-48E4-8C5C-6A731A185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4D7C-94FD-4E36-A370-AAE384012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1C86-6862-44E1-BEF2-53C73F993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A827-F6C7-4501-A55F-C4C6B6C7A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373E-7BB8-43C9-86F6-6CBC4E021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AE9E-7659-4DE5-A643-1D9AB3DCE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253-D266-4899-8239-FFC3495F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84C-9613-45A9-8FF5-CFD3B455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8BD74-461A-4F64-A6F9-EFED2917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9138F-E01C-4F8D-8121-6E9B8E9B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7CD15-AAA7-4E62-9CF1-BB4A8668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ABD1E-ABEA-4B49-BDF3-1F19AC5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380C-C8C9-4A39-AA87-23367B0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54D6B-9D5C-486E-9CE0-7294AEE8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18E9E-E7E8-4019-94CA-0878987B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030A-07DE-4C49-9696-F3CE18B4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81E4B-CF52-4808-BF9E-1AA731BF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71EC1-CF06-48A6-A3B6-D7C355F3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5E6-2515-40B8-9E71-0D9A6092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6027C-7283-49DE-BBB6-85C70884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7E56A-84D9-49C0-A4DE-89D73B4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5F099-EF00-449B-8570-9B25844C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DE285-7867-4A11-9421-3CFD60C7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A42D5-782B-4ECC-A839-446DCD7A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7B36E-94FD-4904-819B-D4136BB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13E6B-FD79-4426-8958-1B64FEC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0A71A-3508-4628-AA82-402081C1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547D0-6EEF-4877-AD2E-0972BBC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4CBF3-E77D-45A5-8F08-60541775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19A-1731-4057-9BB6-A843BDA0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2AC16-F774-4544-8C0B-BD227A0F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5B72B-DCC1-45B8-9E89-5BF6A02F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E887C-8908-4BD2-B3E7-140B70B1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88A6D-F273-450E-9243-BF868287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5DC20-3A97-4994-BFB4-3B3EFD1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D9DB5-2B0D-43ED-82D5-F256B67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804DB-8FFA-4790-A1CF-83B52F81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E6778-9C74-4BD7-83CE-B15A54A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532F4-8EE6-46CD-A4DF-A8DDB84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C33E6-E6BF-4C54-A453-78E6ECE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E64F-0CAA-4BB9-B3C9-24BC01A0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74BAD-9E92-4500-8033-F7462BA1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D2EFB-9541-40EE-9FBA-3D03A535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61847-4B5C-4FE0-9C68-9D55A491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3A348-4C57-4C09-9876-6D637BFE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0F1BB-B557-4261-B7CB-E7DD891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E6477-9FD0-4B07-86DD-2FFDAFC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4FA2E-BCCC-43FF-84C0-7D58165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F9AD7-3ADE-44EC-B812-2E286985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86B2C-72BE-4968-8C4C-117E879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5EA53-A476-422C-AF9E-3650100C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C586-0C63-4958-843F-24880D8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0B477-F549-45CF-ABB5-CEEAFD35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3E856-571B-475B-913A-EC583553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1C020-CA4C-4BFF-A049-99B85D3B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273C9-8988-4775-AE07-30E951F8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46693-36A0-4ED0-B1C8-F97C1976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BB2-EBE7-4E98-B7F1-ED1E5608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A37-5D1F-425E-A454-933CECAE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595-C601-4E3A-938C-4E61F5A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6CF-5281-46A3-9311-C1DC1691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AE98-60B0-4EBD-BFBB-A4A165F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906-6860-4DE1-9735-AF6CDF4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BD0-A391-41D3-8FB2-C619E0DF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ABC9-B035-4BB1-ACFB-BB0018A1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C0EE-CB89-4928-A90D-217035BB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D77F-1290-445D-8B12-6E01F950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A8DC-9F7C-462E-97C1-6C29331E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B7458-D196-4AA1-89FD-B42A43B1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BAC03-0C48-4C39-A3D1-9BF59CC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07057-AF55-44C0-97BF-6A1B112E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BC061-DA35-4FC9-9DEA-3A27BF53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F4461-002D-479A-87D5-DE7F5669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E8E-8792-4204-B651-B1A9BA1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A2C83-CF86-456E-84A2-70E621E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7364C-DA28-4F5F-894F-1477C46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DAE51-2DDD-492C-AF94-CC9A97B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2A2BB-24E9-43D2-BEF8-BA6C7DC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C412FC-7A68-4435-9AEB-8430B27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2EDAC-8206-4C9F-99BF-DA847CCE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E2510-E4EC-4EDC-8919-62BBF374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8DCFF-79E1-4076-AD3D-B699E3A0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DD10-4BAD-4FAD-AA46-57E4F09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8FC2-E3CB-499F-BFB7-8EAFD7E8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D9A-7C6A-4AE6-A381-AA0E84DF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CEA9-248E-437E-8CDC-BA8503E4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32C4B-09D3-4F1C-A05F-8E528AEB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85F1-DD6A-48C6-8498-ED1165CA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C5AE3-4663-424D-9B40-E693AFD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CC9D-B678-4D99-A65A-CD531470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AE86-E1B3-4F3B-BB6F-90A9911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E84E-DB3C-4786-87F7-E596BA4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BEF2-6DEF-4594-92AB-30533ABB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41D0-F6A3-4607-9ED6-3C538AD4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F9C65-62C1-4EBA-AAFE-7E01504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0B1-749C-4029-BB71-8845C698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A88E8-E59E-4582-AC55-4FE3F578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670BE-359A-4BD9-B7BD-E8145C7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38BB-0AF2-48CB-9395-631321A1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0011-D690-4FD9-8476-5AB622B1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D770-5073-4507-8397-4FE85E9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9C5EB-A262-4BE6-BC0C-03F7B0AD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3E22-F298-4322-BE78-7A12AF7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6D37-E9A0-4194-8DFE-5AAB6304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052BD-5CA9-4923-B9F2-639C1E3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DEA2-0C6F-4A12-8E7D-AB08C55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39D-52BF-4D98-9832-80EF4EA5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C7C9-8953-4B85-A954-AC6207B5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FEA04-3D3E-4559-845B-8313F76A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B123F-A220-45A7-98CB-B4458CF5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DB31-3655-493F-AE29-8C5BB3E5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E8287-CBC7-4C33-A30A-F020201A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D222B-0602-4CFB-8592-F6C36C68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CF52-A2BE-4646-BC0C-C7C0363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6874-12AB-413C-85C9-FBF2E20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9A9B-B40E-4D0A-BE4F-91340811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6D941-FAF8-4F22-9E40-0E6B3877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84D-8CEF-468C-8CAB-A7A190F4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F2B37-6F6D-475F-A78F-F63FE9D6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18E7-8767-4619-9D80-0D2DD7AE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656D4-183E-4561-B9F8-14FA6063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BF61A-EDA0-4079-A05F-EC857D31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544A4-06F2-40E4-A88A-6B73351D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8605-88C0-41CB-AF7E-69797B4F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C6EED-1CBA-47B3-9E8E-E5A53FB8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C070E-1FDF-4A23-B38C-50A9BF65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18B2E-D158-45B6-9AE5-A20314B0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D36DB-DEF8-4584-9A8F-326BFE68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D41-99C9-480D-9DA2-F499C2D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D5D6-7D1D-4ED2-9F4D-A1BA837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4984-BB36-4A2B-ADB8-E2000F6E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57FA7-B068-4AE2-93EB-BF55F5BF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1BE78-DABA-4CCE-9917-750CDC17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5005-4E42-43E1-966B-B09D2DFE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D3F15-F274-4027-B2FF-258D128B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FB001-9761-41E0-9E91-E6A96091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7D08C-D5AB-47BD-A867-185C7DD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CC656-B274-4CB2-BB30-146FA385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59958-88E2-49E5-B578-507E737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E29-6B71-4E3E-AE67-FAFEF42F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B95FB-D837-4A14-A094-AF9754F7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E900-AA6D-4F13-8CDD-C5AF2F5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FA869-910F-4413-B2B9-CEFAF08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22D7-95A0-4520-9AF6-7BC6ADB9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4D5D9-8653-41A5-8EA5-43A1413B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50221-6FB0-4524-9987-D58D661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582A7-E39A-45A7-A61A-CCBB0D89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30F83-325A-4AE6-8AEC-D741F105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CC64D-5EDC-4CC8-919F-96E3D66D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C7DC4-3C10-4061-904D-D7A92CEB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81C8-DEB0-4348-B237-8D2318E66AA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B569FF1-48D7-4978-93ED-19A61AE45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D629-00E0-4B6F-8515-E5AC608C566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83C1D91-4F74-408A-AAF3-C1C25360C1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34A0-C419-41E5-B593-92B268205E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7C9BCB6-45B0-4E6B-955C-1364699D2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72FA-9B5B-4486-A4E3-AD7645EA9AE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794B0A1-A412-4E2A-8D47-E24ADFB87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CC2-949C-470D-AC8D-3E5069208E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33D329E-7688-4898-9CB1-9B7ACE9B6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88B-BDF1-4BB4-AE07-D7BEFEB61DA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BDC03BB-E47E-445D-BC8E-270954983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F7B4-257B-4039-973B-C10700DDD3D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5960835-DCAE-454C-8893-23DEAFE0E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974E-6C0C-4329-BF63-ABDA315AED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A0567CC-5F06-488D-89D0-ED01D8426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FBE3-A0D4-4B2E-A661-293A413C8B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7DC8CFC-894F-44DA-AB81-896A03153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978-8D43-4D48-91B1-D394203154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196468F-6D86-4019-800E-E40A4AB5F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1B82-A973-448F-8F1D-8E3ABA12DD6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B19C1A8-FA89-43EB-B42C-B16545D03D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A58-43B7-4850-A173-EEA133FC8F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3EF159F-2108-4009-B829-BF90072999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sole Input and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6" descr="savitch_c02d02_1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507E3D0-5C48-48AA-9CE6-5491503F0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savitch_c02d02_2of3"/>
          <p:cNvPicPr/>
          <p:nvPr/>
        </p:nvPicPr>
        <p:blipFill>
          <a:blip r:embed="rId1"/>
          <a:srcRect l="0" t="1535" r="0" b="2046"/>
          <a:stretch/>
        </p:blipFill>
        <p:spPr>
          <a:xfrm>
            <a:off x="863640" y="1625760"/>
            <a:ext cx="7772400" cy="478944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A4FC70B-0384-4EDE-BBB6-0C937A7F3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savitch_c02d02_3of3"/>
          <p:cNvPicPr/>
          <p:nvPr/>
        </p:nvPicPr>
        <p:blipFill>
          <a:blip r:embed="rId1"/>
          <a:srcRect l="0" t="1474" r="0" b="2455"/>
          <a:stretch/>
        </p:blipFill>
        <p:spPr>
          <a:xfrm>
            <a:off x="863640" y="1346040"/>
            <a:ext cx="7772400" cy="497376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91C20E7-3593-4C4E-8912-B2206350B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ting Money Amounts wi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format specifier for outputting an amount of money stored as a double type i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%.2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ays to include exactly two digits after the decimal point and to use the smallest field width that the value will fit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price = 19.9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f("The price is $%.2f each.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the outpu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 price is $19.99 e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E0166F6-CE80-409A-AE55-E50D12EF2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acy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that is "old fashioned" but too expensive to replac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gacy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legacy code is translated into a more moder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just like a C language function of the same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as done intentionally to make it easier to translate C code into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C952A0DD-7904-4CD6-9262-82AF103A9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mberForm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enables a program to output amounts of money using the appropriat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umber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must first b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por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order to use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text.Number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ject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umber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then be created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urrencyInstance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takes a floating-point number as an argument and return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 representation of the number in the local curr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CDD76B06-3CAA-4C75-8299-8617762AC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5"/>
          <p:cNvSpPr/>
          <p:nvPr/>
        </p:nvSpPr>
        <p:spPr>
          <a:xfrm>
            <a:off x="1436760" y="2975040"/>
            <a:ext cx="7272360" cy="98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914400" y="1219320"/>
            <a:ext cx="432576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NumberForm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 CurrencyFormatDe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Default location: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 moneyFormater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.getCurrencyInstanc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.8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.81111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.8999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37B3FF9-EA70-46EC-8791-C76AB0357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914400" y="2590920"/>
            <a:ext cx="7543800" cy="312408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of the previou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efault l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F87B6F0-D152-4814-9642-B2C3B1B5B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ying Lo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k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urrencyInstanc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without any arguments produces an object that will format numbers according to the default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rast, the location can be explicitly specified by providing a location from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o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as an argument to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urrencyInstanc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doing so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o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must first be imp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 java.util.Loc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560E5A3-0C01-42FF-943A-4166F6F8F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1217520" y="3193920"/>
            <a:ext cx="667548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725400" y="1278000"/>
            <a:ext cx="4456080" cy="6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ying Lo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41240" y="1294920"/>
            <a:ext cx="794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NumberForm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util.Loca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 CurrencyFormatDe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US as location: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 moneyFormater2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.getCurrencyInstance(Locale.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.8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.81111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.8999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EFFDEDE-A60E-4997-A370-8516A3290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ole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83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is part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ethod invoked by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that can be used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ol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to be output is given as an argument in parenth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lus sign is used to connect more than one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ds a line of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The answer is " + 4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88094F69-304D-47B7-81BC-AA0F8EFC3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914400" y="2590920"/>
            <a:ext cx="7543800" cy="312408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ying Lo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of the previou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US as l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15D0F6C-C40E-4947-83EE-FA4383A65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e Constants for Currencies of Different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8" descr="savitch_c02d04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616200"/>
          </a:xfrm>
          <a:prstGeom prst="rect">
            <a:avLst/>
          </a:prstGeom>
          <a:ln w="0">
            <a:noFill/>
          </a:ln>
        </p:spPr>
      </p:pic>
      <p:sp>
        <p:nvSpPr>
          <p:cNvPr id="6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3D0EF2E-BBD3-438D-8FA8-F309F10CF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ing Packages an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ies in Java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ckage is a collection of classes that is stored in a manner that makes it easily accessible to any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use a class that belongs to a package,  the class must be brought into a program using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es found in the packag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imported automatically into every Java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NumberForm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// import theNumberFormat clas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*;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//import all the classes in package java.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7628ACA8-5799-41E4-8FE4-AF434EA56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enables a program to format numbers in a variety of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must first b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por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is associated with a pattern when it is created using the new comm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bject can then be used with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reate strings that satisfy the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ject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number of different methods that can be used to produce numeral strings in various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4397B71-83AF-4652-81DA-7AB01D6EF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13" descr="savitch_c02d05_1of3"/>
          <p:cNvPicPr/>
          <p:nvPr/>
        </p:nvPicPr>
        <p:blipFill>
          <a:blip r:embed="rId1"/>
          <a:stretch/>
        </p:blipFill>
        <p:spPr>
          <a:xfrm>
            <a:off x="863640" y="1257480"/>
            <a:ext cx="7772400" cy="5148000"/>
          </a:xfrm>
          <a:prstGeom prst="rect">
            <a:avLst/>
          </a:prstGeom>
          <a:ln w="0">
            <a:noFill/>
          </a:ln>
        </p:spPr>
      </p:pic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524E83F-171E-407A-9963-17F6825ED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3" descr="savitch_c02d05_2of3"/>
          <p:cNvPicPr/>
          <p:nvPr/>
        </p:nvPicPr>
        <p:blipFill>
          <a:blip r:embed="rId1"/>
          <a:stretch/>
        </p:blipFill>
        <p:spPr>
          <a:xfrm>
            <a:off x="863640" y="1270080"/>
            <a:ext cx="7772400" cy="4659120"/>
          </a:xfrm>
          <a:prstGeom prst="rect">
            <a:avLst/>
          </a:prstGeom>
          <a:ln w="0">
            <a:noFill/>
          </a:ln>
        </p:spPr>
      </p:pic>
      <p:sp>
        <p:nvSpPr>
          <p:cNvPr id="6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25643F4-4097-45DB-8CB9-28E307508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3" descr="savitch_c02d05_3of3"/>
          <p:cNvPicPr/>
          <p:nvPr/>
        </p:nvPicPr>
        <p:blipFill>
          <a:blip r:embed="rId1"/>
          <a:stretch/>
        </p:blipFill>
        <p:spPr>
          <a:xfrm>
            <a:off x="863640" y="1270080"/>
            <a:ext cx="7772400" cy="4694040"/>
          </a:xfrm>
          <a:prstGeom prst="rect">
            <a:avLst/>
          </a:prstGeom>
          <a:ln w="0">
            <a:noFill/>
          </a:ln>
        </p:spPr>
      </p:pic>
      <p:sp>
        <p:nvSpPr>
          <p:cNvPr id="6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2358F79-B22A-4421-A630-08357ECC1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with version 5.0, Java includes a class for doing simple keyboard input name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us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a program must include the following line near the start of the fi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util.Sc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tatement tells Java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available to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in a library of classes (i.e., Jav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2441B0A-8F96-46C7-858F-AFF142091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7088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line create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ames the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 keyboard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a name lik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often used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can be given 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in the following co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is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 scannerObject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has been created, a program can then use that object to perform keyboard input using methods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68227AB-B884-475C-AA05-F9E5819A4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2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ds on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typed in at the keyboard and assigns it to 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numberOfPods = keyboard.nextI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ds on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typed in at the keyboard and assigns it to 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d1 = keyboard.nextDoubl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inputs must be separat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ite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ead by multiple invocations of the appropriate 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tespace is any string of characters, such as blank spaces, tabs, and line breaks that print out as white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780CA70-8556-4D15-9FF7-FB65CF763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method that can be invoked by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ystem.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ject i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lik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xcept that it does not end a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next output goes on a new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next output goes on the same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A91B09C-D219-4633-8798-02069A3C2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2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ds one string of non-whitespace characters delimited by whitespace characters such as blanks or the beginning or end of a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word1 = keyboard.nex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word2 = keyboard.nex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input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elly be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d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el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valu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3058F93-92D9-4803-97C4-784DCEA5D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721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ds an entire line of keyboard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line = keyboard.nextLin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in an entire line and places the string that is read into th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d of an input line is indicated by the escape sequenc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'\n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character input whe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y is p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screen it is indicated by the ending of one line and the beginning of the nex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ds a line of text, it read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racter, so the next reading of input begins on the nex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es not become part of the string value returned (e.g., the string named by the variabl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bove does not end with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ract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DE24FFF-7BAF-4C5E-91AD-45F82D935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board Input Demons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5" descr="savitch_c02d06_1of2"/>
          <p:cNvPicPr/>
          <p:nvPr/>
        </p:nvPicPr>
        <p:blipFill>
          <a:blip r:embed="rId1"/>
          <a:srcRect l="0" t="1419" r="0" b="2361"/>
          <a:stretch/>
        </p:blipFill>
        <p:spPr>
          <a:xfrm>
            <a:off x="863640" y="1346040"/>
            <a:ext cx="7772400" cy="5172120"/>
          </a:xfrm>
          <a:prstGeom prst="rect">
            <a:avLst/>
          </a:prstGeom>
          <a:ln w="0">
            <a:noFill/>
          </a:ln>
        </p:spPr>
      </p:pic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7D6D4877-DEED-43F9-9DBF-E00C7C20F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board Input Demons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4" descr="savitch_c02d06_2of2"/>
          <p:cNvPicPr/>
          <p:nvPr/>
        </p:nvPicPr>
        <p:blipFill>
          <a:blip r:embed="rId1"/>
          <a:stretch/>
        </p:blipFill>
        <p:spPr>
          <a:xfrm>
            <a:off x="863640" y="128268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17D6F11-23E0-4FCF-A490-F0A122472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Keyboard Input Demonstration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5" descr="savitch_c02d07_1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87836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319CAD2-6841-4654-BAC1-473459DCD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Keyboard Input Demonstration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5" descr="savitch_c02d07_2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611C5E0-73ED-4294-AB3B-8E9B3D4D5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Keyboard Input Demonstration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4" descr="savitch_c02d07_3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02264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BDB48A75-73AA-4715-AE79-54EBB498C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Dealing with the Line Terminator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'\n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040" y="1625760"/>
            <a:ext cx="75438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ds the remainder of a line of text starting wherever the last keyboard reading left 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an cause problems when combining it with different methods for reading from the keyboard such 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n the cod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canner keyboard = new Scanner(System.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t n = keyboard.nextI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s1 = keyboard.nextLin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s2 = keyboard.nextLin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inpu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eads are better t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 he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values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453CE50-7ACA-4CAE-BBCC-0D85AD94F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Dealing with the Line Terminator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'\n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040" y="1625760"/>
            <a:ext cx="75438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code and input on the previous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2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heads are better th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following results were desired inst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2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heads are better tha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1 hea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n extra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needed to get rid of the end of line character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B67647D-0529-4C16-8806-3994ED6B4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5" descr="savitch_c02d08_1of3"/>
          <p:cNvPicPr/>
          <p:nvPr/>
        </p:nvPicPr>
        <p:blipFill>
          <a:blip r:embed="rId1"/>
          <a:stretch/>
        </p:blipFill>
        <p:spPr>
          <a:xfrm>
            <a:off x="863640" y="1287360"/>
            <a:ext cx="6946920" cy="5092920"/>
          </a:xfrm>
          <a:prstGeom prst="rect">
            <a:avLst/>
          </a:prstGeom>
          <a:ln w="0">
            <a:noFill/>
          </a:ln>
        </p:spPr>
      </p:pic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4D0B756-B3C4-4697-882B-ECBA80013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Output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with version 5.0, Java includes a method nam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can be used to produce output in a specific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imilar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es not advance the output to the nex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f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have any number of 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argument is alway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mat 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contains one or mo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mat specifi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remaining arg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arguments except the first are values to be output to the sc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CE310D05-EE83-4BB0-9567-97DF0DB1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3" descr="savitch_c02d08_2of3"/>
          <p:cNvPicPr/>
          <p:nvPr/>
        </p:nvPicPr>
        <p:blipFill>
          <a:blip r:embed="rId1"/>
          <a:stretch/>
        </p:blipFill>
        <p:spPr>
          <a:xfrm>
            <a:off x="863640" y="1295280"/>
            <a:ext cx="6937200" cy="435924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20E171E-59FD-4E64-B750-9FA4B085E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3" descr="savitch_c02d08_3of3"/>
          <p:cNvPicPr/>
          <p:nvPr/>
        </p:nvPicPr>
        <p:blipFill>
          <a:blip r:embed="rId1"/>
          <a:stretch/>
        </p:blipFill>
        <p:spPr>
          <a:xfrm>
            <a:off x="863640" y="1295280"/>
            <a:ext cx="6856200" cy="4660920"/>
          </a:xfrm>
          <a:prstGeom prst="rect">
            <a:avLst/>
          </a:prstGeom>
          <a:ln w="0">
            <a:noFill/>
          </a:ln>
        </p:spPr>
      </p:pic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B176BD0-4FB8-4F4F-90E2-3DD65034C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ing Tip:  Prompt for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gram should always prompt the user when he or she needs to input some d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Enter the number of pods followed by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the number of peas in a pod: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8C3D4A5-A530-4CC1-A1D1-DC516A25F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ing Tip:  Echo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58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echo all input that a program receives from the keybo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way a user can check that he or she has entered the input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ough the input is automatically displayed as the user enters it, echoing the input may expose subtle errors (such as entering the let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"O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 of a zer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B047A1D-7857-4BDE-B2CF-5880F3E4C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Service Checkout Line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5" descr="savitch_c02d09_1of2"/>
          <p:cNvPicPr/>
          <p:nvPr/>
        </p:nvPicPr>
        <p:blipFill>
          <a:blip r:embed="rId1"/>
          <a:srcRect l="0" t="0" r="0" b="1936"/>
          <a:stretch/>
        </p:blipFill>
        <p:spPr>
          <a:xfrm>
            <a:off x="863640" y="1295280"/>
            <a:ext cx="6326280" cy="5143680"/>
          </a:xfrm>
          <a:prstGeom prst="rect">
            <a:avLst/>
          </a:prstGeom>
          <a:ln w="0">
            <a:noFill/>
          </a:ln>
        </p:spPr>
      </p:pic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96CE584-7862-4C31-852D-34F0B93C2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Service Checkout Line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3" descr="savitch_c02d09_2of2"/>
          <p:cNvPicPr/>
          <p:nvPr/>
        </p:nvPicPr>
        <p:blipFill>
          <a:blip r:embed="rId1"/>
          <a:stretch/>
        </p:blipFill>
        <p:spPr>
          <a:xfrm>
            <a:off x="863640" y="1333440"/>
            <a:ext cx="7075440" cy="2906640"/>
          </a:xfrm>
          <a:prstGeom prst="rect">
            <a:avLst/>
          </a:prstGeom>
          <a:ln w="0">
            <a:noFill/>
          </a:ln>
        </p:spPr>
      </p:pic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C638590-6082-4BA0-8305-ED94CAA9A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mpty 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ing can have any number of characters, including zero charac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empty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program executes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to read a line of text, and the user types nothing on the line but presse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ey, the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reads the empty 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B412A2E3-5AFB-46D6-B8AC-069FD6BCC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Input Delimi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limiters that separate keyboard input can be changed when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following code could be used to creat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and change the delimiter from whitespace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##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 keyboard2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Keyboard2.useDelimiter("##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invocation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useDelimi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##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t whitespace will be the only input delimiter for the input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board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F5C13E0-7B9F-4C01-ADC5-303E711D0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Input Delimi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5" descr="savitch_c02d10_1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135240"/>
          </a:xfrm>
          <a:prstGeom prst="rect">
            <a:avLst/>
          </a:prstGeom>
          <a:ln w="0">
            <a:noFill/>
          </a:ln>
        </p:spPr>
      </p:pic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2EB3FF4-43E6-41F4-AE24-43CFBDFF7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Input Delimi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3" descr="savitch_c02d10_2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34016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B867D52-C2B4-474C-AF3F-DA9E86B82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 Spec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5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ouble price = 19.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("$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f("%6.2f", pric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 each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output the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$ 19.80 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t str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%6.2f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dicates the following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 any text to be output and start the format specifier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 up  to 6 right-justified characters, pad fewer than six characters on the left with blank spaces (i.e.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ield 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 exactly 2 digits after the decimal point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 a floating point number, and end the format specifier (i.e.,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version charac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4C4F2FB-7293-4F89-BEF4-FDD843EE2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Input Delimi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3" descr="savitch_c02d10_3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141360"/>
          </a:xfrm>
          <a:prstGeom prst="rect">
            <a:avLst/>
          </a:prstGeom>
          <a:ln w="0">
            <a:noFill/>
          </a:ln>
        </p:spPr>
      </p:pic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1704F7D-DD06-425C-B063-ECBB3C1CD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and Left Justification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double value = 12.12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f("Start%8.2fEnd", valu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f("Start%-8.2fEnd", valu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output the follo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art   12.12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art12.12   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t str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Start%8.2fEnd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duces output that is right justified with three blank spaces befor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t str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Start%-8.2fEnd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duces output that is left justified with three blank spaces after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CC1BF25-5A0D-4CA6-8B42-BDBE50E00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argument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code contain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having three 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double price = 19.8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ring name = "magic apple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f("$%6.2f for each %s."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rice, nam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"Wow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$ 19.80 for each magic app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W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first argument is a format string containing two format specifiers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%6.2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format specifiers match up with the two arguments that follow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2593A12-4774-477F-9B12-49108B9A1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Break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 breaks can be included in a format string us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%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ouble price = 19.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name = "magic apple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printf("$%6.2f for each %s.%n", price, nam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Wow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$ 19.80 for each magic ap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293B30F-37F9-49B6-9FDF-E27D4BFEF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Specifiers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6" descr="savitch_c02d01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576680"/>
          </a:xfrm>
          <a:prstGeom prst="rect">
            <a:avLst/>
          </a:prstGeom>
          <a:ln w="0">
            <a:noFill/>
          </a:ln>
        </p:spPr>
      </p:pic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4588328-6B03-48DA-8850-8926B9E75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5:17Z</dcterms:modified>
  <cp:revision>13</cp:revision>
  <dc:subject/>
  <dc:title>Slide 1</dc:title>
</cp:coreProperties>
</file>