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C652-97DA-4220-AA1B-F9C6D65AE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A8B2-14A1-403E-955F-271CDFAC2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DF7F-6863-4276-82DE-71AA19925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340F-AF98-4ADD-B329-B38C0022B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862B-F51D-433E-AA91-63C1FB9BA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3D99-2DC2-4D2D-B121-40A5E842A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C707-7676-4F2F-985D-E1A3E519A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F89F-2BD4-4A1F-9CAF-E28159860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B47A-4E9A-48EC-BB71-040C094C1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8054-022D-446F-9DEA-448470B4B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F8BB-A585-4762-857C-82768F72A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B347-3994-43E4-97BB-70654D0C3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B6D1-BD72-447E-8AFE-A5136F9A7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6D18-1495-47B9-8D0C-FBBDB0D05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C0CD-26E3-416F-BB5E-7B52034C9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D7F5-481D-4764-B7E6-7CAF4DF9B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9E63-957E-4FC9-9DAB-2BD308777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FDC1-0294-41B3-A73D-97CB4F1BA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5628-ACE4-45B2-8927-32CC65357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B2DF-F057-4726-8683-C26615886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5AAA-4660-43AD-AA00-7217C1EAE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E33B-2C23-4033-B0B8-690F3D7CE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7EFB-534A-44C6-A548-345C4A123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5EEA-D810-476E-BFFF-AEF5B697C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E388-4C31-4FA8-B3C4-C7DA9DC37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6E2F-FF52-48F1-96B8-0B578FAFB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B682-9C49-42BF-964E-AE662B246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D633-8366-4848-A23F-513A0CE3C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5456-A6BE-49CF-8E01-0F03A45C3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EFD6-D19D-44C5-87E4-980EB9F77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2E9A-D62D-47F8-A6EE-139610665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4939-9201-4444-A005-28BFCA99A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7C9D-96E0-4D1F-ACCF-0E85DBE8B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CC08-21EE-4424-9C93-FE2DEDBC9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5DC4-F1CE-4864-9461-8B5795D59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B8EC-17A4-47BF-9209-873681F34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78B9-C25B-4D49-A181-E39BA83E9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90A7-3624-4A7A-9C9E-6A83C1C92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09B0-AAB2-4662-BC19-C60CFBA3E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6B16-F233-4333-99AC-507192F38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06E4-D742-4B6D-BDE6-3B8C7026D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20A6-CB6E-467A-8A2D-1F7E1F62D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2107-1C09-4096-AA1A-1FD91A20A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B63A-55B8-4349-97D8-3B8C4C7A0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763B-0697-4986-8E86-2C2513E34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77FF-F3C0-471D-9688-6DBDAE883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5B55-A4D4-45B4-A8BF-808E2016D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2230-5737-4F5F-9F03-1B91EBECE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830F-4D24-4CAE-BFD0-E4520B47C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79B3-ACEE-4574-B3D4-3F72F6B94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A900-EC32-4C07-B1D1-F5F502615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F49E-3471-4E8C-945F-5D8607707B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39AC-EED6-49E8-9328-B9DF6CEDC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F534-360B-464A-999B-3C4F7224A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9788-9427-4E81-9FA2-E2E4BBBDE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22F1-8BFF-4E11-A1DF-BD18D50E1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3D56-1AF8-4572-8A19-60F96ED429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8282-ABC8-4D8D-B1B8-6A7FD31EE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9F45-EA3E-4129-ABA7-7DCBF9AEB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6727-5521-4563-9763-9D28365D5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7CC8-22A8-4847-898C-8EB085A55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2479-018E-4C17-9A2D-65B0CB7C7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3118-7FAA-481E-9D8B-38BF2787D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7189-3254-4C26-B822-A1A7946B3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3ECF-A1CB-4CE7-8EA4-530ADFCBD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8102-B738-4AA4-B443-DB830B6BC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56BE-43A2-43E2-AC35-B97C8A596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9C2E-9AB6-4C28-9ADE-54C952529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DCBD-51C2-4162-8FE6-87F0C9CAC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7BFA-E2DF-4FFF-BFDA-03A58241B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BE3A-AEC0-48CF-8DC8-19AF51C42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1776-86E1-4E2D-A570-32F77BE32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14A6-ED22-416C-B145-D858B9B80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B673-9F94-4AE6-818B-2CAB82613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062C-B659-4DCC-8935-ED642088C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4ADD-78E8-4C5A-A3B2-396AD28A8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32D0-A613-487E-8665-5342D599B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4190-B41B-47C3-A794-ED2AC38CB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FEA8-0F29-4735-8CF7-3A9B57CCA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C539-2DC8-4F38-9CB8-7796DD751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C438-984D-4EAD-9C26-501FD8BA0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7066-6C3D-42A2-9123-010F92612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2CBF-D632-4FC5-B08A-BAEA99CB9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4AED-2C28-405A-9AA8-F19F9B3B5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7E5D-96BF-4FD2-8960-E564E00B1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759F-74DA-410F-AC0C-695521F81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7F50-5247-48DA-BD1D-F96E528B2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8728-9E68-46B8-B486-5DD25D75E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421A-13E4-4CDA-A0AA-578325722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7805-C32D-496A-91EE-C83607EA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F85-0A90-41FA-9F7D-B136BF2F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DEC09-B0EA-4FA0-8C20-FCB4C00A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B2FB0-4265-4633-8DA5-9996582C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7FC39-8DC3-4579-93A5-EB6EE5A4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66F35-9360-4A28-A80C-18A6000F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9A1A3-0A4A-40DF-A0C2-9AB9C64C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A3D20-B2B6-4B6D-8E95-1014E425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4D6A6-8E89-4946-9C67-11B4AE66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B8948-3190-4691-962A-EBC43450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8E5CB-B27F-45E8-989B-CBFC0212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9440F-A477-4B67-9537-10EED6BB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092-0BC8-4860-B0AD-7D046325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073CF-C734-43FC-A1D6-8F94B66F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CC746-E2C3-4FFA-92B8-A7C0C992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FC51A-4754-4207-A2C2-486C759E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00B9C-7329-4523-87AA-A8D0E536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44DD2-0A38-453A-AB2B-47346C7A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45A59-3D5F-4F0F-9754-310196B2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46D30-E6FB-4A47-80C4-6AC76A17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5578E-152A-40C5-998C-31FA9248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79455-EADB-45CD-AB87-FAF3D0B0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DBA8B-8E83-4358-B292-5494F0AE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E93-285E-4595-A2CD-DBB9A4C4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DF0E8-AF25-4413-AEED-9A04E3C4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D3E83-1B87-4E0D-B619-7242795F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DD142-1638-42F0-8BE5-070DE5E5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A60A0-4313-4E50-828B-08AA45A9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47430-1E38-4049-8C3E-086BD595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E73BF-ADE9-482F-ACD8-88D8E140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4E740-CB0A-46DF-9C8F-C1522C19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D5247-1225-4393-A51F-3C25A459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CB915-6AB9-4164-BF99-BDB23A96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C6B59-C5C7-4E31-B237-D20407A6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6103-DE8E-4FC6-AB83-C9E1ABAC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0E761-C1F6-479F-AC79-C2E86ECD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84F14-6E8B-4131-9DCF-36D0FFC8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2F783-8FD7-496A-B6CB-EE88D86A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8A06E-17C0-4523-9490-AF224C13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B3E62-0E0D-4DE2-9DF2-8E395B09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02947-F800-4ECB-869D-3FE90C7E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39C9E-9FCC-449A-BEF7-B7981177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DE3CC-85E5-455B-A4EB-BEC3C3A8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8A21E-7E31-435B-A40E-DEE635A4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9A9FF-394E-4770-9495-DED6C1E8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04BF-DCB0-4BF4-B9F4-BB1D56D5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2428D-8C22-4094-B0BC-25F72ED9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FD8FD-73A6-4713-A657-4E484170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A9A4A-C838-460A-BCF9-9599B934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3FBF0-2E5F-4508-A97F-32206747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BC475-E176-4401-9360-920861F9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1063-7250-4F93-99F1-255B4840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9D75-8137-42AD-8D21-A0A2AE56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9FA2-8C87-450B-8632-BD7EB180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40D6-5132-4F4B-9F68-65262408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5030-F511-4BA8-966B-2E8796A1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A40-B06A-4D7C-A505-CF7048D8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6970-1EE2-46D6-9DAF-84B8A8AF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2994-C884-48EB-8E2C-401E8B43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DB79-14DC-4BA4-8870-C989038A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83A3-025C-40BF-89F2-132D2853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E86F-0E8A-434A-A647-1B15F484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E2DB1-E6C1-4BF7-A6CA-CEC41C45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2F040-CDDB-40C5-9886-A36881B0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1810E-8F2F-4985-9E7F-8F652564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C6E8B-519C-44FA-813E-0204E453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C3A00-B5A4-4A39-B9F0-F7D38356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D63-682E-44FA-A3DD-3A1A3C23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52A3D-21CB-4400-9388-AB8A77A1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DCC8A-7E28-4A2B-9223-DD9FE4AB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CEA44-A968-46DD-8D25-65C7DBEA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F40D8-85DA-42D1-9207-66E9D7B6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8B2CC-6E4F-4DBA-BEA4-3C264C6C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A291D-5BE6-4A50-8BB2-E14248C1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F3C56-7917-43B3-89AF-3D356E6E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54B24-7AD5-4510-B8F6-F35E76D4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2B343-E37F-499E-A8CD-4D66D586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FA36D-6718-49B3-85FD-A97A256A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4109-0BC1-4149-9743-E7EB082E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8A81A-F4F4-4CA3-9DFF-D53CC77F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CE520-5721-425E-8A16-266A179A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E8D36-AF46-401D-A54E-EE5C3C6B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24D0B-7BFF-467A-ABFE-19FE2CAA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C439F-25C8-4C04-B392-6A6F05D1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38ECE-DE5C-4BBD-91F7-C4753795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98A5C-B6C8-4D32-A52A-126C2634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AF077-BA2E-4EA1-9097-8F6A9C7B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5F6DD-0AB8-4892-9AE9-FA900423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41F68-4CF8-48BB-8305-E9FF4A0A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4915-ED96-4DA8-851B-0632A2DD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76082-A241-4385-88B2-F2C75D44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83E16-3ECA-4E37-8F58-E02229A6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E83E5-04FB-4AF7-B704-0C67B0AC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D189E-AEB3-41BD-AA0F-0991F3AA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C82ED-73CE-4B20-8CE8-1B260F55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5312A-8B8A-4522-AE72-F6588ADD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B5928-850E-4FE2-A071-67519AF8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3480A-4779-49FD-ABF1-88B609C9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2E417-F109-407F-ACF1-D2B5712E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CA7AC-192E-492A-B328-4A7FF0EE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54ED-EEC6-4003-9F6C-C20A318E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786A2-7147-49CC-9926-94585E41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FF283-AD81-4659-907D-F2EB07D7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47B6D-B4F2-4718-8528-8E3E2316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DFE44-E2D4-4170-9844-A457A0D1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01460-FAB6-4203-BAE4-3C4CAD2F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6C52F-9677-4F7F-8E67-1E48CC70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111BF-BA87-46A4-A555-EF007515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091EA-5052-4E19-AD95-3A337A72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67624-FFCB-45A9-B0D1-776307A7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773FA-1C54-4EEB-8442-9EC3A773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0519-3B92-456F-A720-5A205A11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9E703-B6AF-4963-8C09-8BB326C0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19091-861B-4805-A9E7-F02F80D0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F45DB-9D8F-435E-A145-DD031B86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BCE3F-51B5-4AA7-8B8F-F0A7D8DC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FDD36-F7C8-4579-821C-58F977FD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80E0F-200A-4088-A8BC-71ED02F9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C695C-EB21-42F3-A369-21BD9484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E0497-ABD7-436E-804E-6D136CD5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F58D6-6890-461D-9776-0CB4FE17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196AF-6679-4CB4-B1F3-073FB9DD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A825-60A8-4A45-870E-828642CE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C1C58-4062-4BBD-A91C-CF9E691F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A7C56-6ED0-4FF9-8840-24E5B130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0597F-0799-4E3C-9495-83E76A7A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720DB-3F46-4E4F-9405-7B41B288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EBFB2-AC12-47E3-8E37-14699C79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6DCDB-E652-4045-87C6-0F65AABE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7EDC1-91D8-4118-8BAA-9011EAB5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343FC-B10C-4FE8-8EF1-EE2D0BF6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59CDB-82F8-44BC-A882-5B90C23B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13CB4-CBEE-45EB-BECC-A54BD04D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26E7-78D9-495F-81F0-CF6E4839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0C4EE-296C-4279-9453-DC206832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885F8-7A8F-4D17-823E-BDD0614B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7F86F-748A-4AFC-A83F-E5017A01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83436-F67A-4E25-9F36-FAA6CE2C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D19C9-9152-4162-99B3-976F3F82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E06D5-8BE6-4B75-9144-B19EE400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CB51E-7A83-416D-8E44-BC91EDE0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925F6-3117-4517-B77D-9D74556A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E77DF-74A5-4019-A933-0A295E83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6982B-6629-4BF4-B1B0-340286B4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8566-2A8B-4F69-B478-805A9E87374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8201B4F-4B30-4EE8-BCA4-1600DB193E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A472-FB0F-4952-A9EB-BDAD1499BD9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66DAB48-BC75-4E1E-BECE-DFEC2B0C04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BE8D-9CC1-4530-925E-4FF1F799102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2D3658F6-3B2A-4585-89D5-783117A21A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9175-EC8D-4508-85A4-0AFF8F2BA29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946D185-20EC-44F7-8173-9CE0789EB7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C4E0-4774-41D7-947B-770A6A74ED2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268C7F4-3476-4A20-AFDD-2F3E6BD04D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085F-471F-46DB-9F12-444E340E384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64A4BB5-E836-4A01-9BC1-33FB166060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B97E-1CC4-4449-8EDE-362C464FCC7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35A1A2FE-BEB5-48DB-8B34-C843EF0246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4585-66E0-42E9-B4A3-21ABDA4C0FF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BAB5E2C-7379-4825-AE35-09BBDF05AF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F68F-580D-4D9B-813D-6F601004206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0E192BE-8943-4744-8390-BC57CFB339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66CA-361D-4A0A-BCB6-33F54484F54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4D2F6D0-AEC3-4651-AFD1-430F5EB7DE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600C-8F57-4D06-9E73-FA7B195358E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320F87E6-DF7C-4593-B874-A1A28D8CDD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223D-6BF5-4D4E-958B-9019E34534C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2262441-1132-49E6-9BB5-B760384043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Ways to Use Square Bracket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an Array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quare brackets can be used to create a type nam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[] scor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quare brackets can be used with an integer value as part of the special syntax Java uses to create a new arra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ore = new double[5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quare brackets can be used to name an indexed variable of an arra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max = score[0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D555C85E-7F32-4B73-81B2-D47A19275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stance Vari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rray is considered to be an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other objects can have instance variables, so can arr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array has exactly one instance variable named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an array is created, the instance variabl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automatically set equal to its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value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annot be changed (other than by creating an entirely new array with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score = new double[5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ve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ore.leng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as a value of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BF3531D7-97CC-436F-8E3F-59BE42AC7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 Array Index Out of B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ray indices always start wit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always end with the integer that is one less than the size of th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ost common programming error made when using arrays is attempting to use a nonexistent array ind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n index expression evaluates to some value other than those allowed by the array declaration, the index is said to b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ut of b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out of bounds index will cause a program to terminate with a run-time error mes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ray indices get out of bounds most commonly at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teration of a loop that processes the array:  Be sure to test for thi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5A91F13D-F69B-4CB0-A1B8-9DA27DE15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izing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ray can be initialized when it is decla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s for the indexed variables are enclosed in braces, and separated by  com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rray size is automatically set to the number of values in the br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[] age = {2, 12, 1}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ove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ge.leng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s a value of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0B4DAB6A-3B49-4C3B-BBB5-5A62FE258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izing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her way of initializing an array is by using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reading = new double[10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inde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index = 0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dex &lt; reading.length; index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ading[index] = 42.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elements of an array are not initialized explicitly, they will automatically be initialized to the default value for their base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BC95B3C0-6D1D-4DA2-B3E4-F6EBB8C44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n Array of Characters Is Not a St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ray of characters is conceptually a list of characters, and so is conceptually like a st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an array of characters is not an object of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har[] a = {'A', 'B', 'C'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tring s = a; //Illegal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ray of characters can be converted to an object of typ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how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E572073A-69D7-4CE3-9D94-F58F781FF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n Array of Characters Is Not a St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s a constructor that has a single parameter of typ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har[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 s = new String(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bjec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ll have the same sequence of characters as the entire arra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"ABC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ut is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othe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structor uses a subrange of a character array inst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 s2 = new String(a,0,2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s before, the new string object i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"AB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16FAF0A8-7086-4B91-9BB8-551BA0889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n Array of Characters Is Not a St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ray of characters does have some things in common with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an array of characters can be output using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printl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ystem.out.println(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before, this would produce the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50C73CF5-8AB9-4B49-9F33-3D7158D66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ys and 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class types, a variable of an array type holds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rays ar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 of an array type holds the address of where the array object is stored in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ray types are (usually) considered to be class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B5A3D3B2-8148-4921-AB31-CB5C97B12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ys ar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rray can be viewed as a collection of indexed 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rray can also be viewed as a single item whose value is a collection of values of a base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rray variable names the array as a single i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xpression creates an array object and stores the object in mem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10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ssignment statement places a reference to the memory address of an array object in the array vari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 = new double[1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133AB966-07A1-457F-B198-F334F771F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rra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data structure used to process a collection of data that is all of the same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rray behaves like a numbered list of variables with a uniform naming mech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has a part that does not change:  the name of th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has a part that can change:  an integer in square brac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given five scor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ore[0], score[1], score[2], score[3], score[4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BC2002E1-0911-48FD-8EAE-54C50BEB9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ys Ar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evious steps can be combined into one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a = new double[1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xpression that creates an array invokes a constructor that uses a nonstandard synta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also that as a result of the assignment statement above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 single value:  a memory address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f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an array is a reference type, the behavior of arrays with respect to assignment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equality testing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and parameter passing are the same as that described for clas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D8B6C86A-8B7C-41C9-A52A-980F0984F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rrays with a Class Base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e type of an array can be a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ate[]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lidayList = new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ate[20]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ove example creates 20 indexed variables of typ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does not create 20 objects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of these indexed variables are automatically initialized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attempt to reference any them at this point would result in a "null pointer exception" error 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37799893-C544-4AAC-B0E0-0FD8C4C50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rrays with a Class Base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e any other object, each of the indexed variables requires a separate invocation of a constructor us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singly, or perhaps using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p) to create an object to ref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olidayList[0]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at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olidayList[19]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at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int i = 0; i &lt; holidayList.length; i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olidayList[i] = new Dat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of the indexed variables can now be referenced since each holds the memory  address of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2756DC31-A717-4009-9F56-0E59DFA6D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y 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array indexed variables and entire arrays can be used as arguments to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dexed variable can be an argument to a method in exactly the same way that any variable of the array base type can be an arg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243795D6-EF91-4720-85BF-C1176B02B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y 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 n = 0.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a = new double[10];//all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/are initialized to 0.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i = 3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myMeth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takes one argument of typ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n all of the following are leg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myMethod(n);//n evaluates to 0.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myMethod(a[3]);//a[3] evaluates to 0.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myMethod(a[i]);//i evaluates to 3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/a[3] evaluates to 0.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CF2E20C3-266A-4412-B4B0-9A3A31639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y 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gument to a method may be an entire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ray arguments behave like objects of a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, a method can change the values stored in the indexed variables of an array argu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ethod with an array parameter must specify the base type of the array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BaseType[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does not specify the length of th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A38CECC4-D793-408F-8BDE-B3D98B172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y 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method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Elem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specifies an array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s its single argu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class Sample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static void doubleElements(double[] 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i = 0; i &lt; a.length; i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[i] = a[i]*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5362AED1-CD9B-44E4-B6A6-74816D337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y 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rays of double may be defin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a = new double[1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b = new double[3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arrays above, 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Elem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mpleCl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invok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mpleClass.doubleElements(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mpleClass.doubleElements(b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no square brackets are used when an entire array is given as an argu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also that a method that specifies an array for a parameter can take an array of any length as an argu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8EDD5D79-91C1-41FD-832F-25CD9B363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tfall:  Use of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ith Arr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an array variable contains the memory address of the array it names, the assignment operator (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nly copies this memory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does not copy the values of each indexed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the assignment operator will make two array variables be different names for the sam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 = 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mory address i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now the same as the memory address i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They reference the sam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AE96D0F2-4ABC-4348-9F3F-6443C5F5A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tfall:  Use of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ith Arr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 is usually used to make two different arrays have the same values in each indexed posi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i = 0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i &lt; a.length)  &amp;&amp; (i &lt; b.length); i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[i] = a[i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above code will not mak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 exact copy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unle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ve the same leng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E3426C09-B1A6-43C1-8BF6-570C8CD1C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nd Accessing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rray that behaves like this collection of variables, all of typ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an be created using one statement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score = new double[5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using two statem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scor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ore = new double[5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statement declares the variabl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be of the array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cond statement creates an array with five numbered variables of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makes the variabl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name for the arr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596AC4F5-4421-4324-BADE-4E1CDB27D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tfall:  Use of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ith Arr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the same reason, the equality operator </a:t>
            </a:r>
            <a:r>
              <a:rPr b="1" lang="en-US" sz="2800" spc="-1" strike="noStrike">
                <a:solidFill>
                  <a:srgbClr val="034ca1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1" lang="en-US" sz="2800" spc="-1" strike="noStrike">
                <a:solidFill>
                  <a:srgbClr val="034ca1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ly tests two arrays to see if they are stored in the same location in the computer's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does not test two arrays to see if they contain the same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a == 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ult of the abov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xpression will b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hare the same memory address (and, therefore, reference the same array),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therw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274CA64A-6BC5-44C8-B4A9-A5CEFFC03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tfall:  Use of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ith Arr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same way that an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can be defined for a class, an  </a:t>
            </a:r>
            <a:r>
              <a:rPr b="1" i="1" lang="en-US" sz="3200" spc="-1" strike="noStrike">
                <a:solidFill>
                  <a:srgbClr val="034ca1"/>
                </a:solidFill>
                <a:latin typeface="Courier New"/>
              </a:rPr>
              <a:t>equalsArray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 can be defined for a type of arr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how two arrays must be tested to see if they contain the same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ollowing method tests two integer arrays to see if they contain the same integer valu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79BFFCFF-052B-490D-A8C0-9036363A1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tfall:  Use of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ith Arr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static boolean equalsArray(int[] a, int[] 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 (a.length != b.length)  return fals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i =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hile (i &lt; a.lengt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 (a[i] != b[i]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++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F9BE4AA9-91E1-4912-9428-BBA22FBCC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uments for the Metho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heading for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of a program has a parameter for an array 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usually called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ar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y conven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static void main(String[]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args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sinc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ar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parameter, it could be replaced by any other non-keyword ident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Java program is run without giving an argument to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a default empty array of strings is automatically provi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8B4D07AD-9EAC-4DB6-B2B3-8659392F6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uments for the Metho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e is a program that expects three string argume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class Some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args[0] + " " 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rgs[2] + args[1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if it needed numbers, it would have to convert them from strings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13DD25D1-D557-4B5A-A11E-58446CCFC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uments for the Metho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program requires that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be provided an array of strings argument, each element must be provided from the command line when the program is r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ava SomeProgram Hi ! there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ill se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gs[0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"Hi"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gs[1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"!",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gs[2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"there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ill also se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gs.leng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omeProgr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run as shown, its output will b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i ther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04D4B280-BF20-4F15-B2AF-9709B80E3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 That Return an Arr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Java, a method may also return an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turn type is specified in the same way that an array parameter is specif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static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int[]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crementArray(int[] a, int incre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[] temp = new int[a.length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i = 0; i &lt; a.length; i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emp[i] = a[i] + incremen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te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BED92B7E-12B3-46CD-8141-FAEAAEB9A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ially Filled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xact size needed for an array is not always known when a program is written, or it may vary from one run of the program to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mon way to handle this is to declare the array to be of the largest size that the program could possibly n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 must then be taken to keep track of how much of the array is actually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ndexed variable that has not been given a meaningful value must never be refere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8B43BFF0-75A1-4F1E-8F3F-82B388475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ially Filled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 can be used to keep track of how many elements are currently stored in an arr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given the variabl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elements of the arra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omeArr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ll range from position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omeArray[0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roug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omeArray[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count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– 1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variabl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ll be used to process the partially filled array instead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omeArray.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also that this variable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must be an argument to any method that manipulates the partially filled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8E065287-EF6E-4AD8-8012-E8694EA91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or Methods Need Not Simply Return Instance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an instance variable names an array, it is not always necessary to provide an accessor method that returns the contents of the entire arr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ead, other accessor methods that return a variety of information about the array and its elements may be suf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8487FF2B-0ADC-460D-9441-95C1661BC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nd Accessing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dividual variables that together make up the array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dexed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can also be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ubscripted variab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umber in square brackets is called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ubscri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Java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dices must be numbered starting with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 and nothing e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ore[0], score[1], score[2], score[3], score[4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58FE93A2-7E55-40F9-AA21-F0B3094CA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"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for ea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" Lo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tandard Java libraries include a number of collection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es whose objects store a collection of val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dinar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ps cannot cycle through the elements in a collection obj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like array elements, collection object elements are not normally associated with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re is a new kind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p, first available in Java 5.0, called a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-each loo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nhanced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kind of loop can cycle through each element in a collection even though the elements are not index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F3B87BE2-C2FA-45CE-AEB8-49F8D67C4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"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for ea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" Lo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hough an ordinar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p cannot cycle through the elements of a collection class, an enhance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p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ycle through the elements of an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eneral syntax for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each loop statement used with an array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ArrayBaseType VariableName : ArrayNam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bov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each line should be read as "for eac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Variable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 the following: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VariableN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declared with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each loop, not bef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also that a colon (not a semicolon) is used aft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Variable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207C1389-D86C-4E1C-8A2F-FCCB81C9D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"For-Each" Lo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034ca1"/>
                </a:solidFill>
                <a:latin typeface="Calibri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each loop</a:t>
            </a:r>
            <a:r>
              <a:rPr b="0" lang="en-US" sz="24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make code cleaner and less error pr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indexed variable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p is used only as a way to cycle through the elements, then it would be preferable to change it to a </a:t>
            </a:r>
            <a:r>
              <a:rPr b="0" lang="en-US" sz="2400" spc="-1" strike="noStrike">
                <a:solidFill>
                  <a:srgbClr val="034ca1"/>
                </a:solidFill>
                <a:latin typeface="Calibri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each 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for (int i = 0; i &lt; a.length; i++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[i] = 0.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chang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for (double element : 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lement = 0.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</a:t>
            </a:r>
            <a:r>
              <a:rPr b="0" lang="en-US" sz="2400" spc="-1" strike="noStrike">
                <a:solidFill>
                  <a:srgbClr val="034ca1"/>
                </a:solidFill>
                <a:latin typeface="Calibri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each syntax is  simpler and quite easy to underst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0A18361D-3275-4B14-8B19-1A2C727B1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s with a Variable Number of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ing with Java 5.0, methods can be defined that take any number of arg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ly, it is implemented by taking in an array as argument, but the job of placing values in the array is done automatic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lues for the array are given as argu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va automatically creates an array and places the arguments in th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arguments corresponding to regular parameters are handled in the usual 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FB68037D-9252-457F-804F-4AF4F3CDB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s with a Variable Number of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h a method has as the last item on its parameter list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rarg specific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for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ype... Array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e three dots called 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llip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t must be included as part of the vararg specification synta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ing the arguments for regular parameters are any number of arguments of the type given in the vararg spec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arguments are automatically placed in an arr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array can be used in the method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a vararg specification allows any number of arguments, including z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8F201037-4206-4CD4-91EA-36E4E4C6D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 with a Variable Number of Parameters (Part 1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Picture 5" descr="savitch_c06d07_1of2"/>
          <p:cNvPicPr/>
          <p:nvPr/>
        </p:nvPicPr>
        <p:blipFill>
          <a:blip r:embed="rId1"/>
          <a:stretch/>
        </p:blipFill>
        <p:spPr>
          <a:xfrm>
            <a:off x="857160" y="1608120"/>
            <a:ext cx="7772400" cy="4840200"/>
          </a:xfrm>
          <a:prstGeom prst="rect">
            <a:avLst/>
          </a:prstGeom>
          <a:ln w="0">
            <a:noFill/>
          </a:ln>
        </p:spPr>
      </p:pic>
      <p:sp>
        <p:nvSpPr>
          <p:cNvPr id="6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70670C97-D3B2-4B27-A362-4DD552590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 with a Variable Number of Parameters (Part 2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3" descr="savitch_c06d07_1of2"/>
          <p:cNvPicPr/>
          <p:nvPr/>
        </p:nvPicPr>
        <p:blipFill>
          <a:blip r:embed="rId1"/>
          <a:stretch/>
        </p:blipFill>
        <p:spPr>
          <a:xfrm>
            <a:off x="857160" y="1608120"/>
            <a:ext cx="7772400" cy="4840200"/>
          </a:xfrm>
          <a:prstGeom prst="rect">
            <a:avLst/>
          </a:prstGeom>
          <a:ln w="0">
            <a:noFill/>
          </a:ln>
        </p:spPr>
      </p:pic>
      <p:sp>
        <p:nvSpPr>
          <p:cNvPr id="6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8D3E8A85-4698-4F62-A391-A4B5D3BE4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cy Leaks with Array Instance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n accessor method does return the contents of an array, special care must be ta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 as when an accessor returns a reference to any private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ublic double[] getArray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return anArray;//BA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xample above will result in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ivacy l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2C855941-55E6-45D1-90EA-FAC92E994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cy Leaks with Array Instance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evious accessor method would simply return a reference to the arra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nArr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tse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ead, an accessor method should return a reference to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eep co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private array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low, both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instance variables of the class containing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Arra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double[] getArray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temp = new double[count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int i = 0; i &lt; count; i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emp[i] = a[i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tem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2B4076EA-0849-4394-8C73-4458517B8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cy Leaks with Array Instance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 private instance variable is an array that has a class as its base type, then copies must be made of each class object in the array when the array is copi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ClassType[]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getArray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ClassType[]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temp = new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ClassTyp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[count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int i = 0; i &lt; count; i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emp[i] = new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ClassTyp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someArray[i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te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B4FD745E-5799-4B6D-BDA2-85F1B166D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nd Accessing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of indexed variables in an array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n array is created, the length of the array is given in square brackets after the array typ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dexed variables are then numbered starting with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ending with the integer that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ne less than the length of the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ore[0], score[1], score[2], score[3], score[4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950753B8-C10C-4268-94C6-E810E9F6E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rting an Arr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ort method takes in an array paramete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rearranges the elements i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o that after the method call is finished, the elements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sorted in ascending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lection so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ccomplishes this by using the following algorith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int index = 0; index &lt; count; index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lace the indexth smallest element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[index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C708C155-C7D3-4383-B4E4-FEC9EC8A0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ion Sort (Part 1 of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savitch_c06d10_1of2"/>
          <p:cNvPicPr/>
          <p:nvPr/>
        </p:nvPicPr>
        <p:blipFill>
          <a:blip r:embed="rId1"/>
          <a:stretch/>
        </p:blipFill>
        <p:spPr>
          <a:xfrm>
            <a:off x="857160" y="1265400"/>
            <a:ext cx="7772400" cy="4451040"/>
          </a:xfrm>
          <a:prstGeom prst="rect">
            <a:avLst/>
          </a:prstGeom>
          <a:ln w="0">
            <a:noFill/>
          </a:ln>
        </p:spPr>
      </p:pic>
      <p:sp>
        <p:nvSpPr>
          <p:cNvPr id="7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30865D06-FA44-4DD2-9AE6-2E1CB3526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ion Sort (Part 2 of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Picture 4" descr="savitch_c06d10_2of2"/>
          <p:cNvPicPr/>
          <p:nvPr/>
        </p:nvPicPr>
        <p:blipFill>
          <a:blip r:embed="rId1"/>
          <a:stretch/>
        </p:blipFill>
        <p:spPr>
          <a:xfrm>
            <a:off x="857160" y="1278000"/>
            <a:ext cx="7772400" cy="4216320"/>
          </a:xfrm>
          <a:prstGeom prst="rect">
            <a:avLst/>
          </a:prstGeom>
          <a:ln w="0">
            <a:noFill/>
          </a:ln>
        </p:spPr>
      </p:pic>
      <p:sp>
        <p:nvSpPr>
          <p:cNvPr id="7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BBD13F30-4058-4F6A-B7A6-E8853D9F1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ionS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 (Part 1 of 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class SelectionS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econdition: count &lt;= a.length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e first count indexed variables h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valu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ction: Sorts a so that a[0] &lt;= a[1] &lt;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.. &lt;= a[count - 1]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5502228D-D9F6-4A47-AF74-6E6AA67A1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ionS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 (Part 2 of 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static void sort(double[] a, int cou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index, indexOfNextSmalles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index = 0; index &lt; count - 1; index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//Place the correct value in a[index]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dexOfNextSmallest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dexOfSmallest(index, a, count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erchange(index,indexOfNextSmallest, 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/a[0]&lt;=a[1]&lt;=...&lt;=a[index] and these 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/the smallest of the original arr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/elements. The remaining positions cont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/the rest of the original array ele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DA816881-84A8-4381-8522-DFC73D5D0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ionS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 (Part 3 of 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s the index of the smallest value amo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[startIndex], a[startIndex+1], 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[numberUsed - 1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ivate static int indexOfSmallest(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artIndex, double[] a, int cou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 min = a[startIndex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indexOfMin = startInde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inde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8766ECC3-D646-44A9-ACC1-903532DDB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ionS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 (Part 4 of 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index = startIndex + 1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dex &lt; count; index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 (a[index] &lt; mi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min = a[index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dexOfMin = inde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/min is smallest of a[startIndex] throu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/a[index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indexOfMi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8A81103D-7F3A-42E2-A9AE-163C51C53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ionS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 (Part 5 of 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econdition: i and j are legal indices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e array 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ostcondition: Values of a[i] and a[j] h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een interchang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ivate static void interchange(int i, int j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     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 te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emp = a[i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[j] = temp; //original value of a[i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973815AB-AE0B-4804-B89B-CA02E9CAF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umerated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ing with version 5.0, Java permits enumerated 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enumerated type is a type in which all the values are given in a (typically) short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finition of an enumerated type is normally placed outside of all methods in the same place that named constants are defin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num TypeName {VALUE_1, VALUE_2, …, VALUE_N}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a value of an enumerated type is a kind of named constant and so, by convention, is spelled with all uppercase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with any other type, variables can be declared of an enumerated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2437ED9B-5E58-49C1-9778-7BCB55C2D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umerated Type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the following definition of an enumerated typ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num WorkDay {MONDAY, TUESDAY, WEDNESDAY, THURSDAY, FRIDAY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 of this type can be declared as follow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orkDay meetingDay, availableDa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ue of a variable of this type can be set to one of the values listed in the definition of the type, or else to the special valu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meetingDay = WorkDay.THURSDA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vailableDay = nul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6E3BAE33-EB59-40E8-A8E2-F9557EFC4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nd Accessing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score = new double[5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variable may be used in place of the integer (i.e., in place of the integer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value of this variable can then be read from the keybo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enables the size of the array to be determined when the program is ru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score = new double[count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rray can have indexed variables of any type, including any class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f the indexed variables in a single array must be of the same type,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ase typ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736E4D47-8264-49C6-83A9-9FAFBE91C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umerated Types U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 like other types, variable of this type can be declared and initialized at the same tim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orkDay meetingDay = WorkDay.THURSDA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the value of an enumerated type must be prefaced with the name of the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lue of a variable or constant of an enumerated type can be output us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ntl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meetingDay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produce the following outpu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THURS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will the co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WorkDay.THURSDAY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the type name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orkDa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not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1E0C4F3F-C8DF-4B86-9F71-B98DFE344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umerated Types U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hough they may look lik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ues, values of an enumerated type are no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y can be used for tasks which could be done b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ues and, in some cases, work b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variable allows the possibility of setting the variable to a nonsense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an enumerated type variable constrains the possible values for that vari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error message will result if an attempt is made to give an enumerated type variable a value that is not defined for its type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CB3168B7-580F-498E-B079-29DBA9781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umerated Types U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variables or constants of an enumerated type can be compared using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or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or has a nicer 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 (meetingDay == availableDa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ystem.out.println("Meeting will be on schedule.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 (meetingDay == WorkDay.THURSDA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ystem.out.println("Long weekend!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6C0A66F0-58BE-48F3-9ADB-DE87FF4E0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Enumerated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3" name="Picture 6" descr="savitch_c06d13"/>
          <p:cNvPicPr/>
          <p:nvPr/>
        </p:nvPicPr>
        <p:blipFill>
          <a:blip r:embed="rId1"/>
          <a:stretch/>
        </p:blipFill>
        <p:spPr>
          <a:xfrm>
            <a:off x="857160" y="1608120"/>
            <a:ext cx="7772400" cy="4780080"/>
          </a:xfrm>
          <a:prstGeom prst="rect">
            <a:avLst/>
          </a:prstGeom>
          <a:ln w="0">
            <a:noFill/>
          </a:ln>
        </p:spPr>
      </p:pic>
      <p:sp>
        <p:nvSpPr>
          <p:cNvPr id="7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49A80B7C-488E-49D0-9D71-F352CFAA4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thods Included with Every Enumerated Type (Part 1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7" name="Picture 6" descr="savitch_c06d14_1of3"/>
          <p:cNvPicPr/>
          <p:nvPr/>
        </p:nvPicPr>
        <p:blipFill>
          <a:blip r:embed="rId1"/>
          <a:stretch/>
        </p:blipFill>
        <p:spPr>
          <a:xfrm>
            <a:off x="857160" y="1608120"/>
            <a:ext cx="7772400" cy="47372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76BD3EB8-38B5-419F-B5B8-374F982DA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thods Included with Every Enumerated Type (Part 2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Picture 3" descr="savitch_c06d14_2of3"/>
          <p:cNvPicPr/>
          <p:nvPr/>
        </p:nvPicPr>
        <p:blipFill>
          <a:blip r:embed="rId1"/>
          <a:stretch/>
        </p:blipFill>
        <p:spPr>
          <a:xfrm>
            <a:off x="857160" y="1608120"/>
            <a:ext cx="7772400" cy="4822920"/>
          </a:xfrm>
          <a:prstGeom prst="rect">
            <a:avLst/>
          </a:prstGeom>
          <a:ln w="0">
            <a:noFill/>
          </a:ln>
        </p:spPr>
      </p:pic>
      <p:sp>
        <p:nvSpPr>
          <p:cNvPr id="7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E7BDA2B8-67E1-4018-AC26-CE724F405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thods Included with Every Enumerated Type (Part 3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5" name="Picture 3" descr="savitch_c06d14_3of3"/>
          <p:cNvPicPr/>
          <p:nvPr/>
        </p:nvPicPr>
        <p:blipFill>
          <a:blip r:embed="rId1"/>
          <a:stretch/>
        </p:blipFill>
        <p:spPr>
          <a:xfrm>
            <a:off x="857160" y="1608120"/>
            <a:ext cx="7772400" cy="3381480"/>
          </a:xfrm>
          <a:prstGeom prst="rect">
            <a:avLst/>
          </a:prstGeom>
          <a:ln w="0">
            <a:noFill/>
          </a:ln>
        </p:spPr>
      </p:pic>
      <p:sp>
        <p:nvSpPr>
          <p:cNvPr id="7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5E80BDA5-F939-447E-8B40-927F75229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get the full potential from an enumerated type, it is often necessary to cycle through all the values of the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enumerated type is automatically provided with the static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values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provides this 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returns an array whose elements are the values of the enumerated type given in the order in which the elements are listed in the definition of the enumerated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ase type of the array that is returned is the enumerated typ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CFE5D552-1EE2-4BBC-82D3-2C85353C5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Part 1 of 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3" name="Picture 6" descr="savitch_c06d15_1of2"/>
          <p:cNvPicPr/>
          <p:nvPr/>
        </p:nvPicPr>
        <p:blipFill>
          <a:blip r:embed="rId1"/>
          <a:srcRect l="0" t="1964" r="0" b="2219"/>
          <a:stretch/>
        </p:blipFill>
        <p:spPr>
          <a:xfrm>
            <a:off x="857160" y="1389240"/>
            <a:ext cx="6783480" cy="4976640"/>
          </a:xfrm>
          <a:prstGeom prst="rect">
            <a:avLst/>
          </a:prstGeom>
          <a:ln w="0">
            <a:noFill/>
          </a:ln>
        </p:spPr>
      </p:pic>
      <p:sp>
        <p:nvSpPr>
          <p:cNvPr id="7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F05E3960-386E-44BA-8113-90EFBBF16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Part 2 of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7" name="Picture 4" descr="savitch_c06d15_2of2"/>
          <p:cNvPicPr/>
          <p:nvPr/>
        </p:nvPicPr>
        <p:blipFill>
          <a:blip r:embed="rId1"/>
          <a:stretch/>
        </p:blipFill>
        <p:spPr>
          <a:xfrm>
            <a:off x="857160" y="1608120"/>
            <a:ext cx="7772400" cy="320508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23D72A1B-9163-4B2A-A1F0-815C76531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laring and Creating an Arr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ray is declared and created in almost the same way that objects are declared and crea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BaseTyp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[]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ArrayNam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= new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BaseTyp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siz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be given as an expression that evaluates to a nonnegative integer, for example,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har[] line = new char[8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reading = new double[count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erson[] specimen = new Person[10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31D45F17-A223-4FD1-85D8-C688D9F8C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ming Tip:  Enumerated Types i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umerated types can be used to control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rol expression uses a variable of an enumerated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labels are the unqualified values of the same enumerated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umerated type control variable is set by using the static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value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convert an input string to a value of the enumerated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put string must contain all upper case letters, or be converted to all upper case letters using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oUpperCa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4AA7A752-76F1-443D-AF73-2DCDA73DD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umerated Type in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 (Part 1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Picture 6" descr="savitch_c06d16_1of3"/>
          <p:cNvPicPr/>
          <p:nvPr/>
        </p:nvPicPr>
        <p:blipFill>
          <a:blip r:embed="rId1"/>
          <a:stretch/>
        </p:blipFill>
        <p:spPr>
          <a:xfrm>
            <a:off x="857160" y="1608120"/>
            <a:ext cx="7772400" cy="2782800"/>
          </a:xfrm>
          <a:prstGeom prst="rect">
            <a:avLst/>
          </a:prstGeom>
          <a:ln w="0">
            <a:noFill/>
          </a:ln>
        </p:spPr>
      </p:pic>
      <p:sp>
        <p:nvSpPr>
          <p:cNvPr id="7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22931C9D-C4F5-4291-8080-1F22356AD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umerated Type in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 (Part 2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9" name="Picture 3" descr="savitch_c06d16_2of3"/>
          <p:cNvPicPr/>
          <p:nvPr/>
        </p:nvPicPr>
        <p:blipFill>
          <a:blip r:embed="rId1"/>
          <a:stretch/>
        </p:blipFill>
        <p:spPr>
          <a:xfrm>
            <a:off x="857160" y="1608120"/>
            <a:ext cx="7772400" cy="4676760"/>
          </a:xfrm>
          <a:prstGeom prst="rect">
            <a:avLst/>
          </a:prstGeom>
          <a:ln w="0">
            <a:noFill/>
          </a:ln>
        </p:spPr>
      </p:pic>
      <p:sp>
        <p:nvSpPr>
          <p:cNvPr id="8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CAFDB2AC-B755-4E38-80BF-FE8F9BE0F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umerated Type in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 (Part 3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Picture 3" descr="savitch_c06d16_3of3"/>
          <p:cNvPicPr/>
          <p:nvPr/>
        </p:nvPicPr>
        <p:blipFill>
          <a:blip r:embed="rId1"/>
          <a:stretch/>
        </p:blipFill>
        <p:spPr>
          <a:xfrm>
            <a:off x="857160" y="1608120"/>
            <a:ext cx="7772400" cy="3692520"/>
          </a:xfrm>
          <a:prstGeom prst="rect">
            <a:avLst/>
          </a:prstGeom>
          <a:ln w="0">
            <a:noFill/>
          </a:ln>
        </p:spPr>
      </p:pic>
      <p:sp>
        <p:nvSpPr>
          <p:cNvPr id="8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E1149847-5057-4709-AC8F-1BF232337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dimensional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sometimes useful to have an array with more than one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dimensional arrays are declared and created in basically the same way as one-dimensional ar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simply use as many square brackets as there are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index must be enclosed in its own brac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[]table = new double[100][1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[][][] figure = new int[10][20][3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erson[][] = new Person[10][10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65779971-D6D2-48E1-BE75-F655D378E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dimensional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dimensional arrays may have any number of indices, but perhaps the most common number is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-dimensional array can be visualized as a two-dimensional display with the first index giving the row, and the second index giving the colum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har[][] a = new char[5][12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, like a one-dimensional array, each element of a multidimensional array is just a variable of the base type (in this case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CE875939-2A67-48D6-A79F-E38164F67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dimensional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Java, a two-dimensional array, such a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s actually an array of ar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rra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tains a reference to a one-dimensional array of size 5 with a base type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har[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indexed variable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0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1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tc.) contains a reference to a one-dimensional array of size 12, also with a base type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har[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hree-dimensional array is an array of arrays of arrays, and so forth for higher dimen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06D5339E-4F79-4684-87E6-699ABD54E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-Dimensional Array as an Array of Arrays (Part 1 of 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9" name="Picture 7" descr="savitch_c06d17_1of2"/>
          <p:cNvPicPr/>
          <p:nvPr/>
        </p:nvPicPr>
        <p:blipFill>
          <a:blip r:embed="rId1"/>
          <a:srcRect l="0" t="1301" r="0" b="1787"/>
          <a:stretch/>
        </p:blipFill>
        <p:spPr>
          <a:xfrm>
            <a:off x="857160" y="1365120"/>
            <a:ext cx="6416640" cy="5002200"/>
          </a:xfrm>
          <a:prstGeom prst="rect">
            <a:avLst/>
          </a:prstGeom>
          <a:ln w="0">
            <a:noFill/>
          </a:ln>
        </p:spPr>
      </p:pic>
      <p:sp>
        <p:nvSpPr>
          <p:cNvPr id="8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58439291-0192-4411-ABA8-ED86CF937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-Dimensional Array as an Array of Arrays (Part 2 of 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3" descr="savitch_c06d17_2of2"/>
          <p:cNvPicPr/>
          <p:nvPr/>
        </p:nvPicPr>
        <p:blipFill>
          <a:blip r:embed="rId1"/>
          <a:stretch/>
        </p:blipFill>
        <p:spPr>
          <a:xfrm>
            <a:off x="857160" y="1608120"/>
            <a:ext cx="7772400" cy="3517920"/>
          </a:xfrm>
          <a:prstGeom prst="rect">
            <a:avLst/>
          </a:prstGeom>
          <a:ln w="0">
            <a:noFill/>
          </a:ln>
        </p:spPr>
      </p:pic>
      <p:sp>
        <p:nvSpPr>
          <p:cNvPr id="8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4A12FC5D-4534-47CD-A281-6D97065E4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stance 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har[][] page = new char[30][10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stance variabl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give the total number of indexed variables in a two-dimensional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cause a two-dimensional array is actually an array of arrays, the instance variabl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gives the number of first indices (or "rows") in the arr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age.leng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equal to 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the same reason, the number of second indices (or "columns") for a given "row" is given by referenc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tha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"row" vari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age[0].leng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equal to 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48D67252-585C-4F95-BAE3-AB0B0D76F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ring to Arrays and Array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array element can be used just like any other single variable by referring to it using an indexed expression: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ore[0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rray itself (i.e., the entire collection of indexed variables) can be referred to using the array name (without any square brackets):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rray index can be computed when a program is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may be represented by a variable: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ore[index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may be represented by an expression that evaluates to a suitable integer: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ore[next + 1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300B8E44-6DE8-4226-9BE2-C17BD94F6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stance 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ollowing program demonstrates how a nest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 can be used to process a two-dimensional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how eac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tance variable i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row, colum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row = 0; row &lt; page.length; row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column = 0; column &lt; page[row].length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       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lumn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age[row][column] = 'Z'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42319D2A-A564-4BFC-898D-1A9B725D4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gged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row in a two-dimensional array need not have the same number of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rows can have different numbers of colum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ray that has a different number of elements per row it is called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agged arr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0BD282FE-3D06-4D5B-8EAE-C31A4E0A8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gged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[] a = new double[3][5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bove line is equivalent to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 [][] a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 = new double[3][]; //Note be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[0] = new double[5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[1] = new double[5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[2] = new double[5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the second line make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name of an array with room for 3 entries, each of which can be an array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at can be of any leng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ext 3 lines each create an array of doubles of size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8E4C8860-2921-4617-B0A9-DCE3D28F0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gged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 [][] 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 = new double[3][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the above line does not specify the size of 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[0]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[1]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[2]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ach could be made a different size instea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0] = new double[5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1] = new double[10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2] = new double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2D101951-12E7-47B1-A876-CD3FE9133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dimensional Array Parameters and Returned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s may have multidimensional array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are specified in a way similar to  one-dimensional arr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use the same number of sets of square brackets as they have dimen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myMethod(int[][] 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. . .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ramet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two-dimensional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1779885B-A656-4CBA-AB04-BABA0F773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dimensional Array Parameters and Returned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s may have a multidimensional array type as their return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use the same kind of type specification as for a multidimensional array par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double[][] aMethod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{ . . .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Metho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turns an array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8319B8C1-B66A-4ACC-B905-96B268797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rade Book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an example of using arrays in a program, a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radeBoo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to process quiz sc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of this class have three instance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a two-dimensional array that records the grade of each student on each qui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udentAver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an array used to record the average quiz score for each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quizAver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an array used to record the average score for each qui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FCC4B497-6EB4-499E-A5B8-47EBD8428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rade Book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core that student 1 received on quiz number 3 is recorded i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rade[0][2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verage quiz grade for student 2 is recorded i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udentAverage[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verage score for quiz 3 is recorded i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quizAverage[2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e relationship between the three ar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8D4D09C7-E6AF-4BF8-A046-44D27EAD7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Two-Dimensional Array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3" name="Picture 7" descr="savitch_c06d19"/>
          <p:cNvPicPr/>
          <p:nvPr/>
        </p:nvPicPr>
        <p:blipFill>
          <a:blip r:embed="rId1"/>
          <a:stretch/>
        </p:blipFill>
        <p:spPr>
          <a:xfrm>
            <a:off x="857160" y="1258920"/>
            <a:ext cx="7221600" cy="5002200"/>
          </a:xfrm>
          <a:prstGeom prst="rect">
            <a:avLst/>
          </a:prstGeom>
          <a:ln w="0">
            <a:noFill/>
          </a:ln>
        </p:spPr>
      </p:pic>
      <p:sp>
        <p:nvSpPr>
          <p:cNvPr id="8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B08B9DD3-C47E-4319-9052-60360C328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06_01"/>
          <p:cNvPicPr/>
          <p:nvPr/>
        </p:nvPicPr>
        <p:blipFill>
          <a:blip r:embed="rId1"/>
          <a:stretch/>
        </p:blipFill>
        <p:spPr>
          <a:xfrm>
            <a:off x="3048120" y="3733920"/>
            <a:ext cx="4881600" cy="202068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ray in 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 is ideally suited for performing array manipul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index = 0; index &lt; 5; index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score[index] 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 differs from max by " +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max-score[index]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30969B02-3C4E-4801-B3E9-CCA064C4B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ooter Placeholder 7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37:01Z</dcterms:modified>
  <cp:revision>13</cp:revision>
  <dc:subject/>
  <dc:title>Slide 1</dc:title>
</cp:coreProperties>
</file>