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08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4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2.jpeg" ContentType="image/jpeg"/>
  <Override PartName="/ppt/media/image31.png" ContentType="image/png"/>
  <Override PartName="/ppt/media/image13.png" ContentType="image/png"/>
  <Override PartName="/ppt/media/image1.png" ContentType="image/png"/>
  <Override PartName="/ppt/media/image67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53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8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4.xml.rels" ContentType="application/vnd.openxmlformats-package.relationships+xml"/>
  <Override PartName="/ppt/slides/_rels/slide54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7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127.xml" ContentType="application/vnd.openxmlformats-officedocument.presentationml.slide+xml"/>
  <Override PartName="/ppt/slides/slide9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  <p:sldId id="329" r:id="rId88"/>
    <p:sldId id="330" r:id="rId89"/>
    <p:sldId id="331" r:id="rId90"/>
    <p:sldId id="332" r:id="rId91"/>
    <p:sldId id="333" r:id="rId92"/>
    <p:sldId id="334" r:id="rId93"/>
    <p:sldId id="335" r:id="rId94"/>
    <p:sldId id="336" r:id="rId95"/>
    <p:sldId id="337" r:id="rId96"/>
    <p:sldId id="338" r:id="rId97"/>
    <p:sldId id="339" r:id="rId98"/>
    <p:sldId id="340" r:id="rId99"/>
    <p:sldId id="341" r:id="rId100"/>
    <p:sldId id="342" r:id="rId101"/>
    <p:sldId id="343" r:id="rId102"/>
    <p:sldId id="344" r:id="rId103"/>
    <p:sldId id="345" r:id="rId104"/>
    <p:sldId id="346" r:id="rId105"/>
    <p:sldId id="347" r:id="rId106"/>
    <p:sldId id="348" r:id="rId107"/>
    <p:sldId id="349" r:id="rId108"/>
    <p:sldId id="350" r:id="rId109"/>
    <p:sldId id="351" r:id="rId110"/>
    <p:sldId id="352" r:id="rId111"/>
    <p:sldId id="353" r:id="rId112"/>
    <p:sldId id="354" r:id="rId113"/>
    <p:sldId id="355" r:id="rId114"/>
    <p:sldId id="356" r:id="rId115"/>
    <p:sldId id="357" r:id="rId116"/>
    <p:sldId id="358" r:id="rId117"/>
    <p:sldId id="359" r:id="rId118"/>
    <p:sldId id="360" r:id="rId119"/>
    <p:sldId id="361" r:id="rId120"/>
    <p:sldId id="362" r:id="rId121"/>
    <p:sldId id="363" r:id="rId122"/>
    <p:sldId id="364" r:id="rId123"/>
    <p:sldId id="365" r:id="rId124"/>
    <p:sldId id="366" r:id="rId125"/>
    <p:sldId id="367" r:id="rId126"/>
    <p:sldId id="368" r:id="rId127"/>
    <p:sldId id="369" r:id="rId128"/>
    <p:sldId id="370" r:id="rId129"/>
    <p:sldId id="371" r:id="rId130"/>
    <p:sldId id="372" r:id="rId131"/>
    <p:sldId id="373" r:id="rId132"/>
    <p:sldId id="374" r:id="rId133"/>
    <p:sldId id="375" r:id="rId134"/>
    <p:sldId id="376" r:id="rId135"/>
    <p:sldId id="377" r:id="rId136"/>
    <p:sldId id="378" r:id="rId137"/>
    <p:sldId id="379" r:id="rId138"/>
    <p:sldId id="380" r:id="rId139"/>
    <p:sldId id="381" r:id="rId140"/>
    <p:sldId id="382" r:id="rId141"/>
    <p:sldId id="383" r:id="rId1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slide" Target="slides/slide74.xml"/><Relationship Id="rId89" Type="http://schemas.openxmlformats.org/officeDocument/2006/relationships/slide" Target="slides/slide75.xml"/><Relationship Id="rId90" Type="http://schemas.openxmlformats.org/officeDocument/2006/relationships/slide" Target="slides/slide76.xml"/><Relationship Id="rId91" Type="http://schemas.openxmlformats.org/officeDocument/2006/relationships/slide" Target="slides/slide77.xml"/><Relationship Id="rId92" Type="http://schemas.openxmlformats.org/officeDocument/2006/relationships/slide" Target="slides/slide78.xml"/><Relationship Id="rId93" Type="http://schemas.openxmlformats.org/officeDocument/2006/relationships/slide" Target="slides/slide79.xml"/><Relationship Id="rId94" Type="http://schemas.openxmlformats.org/officeDocument/2006/relationships/slide" Target="slides/slide80.xml"/><Relationship Id="rId95" Type="http://schemas.openxmlformats.org/officeDocument/2006/relationships/slide" Target="slides/slide81.xml"/><Relationship Id="rId96" Type="http://schemas.openxmlformats.org/officeDocument/2006/relationships/slide" Target="slides/slide82.xml"/><Relationship Id="rId97" Type="http://schemas.openxmlformats.org/officeDocument/2006/relationships/slide" Target="slides/slide83.xml"/><Relationship Id="rId98" Type="http://schemas.openxmlformats.org/officeDocument/2006/relationships/slide" Target="slides/slide84.xml"/><Relationship Id="rId99" Type="http://schemas.openxmlformats.org/officeDocument/2006/relationships/slide" Target="slides/slide85.xml"/><Relationship Id="rId100" Type="http://schemas.openxmlformats.org/officeDocument/2006/relationships/slide" Target="slides/slide86.xml"/><Relationship Id="rId101" Type="http://schemas.openxmlformats.org/officeDocument/2006/relationships/slide" Target="slides/slide87.xml"/><Relationship Id="rId102" Type="http://schemas.openxmlformats.org/officeDocument/2006/relationships/slide" Target="slides/slide88.xml"/><Relationship Id="rId103" Type="http://schemas.openxmlformats.org/officeDocument/2006/relationships/slide" Target="slides/slide89.xml"/><Relationship Id="rId104" Type="http://schemas.openxmlformats.org/officeDocument/2006/relationships/slide" Target="slides/slide90.xml"/><Relationship Id="rId105" Type="http://schemas.openxmlformats.org/officeDocument/2006/relationships/slide" Target="slides/slide91.xml"/><Relationship Id="rId106" Type="http://schemas.openxmlformats.org/officeDocument/2006/relationships/slide" Target="slides/slide92.xml"/><Relationship Id="rId107" Type="http://schemas.openxmlformats.org/officeDocument/2006/relationships/slide" Target="slides/slide93.xml"/><Relationship Id="rId108" Type="http://schemas.openxmlformats.org/officeDocument/2006/relationships/slide" Target="slides/slide94.xml"/><Relationship Id="rId109" Type="http://schemas.openxmlformats.org/officeDocument/2006/relationships/slide" Target="slides/slide95.xml"/><Relationship Id="rId110" Type="http://schemas.openxmlformats.org/officeDocument/2006/relationships/slide" Target="slides/slide96.xml"/><Relationship Id="rId111" Type="http://schemas.openxmlformats.org/officeDocument/2006/relationships/slide" Target="slides/slide97.xml"/><Relationship Id="rId112" Type="http://schemas.openxmlformats.org/officeDocument/2006/relationships/slide" Target="slides/slide98.xml"/><Relationship Id="rId113" Type="http://schemas.openxmlformats.org/officeDocument/2006/relationships/slide" Target="slides/slide99.xml"/><Relationship Id="rId114" Type="http://schemas.openxmlformats.org/officeDocument/2006/relationships/slide" Target="slides/slide100.xml"/><Relationship Id="rId115" Type="http://schemas.openxmlformats.org/officeDocument/2006/relationships/slide" Target="slides/slide101.xml"/><Relationship Id="rId116" Type="http://schemas.openxmlformats.org/officeDocument/2006/relationships/slide" Target="slides/slide102.xml"/><Relationship Id="rId117" Type="http://schemas.openxmlformats.org/officeDocument/2006/relationships/slide" Target="slides/slide103.xml"/><Relationship Id="rId118" Type="http://schemas.openxmlformats.org/officeDocument/2006/relationships/slide" Target="slides/slide104.xml"/><Relationship Id="rId119" Type="http://schemas.openxmlformats.org/officeDocument/2006/relationships/slide" Target="slides/slide105.xml"/><Relationship Id="rId120" Type="http://schemas.openxmlformats.org/officeDocument/2006/relationships/slide" Target="slides/slide106.xml"/><Relationship Id="rId121" Type="http://schemas.openxmlformats.org/officeDocument/2006/relationships/slide" Target="slides/slide107.xml"/><Relationship Id="rId122" Type="http://schemas.openxmlformats.org/officeDocument/2006/relationships/slide" Target="slides/slide108.xml"/><Relationship Id="rId123" Type="http://schemas.openxmlformats.org/officeDocument/2006/relationships/slide" Target="slides/slide109.xml"/><Relationship Id="rId124" Type="http://schemas.openxmlformats.org/officeDocument/2006/relationships/slide" Target="slides/slide110.xml"/><Relationship Id="rId125" Type="http://schemas.openxmlformats.org/officeDocument/2006/relationships/slide" Target="slides/slide111.xml"/><Relationship Id="rId126" Type="http://schemas.openxmlformats.org/officeDocument/2006/relationships/slide" Target="slides/slide112.xml"/><Relationship Id="rId127" Type="http://schemas.openxmlformats.org/officeDocument/2006/relationships/slide" Target="slides/slide113.xml"/><Relationship Id="rId128" Type="http://schemas.openxmlformats.org/officeDocument/2006/relationships/slide" Target="slides/slide114.xml"/><Relationship Id="rId129" Type="http://schemas.openxmlformats.org/officeDocument/2006/relationships/slide" Target="slides/slide115.xml"/><Relationship Id="rId130" Type="http://schemas.openxmlformats.org/officeDocument/2006/relationships/slide" Target="slides/slide116.xml"/><Relationship Id="rId131" Type="http://schemas.openxmlformats.org/officeDocument/2006/relationships/slide" Target="slides/slide117.xml"/><Relationship Id="rId132" Type="http://schemas.openxmlformats.org/officeDocument/2006/relationships/slide" Target="slides/slide118.xml"/><Relationship Id="rId133" Type="http://schemas.openxmlformats.org/officeDocument/2006/relationships/slide" Target="slides/slide119.xml"/><Relationship Id="rId134" Type="http://schemas.openxmlformats.org/officeDocument/2006/relationships/slide" Target="slides/slide120.xml"/><Relationship Id="rId135" Type="http://schemas.openxmlformats.org/officeDocument/2006/relationships/slide" Target="slides/slide121.xml"/><Relationship Id="rId136" Type="http://schemas.openxmlformats.org/officeDocument/2006/relationships/slide" Target="slides/slide122.xml"/><Relationship Id="rId137" Type="http://schemas.openxmlformats.org/officeDocument/2006/relationships/slide" Target="slides/slide123.xml"/><Relationship Id="rId138" Type="http://schemas.openxmlformats.org/officeDocument/2006/relationships/slide" Target="slides/slide124.xml"/><Relationship Id="rId139" Type="http://schemas.openxmlformats.org/officeDocument/2006/relationships/slide" Target="slides/slide125.xml"/><Relationship Id="rId140" Type="http://schemas.openxmlformats.org/officeDocument/2006/relationships/slide" Target="slides/slide126.xml"/><Relationship Id="rId141" Type="http://schemas.openxmlformats.org/officeDocument/2006/relationships/slide" Target="slides/slide127.xml"/><Relationship Id="rId142" Type="http://schemas.openxmlformats.org/officeDocument/2006/relationships/slide" Target="slides/slide128.xml"/><Relationship Id="rId1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E219-78AF-4267-AC20-F467959F1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FC2D-DADB-45A2-A7B0-9D03FD5478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5AA4-F8EB-4404-BC77-E195F7F56B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ED11-51E9-4766-A5A6-C95579E1EC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1374-A389-420B-A16B-A1CFA459D5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5271-48A2-4C8D-BC1A-A16F174677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FE7D-2DCE-4DD6-8F8B-D7E5C1E1C6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823E-28E3-4818-91C8-B38AB1F022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E55A-E63B-4D9D-89F0-511ADF6372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7973-7476-4F37-ABF3-5EC11D847A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3B86-B290-46C3-A8F2-738AD0F9BE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BA4C-9B0D-4794-8928-256DB2C6FE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195F-C30C-49D6-8775-10AD5339D2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7A17-0B8A-4741-B4F3-89D4FBD973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5AB3-DBBF-4592-86E7-15390701EE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318C-334B-48A0-B920-2656DB11FE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CA9F-BC8E-46DC-AFEC-D24577996E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BD83-935E-4B02-88BA-B1C0E12E92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DA35-E98B-48CF-A484-F01FE50D15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FABA-06D9-4A24-9A03-889938252A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D4B7-BE24-4B18-A41A-113E2B9505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D23F-787E-48D1-BF8C-F19324E57D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8FA9-AD96-4B2D-A725-D9614BA3C3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8D16-B5FE-492B-AE20-661034221A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0879-598F-483F-BFFD-8A577B1DAA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B399-FF83-43A9-AA21-4B5BE5A41F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C5AF-5CA6-45B2-B842-6AB3368F69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3487-24DD-4B72-AD4A-45DA05FE73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B051-5A9E-4239-97D0-99241A28E5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2331-66B9-439C-9C35-62B6C559D9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1DD7-39B7-4181-A4BC-0BE9CE67FA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E887-49ED-4149-9AB5-895D701110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BA86-CCCD-4EF0-9CE0-191D831E1C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EBBB-B375-4B11-9F83-AE34DE9698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26BC-CBC1-4EE0-A31E-1BEDCF02A9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64D9-5935-4380-A661-F27959F4A3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84A3-BF4B-4761-9914-8DFB9581DE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024B-0F9D-4555-AB92-71DB79CEE6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B9F3-74F0-435D-B66E-08A16AD4BA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C95D-C9AC-4FDF-BAC0-06A931BBF8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C9D2-8A35-4786-96D9-DD59B021B7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0ED1-1881-43BD-A8E8-E286759DDE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0DCE-64E1-4213-9028-465D2A61C6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542B-637A-40BA-B5BF-7A205E32D8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CCB5-E4B6-4A7E-A61C-DF1B51C19F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41BF-3EDC-45FB-B2C5-652F6799DD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0641-2BAE-4A51-B2D8-961CE7E014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38A6-05D2-452A-96C9-329DEF5F64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8A47-8B3D-42F2-AB06-3013F6AB3E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CF42-8FE9-4687-8AEB-F660E6F50C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1021-8B55-4129-BBD6-234BD55306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8AD5-9DA4-4E12-9C75-290AEFF276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FAB6-D279-42FD-8623-1912ED0E73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C20F-8105-4DEB-90F6-0C1CBAB429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379F-4B83-419A-9714-4F867780BA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F404-78E9-4D4F-9024-0EE545E2B2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428D-3E21-41A2-9914-260BE323B3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CFA5-D5AE-4C6F-9ECE-548A52FE32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B9F8-9898-4BE3-94AD-F58FEA256E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630A-0355-4C8A-A3E3-39AD7B5868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CA01-784B-4377-9D99-66DF7B1BAB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F901-F847-438A-8E96-A4B5DA2F58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8E70-CE60-4440-9395-370C7733C1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54D1-31D8-4F84-8BD5-300722CE69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CF9D-1F1A-4529-9457-01FE031151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810B-5DED-4BFB-9311-DBEEAFD231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D075-BC9E-41BD-B40F-FD3883440E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FC7E-149F-4366-ACE7-D9E74857C4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B0AC-90CA-47FB-A3BB-49EDE3708D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E43E-B0D0-473E-BB2E-68998BBC88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F431-B0B9-4DA8-BFA5-485A2CA2A4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08A4-FCFB-4C8B-B3E2-4B009780D2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576EA-F6E7-4789-9813-36163F6FC5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1FAE-CFD8-41AA-B3C5-7331155ECC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085F-63AD-4E22-8115-34E7015004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3DAD-A83D-4E80-85A5-D15FAB5E60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2EAA-BA70-4FFC-AB13-0ADD35619F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51E9-8D98-4148-BAEF-F0EC1D85DE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92F8-106B-4AD6-9BA5-3EBC06DADE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AB4B-97EE-4E79-8D14-725D72AB67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3724-7565-4409-AE6E-70A893DAE4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F69D-05CF-451D-820B-4828736B7F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4B0C-AC33-4084-AB80-27D651045F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ADBD-952A-4794-8450-282C4D0CD6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3AAA-D89F-447D-BE4F-130D77BEA9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067A-8430-46FB-BE38-C1877D8511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E22D-FAAF-4880-A55D-F5D9936668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6F62-6E77-4DE5-801A-85BEB8B16B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A2AD-ADAD-4B72-85C4-4775C0F20D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53C2-1083-472C-90DF-7CDA5FED55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E7C0-FEF2-4ECF-805B-6BADFCF4E7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C510-C920-47E0-B7BF-DB61CB545B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616C-7236-43C1-ACE9-D1E418DC5B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5D31-3C92-4F04-B5B5-391AEB3FC1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9FE2-BD03-4D79-839B-0C8BF2E3A1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4100-5E88-4247-A17F-BC2F77A6AF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F29A-FA72-4A6A-BFB6-7F209C425D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6111-E856-4C4C-9987-6B05039CB9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DE61-C4B6-4913-A378-F4BBEF5BD7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26D7-9D0C-4174-AE36-07A447E35B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4A3E-DAC5-47DB-9DE9-9DB18D0164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3070-EC5F-4FED-81EA-E32366408B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37BC-E760-4B3A-8C62-9ECA30EA5E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7938-9E4E-4B02-8AC5-501CDB4D1C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0E4D-ABB5-447C-ABA5-723637FDD0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BD01-D642-4082-AA3A-F1A9C6D8CA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0C8F-DCF2-4314-B121-348F92DC46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D999-AAA6-4746-9B28-2D23BABC31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1D6D-B0A2-412F-8DF8-799595C180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BA5E-8C2D-4464-AC1A-25B0CAACFC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B721-05BF-4DE0-A85F-800252C092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E225-E58D-46EE-8829-1609157513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91FE-7E03-4CDC-8B76-E83BC20F50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6237-1E53-422D-BB89-4C58AE57C1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2F02-5006-4671-B268-B142829328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7114-396A-4FC6-B3C6-F94A765BD8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2D6E-2F07-4864-8118-E6DC0259B5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63D9-09E7-4182-890E-43EBEC049A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D4DB-653A-4F81-8176-E0309AC630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4628-34E3-4D1E-A1C2-CC86BE4861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8A58-29AC-465B-81E0-0096A23686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9545-8DD8-4CFD-9C6E-246303D07D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C0BA-05CA-4EB5-9BCF-11FF7EFE40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37D0-1759-4016-8BB9-F3EB483A3A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2FB0-A89F-4331-8705-51A81B95FB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7C4C-8C52-4180-A977-FEDF0B6E2A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D94A-C385-4C2C-9716-62BE8C4F59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1E0D-7789-4BD5-B149-B0880132AB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F364-245A-4B43-AA98-3F786F8382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E603-C5B9-4903-B874-D7B79C06E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6AD6-839D-4968-B3CA-00AA3EE5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883DA-7B80-4797-917E-4486EEC5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95EC5-356A-4876-8EE3-FCE6180C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61045A-5E44-4164-906B-C6046E23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7EE9A-B175-43D0-9DEB-E886130F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311F51-AE42-47E2-93D3-1601B129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092F5-F404-4A69-8658-D55C968F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63969-D168-47AB-B417-9CE4E380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5F58B4-C42F-4831-8122-AF0597010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C4601-AF09-4745-9E2F-1A51B5776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28148B-E948-4436-B695-8BED1EFF6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3A1C-2CAE-4FB4-BBB0-3D5247812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793ED0-1325-4726-996A-DE9DFCB4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F234B3-46E1-421E-B392-7B71A9AE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E11ADF-B100-49A9-A62D-09FD0795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01DB7C-E8B5-4228-B7F0-3953A108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C75D28-1739-43D6-B523-8C9D345D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49A81D-B69B-462E-A879-DA2137B9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8AC2D7-32C1-42F3-9D06-F85572B0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B4EF66-D585-46B0-9062-D2A90710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4A4390-00F6-4523-B080-82ED31B8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B66403-C170-444B-84C2-8CF2962DF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35FC-92EF-4395-A7DE-A8E8E8592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19CB5E-7101-480E-B84E-6447D0B37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110AC-DF7B-43D1-9BF0-AE3730C50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0068E-32F7-4216-B0E4-61215C1D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52BF2-324A-450B-94DC-19F5D894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342846-3E37-4F65-833E-F02ECBF6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43185-A907-4A3A-B519-0F3AABFD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61102-E8A9-44A3-9AF7-C4D323E4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5F1EE0-3301-435B-BF25-1E941A49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6F0F0-CB9F-4E11-8745-9858EE51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C728D-93E0-4092-A5A3-437DF0AD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3E5F-8566-470F-ACBF-1F0539E20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989E5-2A52-4DDB-A7B5-6E9893DE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C187D-E0FC-4455-8588-6D5344451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74C65-4145-470E-8123-71CD8B6AB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C87F25-3155-44A9-BA49-44E05175C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DE6A8A-68B8-463E-90F0-4F5FD96D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9AF72C-12E9-40D9-9194-54DC59D6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CF99E7-2EAA-48FA-B485-C7F1B7AA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B45797-C843-43A1-AD9F-2B39385B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5E7AB6-539C-4A29-A686-A38C56E2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B6FBD0-DF4C-49C8-A4A6-1613343E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EC28-843E-44BD-B5A0-53121760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F28EF4-FA7D-4A9A-886E-E8D03DE9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4B2C6A-C685-4E56-BDE6-71B23716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11BA4F-A59D-4D8E-B0D3-769ECADA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B0458E-3215-42E3-ACBD-FDA837DD5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5A9512-236B-47CF-BBDB-D715805D4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9410-03E2-49F4-9A62-6E9714B6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3A42-C448-4619-AC0D-099B53A6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F7AB-BF32-4B95-B600-69D3FE94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31AE-DF71-4EC9-8CBB-64C34AF5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E913E-AA9E-486A-8E83-1FB69A39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0FF2-E13E-4584-9248-0A722626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2790-CF99-4DAA-8B95-EF998FA9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ECAD-29A9-4C3C-A1A0-9C9C18A4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D26D-CD2A-4F9D-8859-C29B3154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B741-4DF5-46F8-8DE6-74A32CC8C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E944-2983-4A95-9545-8BE89839E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211DCC-021E-4EE5-89DB-F6A0A1F6F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454DC2-1DB2-4EAA-939C-E78357AF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9E1D34-B2C0-4796-8550-40FF8D27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1E0F43-3F33-4F52-9D31-B4EA374D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CF7E55-98B7-40FB-9533-434E1E88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471B-1B79-43F3-A7E0-4DD33B2C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421C31-7C3B-4E51-9611-49C19D40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578B5B-5A42-4EC2-A430-7B2F1DD9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AD2D18-654D-4672-B598-B4C8C813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AA3E6B-80B8-421E-9115-98211019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02EF3D-3717-4AFC-BE00-AC146EAD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81F7B6-DFD7-4612-A481-5DAED0CC3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1FEEE2-171E-438F-9B48-2BE88627B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901A6-11D3-4E85-B9F7-B92F96B93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5AEC7-3B40-45F2-9C23-720940EB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B3E29-89CE-4AB8-A51E-851A055D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5A89-534B-45DA-8A79-42E2D3AE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EA39A-7C4A-47DC-8E62-9128ABF6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22629-9590-469A-A667-48782D97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63826-7105-4B04-B943-C797846B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5F3C4-EF9F-4AC1-B7D3-932C7126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8F98E-48E4-4658-BB2C-C1C4A77F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03CDC-4157-43B5-AD9B-C01E26E4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C1402-46F8-4B30-B63E-41B5BCE4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A4FC6-D38F-4B1A-9CEA-6FF471FDC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FCB38-E204-4D56-9B43-241A57351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4EF9C-7CB5-49B2-9C31-3E242847C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DAD0-E779-403D-8504-B0F5258F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1E159-0071-4CBF-AF0D-024496C2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9618E-080C-47DD-8056-645B25FF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EA704-40AE-470C-A53C-57536AE3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7EFC8-0283-41C5-A3D4-281DC180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0AB65-B84C-4830-981B-C9EC9A62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81AE2-9EBE-40B2-BAF8-375423AE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E568F-D4DE-475B-AEA6-418C3614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2A2D7-4518-4343-8302-24C00F5F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87AD9-DCF5-4D4C-8B36-4421CAE4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6AD00-0D75-42ED-98B9-4C41BF40E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1983-E5DE-4E3C-800B-3C5A7E57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ABD54-8CFB-40AD-9E88-E8978FFBC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398FA-987B-4BA8-BB80-D5F1B8F25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77573-CF83-4650-9AA3-FE7AB94C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AA0BD-73B2-4352-905C-A4BF4E67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7EF61-3F7D-4EC9-A177-C53C7B77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63711-CDAC-474C-A028-D211BF49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805CB-6947-4B7B-A06F-AAA7C6A8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F7691-4060-49AC-8ECB-F0509DFE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76547-2E6F-4225-8EB0-39A3DBF8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A5361-F060-43ED-8D8F-D1A57138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2F8B-3788-47CF-B35A-B349BC19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9B33E-D0D1-48F0-9C8E-E8D5590A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479FF-4B76-4109-B9A4-FC44C14C2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F72CD-626A-49D1-8487-7BF8CF1FF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D077E-49D0-441E-BADA-5D8333210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F841A-49DA-4FBD-AE82-73686E74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05283-306A-47FA-AE52-F698C580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B100D-8767-450B-ACFC-970DB596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3553D-34EA-461C-9B6D-1476490F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6366B-F542-4783-82D9-1B5F12D0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A66D3-3C3F-42B0-AB02-36E37974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1483-3D82-4522-9BCC-5DC8528A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D9F75-9265-4B16-A82E-7D9203D9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4D053-3A7B-4702-AA63-7B2EC8B8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3B5F7-2EA6-4805-AE55-32DC124F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8DB2B-99BD-4831-B8DD-527840776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6DBE4-4047-4CF1-8282-26771B26A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33870-0592-48A6-8A22-10F5E0B76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35DD7-2B2E-4E14-83A5-81A9B281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AE8E7-971B-437E-A622-95ABA0C4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A7ECE-D76A-43E5-BF7E-0325870E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5D8C4-69A7-4F03-8208-49CCD0DC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A164-935D-43B9-97AC-B29FCC49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3039D-6420-4343-9BB0-3D5BE434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DB4E0-196B-444F-A061-4427B979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05A7B-C4A1-4787-B7F8-DA9B10FC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7E89F-1989-4108-9FD0-187C88B5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8AFA2-B21A-455C-8697-33E0A15F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B6843-3F08-4982-9320-6E5092365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79131-2D69-4956-8205-2FEB5927A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6BE66-CB21-4D57-A5D1-A33CF6DCC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492AB-FF6D-49B2-9D0B-93CF1F4A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51C96-3B83-4290-9ED4-AF3DFA7B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3537-30FB-4E17-BEA5-A8DB5F1384D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52882AB6-5565-4BED-8D67-2AC37E8B93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5841-01E3-45D0-AEB4-26511E1A2AA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7-</a:t>
            </a:r>
            <a:fld id="{9EE727C1-086E-4560-9F8B-203303E5FA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D01A-375A-42AE-9C02-CA5909B7E20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7-</a:t>
            </a:r>
            <a:fld id="{DCEF8F5F-1293-4B8E-9FB6-D30F784424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4FCA-6F29-484A-AE14-3718A471552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7-</a:t>
            </a:r>
            <a:fld id="{52B564E5-8ACC-4AFC-9AA8-4BDC219912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9954-F8C1-4B9A-A3BB-2971EB641F1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7-</a:t>
            </a:r>
            <a:fld id="{6390B558-B931-4F13-ADCC-C1ECE80BFA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876920" y="632412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48DB-3FAD-4BB4-948E-7C83D806102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7-</a:t>
            </a:r>
            <a:fld id="{C0100924-CE49-4BD1-BA35-C6CD163715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456840" y="6339960"/>
            <a:ext cx="4343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F2F3-875D-4316-A118-E52844CDECF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7-</a:t>
            </a:r>
            <a:fld id="{9B173BF1-71F0-4F8E-9786-179CACEABB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73E7-EF59-4994-A340-DB8598B71B7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7-</a:t>
            </a:r>
            <a:fld id="{1C69AD77-CC5C-4776-8175-835B720A57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D3BE-4E48-4ED0-89DA-D5E4009CD5D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7-</a:t>
            </a:r>
            <a:fld id="{9A808051-BE8D-40CB-A4A6-9CDEBECBEE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17E2-B21D-4CD1-8630-17C8239B67C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7-</a:t>
            </a:r>
            <a:fld id="{BE6DB6AC-98A3-4095-9D76-A5BEAE25BA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8FD8-BFE2-475A-AFD5-AF1C873EABD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7-</a:t>
            </a:r>
            <a:fld id="{460842DD-1037-4AE6-9124-627E855D90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9795-D8B6-4976-AFE0-5725704734F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7-</a:t>
            </a:r>
            <a:fld id="{C86E4AFF-A6CC-4AC6-A7C0-C2877428EC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638680" y="456840"/>
            <a:ext cx="327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5638680" y="1905120"/>
            <a:ext cx="3353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wing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152280" y="0"/>
            <a:ext cx="553572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Rectangle 4" descr=""/>
          <p:cNvPicPr/>
          <p:nvPr/>
        </p:nvPicPr>
        <p:blipFill>
          <a:blip r:embed="rId2"/>
          <a:stretch/>
        </p:blipFill>
        <p:spPr>
          <a:xfrm>
            <a:off x="5937120" y="4943520"/>
            <a:ext cx="3054600" cy="53640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5"/>
          <p:cNvSpPr/>
          <p:nvPr/>
        </p:nvSpPr>
        <p:spPr>
          <a:xfrm>
            <a:off x="5715000" y="6427800"/>
            <a:ext cx="2819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pyright © 2008 Pearson Addison-Wesley. All rights reserv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Picture 6" descr=""/>
          <p:cNvPicPr/>
          <p:nvPr/>
        </p:nvPicPr>
        <p:blipFill>
          <a:blip r:embed="rId3"/>
          <a:stretch/>
        </p:blipFill>
        <p:spPr>
          <a:xfrm>
            <a:off x="8458200" y="6324480"/>
            <a:ext cx="685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ent-Driven Programm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n event-driven program, the next thing that happens depends on the next ev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particular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ethods are defined that will never be explicitly invoked in any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ead, methods are invoked automatically when an event signals that the method needs to be cal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0CC1D0E7-E77F-4087-89BF-386360DD47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Text Field (Part 2 of 7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5" name="Picture 3" descr="savitch_c17d17_2of7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983040"/>
          </a:xfrm>
          <a:prstGeom prst="rect">
            <a:avLst/>
          </a:prstGeom>
          <a:ln w="0">
            <a:noFill/>
          </a:ln>
        </p:spPr>
      </p:pic>
      <p:sp>
        <p:nvSpPr>
          <p:cNvPr id="9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ECF9A721-A7B4-4749-90C7-20C610D9A2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Text Field (Part 3 of 7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9" name="Picture 3" descr="savitch_c17d17_3of7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375000"/>
          </a:xfrm>
          <a:prstGeom prst="rect">
            <a:avLst/>
          </a:prstGeom>
          <a:ln w="0">
            <a:noFill/>
          </a:ln>
        </p:spPr>
      </p:pic>
      <p:sp>
        <p:nvSpPr>
          <p:cNvPr id="92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67464726-5533-4A7F-B185-C3C671D7B1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Text Field (Part 4 of 7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3" name="Picture 3" descr="savitch_c17d17_4of7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4205160"/>
          </a:xfrm>
          <a:prstGeom prst="rect">
            <a:avLst/>
          </a:prstGeom>
          <a:ln w="0">
            <a:noFill/>
          </a:ln>
        </p:spPr>
      </p:pic>
      <p:sp>
        <p:nvSpPr>
          <p:cNvPr id="92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A1A38D27-CE68-4EBE-9DDA-427178C204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Text Field (Part 5 of 7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7" name="Picture 3" descr="savitch_c17d17_5of7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4508280"/>
          </a:xfrm>
          <a:prstGeom prst="rect">
            <a:avLst/>
          </a:prstGeom>
          <a:ln w="0">
            <a:noFill/>
          </a:ln>
        </p:spPr>
      </p:pic>
      <p:sp>
        <p:nvSpPr>
          <p:cNvPr id="92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13B75DC1-8989-468C-B419-F5D87B565E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Text Field (Part 6 of 7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1" name="Picture 3" descr="savitch_c17d17_6of7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2766960"/>
          </a:xfrm>
          <a:prstGeom prst="rect">
            <a:avLst/>
          </a:prstGeom>
          <a:ln w="0">
            <a:noFill/>
          </a:ln>
        </p:spPr>
      </p:pic>
      <p:sp>
        <p:nvSpPr>
          <p:cNvPr id="9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6A872B72-9622-4F06-A021-8351408BCF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Text Field (Part 7 of 7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5" name="Picture 3" descr="savitch_c17d17_7of7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2649600"/>
          </a:xfrm>
          <a:prstGeom prst="rect">
            <a:avLst/>
          </a:prstGeom>
          <a:ln w="0">
            <a:noFill/>
          </a:ln>
        </p:spPr>
      </p:pic>
      <p:sp>
        <p:nvSpPr>
          <p:cNvPr id="93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D0FBBBBC-7DC7-47D8-AFAB-A88732705F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Ar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xt are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an object of the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Text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is the same as a text field, except that it allows multiple li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wo parameters to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TextAre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structor specify the minimum number of lines, and the minimum number of characters per line that are guaranteed to be visi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TextArea theText = new JTextArea(5,20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other constructor has one addition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arameter for the string initially displayed in the text are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TextArea theText = new JTextArea(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   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"Enter\ntext here." 5, 20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A3CDA0E8-89B3-48C3-93C4-88AD9A081E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Ar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line-wrapping policy for 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TextAre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be set using the metho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etLineWra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ethod takes on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ype argu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e argument i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n any additional characters at the end of a line will appear on the following line of the text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e argument i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 extra characters will remain on the same line and not be vis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heText.setLineWrap(true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DE331270-E95A-44A7-8494-65D2DB719E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Fields and Text Ar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TextFiel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TextAre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be set so that it can not be changed by the us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heText.setEditable(false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will set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heTex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o that it can only be edited by the GUI program, not the us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reverse this, use true instead (this is the defaul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heText.setEditable(true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215E3AD3-D7A2-4822-BB39-970604BEE5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:  Labeling a Text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order to label one or more text field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an object of the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Lab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ce the text field(s) and label(s) in 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Pan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at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Pane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s a single compon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0DF411DC-80EA-4E0B-BDEA-8CE404CA1E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Simple Wind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imple window can consist of an object of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bject includes a border and the usual three buttons for minimizing, changing the size of, and closing the wind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lass is found in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avax.sw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ack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Frame firstWindow = new JFrame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1" lang="en-US" sz="2400" spc="-1" strike="noStrike">
                <a:solidFill>
                  <a:srgbClr val="034ca1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have components added to it, such as buttons, menus, and text lab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components can be programmed for 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firstWindow.add(endButto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can be made visible using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etVisib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irstWindow.setVisible(true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06BD0B2E-BD49-4B42-AB93-6E6E4882AA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s of Characters P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umber of characters per line for 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TextFiel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TextAre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bject is the number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pa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m spa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the space needed to hold one uppercase letter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lette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the widest letter in the alphab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line specified to hold 20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's will almost always be able to hold more than 20 charac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A7755C11-FAC8-4C72-BECB-DE976176ED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88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p:  Inputting and Outputting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attempting to input numbers from any Swing GUI, input text must be converted to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e user enters the numbe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TextFiel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 program receives the string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"42"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must convert it to the intege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ame thing is true when attempting to output a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order to output the numbe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it must first be converted to the string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"42"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00F21E9D-5D46-4F1E-97F1-58F80DBD2F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lass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JTextCompo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TextFiel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TextAre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derived classes of the abstract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TextCompon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of their methods are inherited from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TextCompon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have the same mean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cept for some minor redefinitions to account for having just one line or multiple 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9C0FCF1F-AB49-4381-934F-050252FEEB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ethods in the Clas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TextComponen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1 of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7" name="Picture 8" descr="savitch_c17d18_1of2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125520"/>
          </a:xfrm>
          <a:prstGeom prst="rect">
            <a:avLst/>
          </a:prstGeom>
          <a:ln w="0">
            <a:noFill/>
          </a:ln>
        </p:spPr>
      </p:pic>
      <p:sp>
        <p:nvSpPr>
          <p:cNvPr id="9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83DD507B-C81F-4183-A6A7-83590DF2BA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ethods in the Clas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TextComponen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2 of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1" name="Picture 3" descr="savitch_c17d18_2of2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2703240"/>
          </a:xfrm>
          <a:prstGeom prst="rect">
            <a:avLst/>
          </a:prstGeom>
          <a:ln w="0">
            <a:noFill/>
          </a:ln>
        </p:spPr>
      </p:pic>
      <p:sp>
        <p:nvSpPr>
          <p:cNvPr id="9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768C64FA-EB1E-4339-ACD8-B81CF5F828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Swing Calcul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UI for a simple calculator keeps a running total of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user enters a number in the text field, and then clicks either + or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number in the text field is then added to or subtracted from the running total, and displayed in the text fie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value is kept in the instance variabl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GUI is first run, or when the user clicks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Rese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utton, the value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set to ze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FC202043-BED1-4A13-9676-3EDC9B5CC0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Swing Calcul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 user enters a number in an incorrect format, then one of the methods throws a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NumberFormatExce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xception is caught in the catch block inside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ctionPerform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 that when this exception is thrown, the value of the instance variabl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not chang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9BC0420B-8B4B-424B-B0C8-468F0A5561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Simple Calculator (Part 1 of 1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3" name="Picture 10" descr="savitch_c17d19_01of11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2820960"/>
          </a:xfrm>
          <a:prstGeom prst="rect">
            <a:avLst/>
          </a:prstGeom>
          <a:ln w="0">
            <a:noFill/>
          </a:ln>
        </p:spPr>
      </p:pic>
      <p:sp>
        <p:nvSpPr>
          <p:cNvPr id="9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EDD94A5D-77DE-4AD8-B54E-1636F25649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Simple Calculator (Part 2 of 1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7" name="Picture 3" descr="savitch_c17d19_02of11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4862520"/>
          </a:xfrm>
          <a:prstGeom prst="rect">
            <a:avLst/>
          </a:prstGeom>
          <a:ln w="0">
            <a:noFill/>
          </a:ln>
        </p:spPr>
      </p:pic>
      <p:sp>
        <p:nvSpPr>
          <p:cNvPr id="98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D2028B23-ACC2-430D-9AA3-12A5D9DC69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Simple Calculator (Part 3 of 1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1" name="Picture 3" descr="savitch_c17d19_03of11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782880"/>
          </a:xfrm>
          <a:prstGeom prst="rect">
            <a:avLst/>
          </a:prstGeom>
          <a:ln w="0">
            <a:noFill/>
          </a:ln>
        </p:spPr>
      </p:pic>
      <p:sp>
        <p:nvSpPr>
          <p:cNvPr id="99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E66FAE61-6747-4C49-BCED-03F31C8A93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irst Swing Demonstration (Part 1 of 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Picture 8" descr="savitch_c17d02_1of4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317760"/>
          </a:xfrm>
          <a:prstGeom prst="rect">
            <a:avLst/>
          </a:prstGeom>
          <a:ln w="0">
            <a:noFill/>
          </a:ln>
        </p:spPr>
      </p:pic>
      <p:sp>
        <p:nvSpPr>
          <p:cNvPr id="5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35F3F434-5763-4C38-A637-E3BD9D2D55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Simple Calculator (Part 4 of 1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5" name="Picture 3" descr="savitch_c17d19_04of11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4290840"/>
          </a:xfrm>
          <a:prstGeom prst="rect">
            <a:avLst/>
          </a:prstGeom>
          <a:ln w="0">
            <a:noFill/>
          </a:ln>
        </p:spPr>
      </p:pic>
      <p:sp>
        <p:nvSpPr>
          <p:cNvPr id="9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A8F58D17-F7DB-460C-BEC3-7A6C4C0417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Simple Calculator (Part 5 of 1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9" name="Picture 3" descr="savitch_c17d19_05of11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632040"/>
          </a:xfrm>
          <a:prstGeom prst="rect">
            <a:avLst/>
          </a:prstGeom>
          <a:ln w="0">
            <a:noFill/>
          </a:ln>
        </p:spPr>
      </p:pic>
      <p:sp>
        <p:nvSpPr>
          <p:cNvPr id="10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F96D0076-4D41-424D-8E93-381EE48D78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Simple Calculator (Part 6 of 1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3" name="Picture 3" descr="savitch_c17d19_06of11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4109760"/>
          </a:xfrm>
          <a:prstGeom prst="rect">
            <a:avLst/>
          </a:prstGeom>
          <a:ln w="0">
            <a:noFill/>
          </a:ln>
        </p:spPr>
      </p:pic>
      <p:sp>
        <p:nvSpPr>
          <p:cNvPr id="10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119B580C-8858-4AED-914A-52876AB9ED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Simple Calculator (Part 7 of 1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7" name="Picture 3" descr="savitch_c17d19_07of11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2724120"/>
          </a:xfrm>
          <a:prstGeom prst="rect">
            <a:avLst/>
          </a:prstGeom>
          <a:ln w="0">
            <a:noFill/>
          </a:ln>
        </p:spPr>
      </p:pic>
      <p:sp>
        <p:nvSpPr>
          <p:cNvPr id="10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93CC19E7-052D-489A-ACED-8FF94ADD24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Simple Calculator (Part 8 of 1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1" name="Picture 3" descr="savitch_c17d19_08of11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2290680"/>
          </a:xfrm>
          <a:prstGeom prst="rect">
            <a:avLst/>
          </a:prstGeom>
          <a:ln w="0">
            <a:noFill/>
          </a:ln>
        </p:spPr>
      </p:pic>
      <p:sp>
        <p:nvSpPr>
          <p:cNvPr id="10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95EF21A3-E5EE-4BFC-8687-BF089F3A55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Simple Calculator (Part 9 of 1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5" name="Picture 3" descr="savitch_c17d19_09of11"/>
          <p:cNvPicPr/>
          <p:nvPr/>
        </p:nvPicPr>
        <p:blipFill>
          <a:blip r:embed="rId1"/>
          <a:srcRect l="0" t="1766" r="0" b="1985"/>
          <a:stretch/>
        </p:blipFill>
        <p:spPr>
          <a:xfrm>
            <a:off x="838080" y="1265400"/>
            <a:ext cx="7315200" cy="5209920"/>
          </a:xfrm>
          <a:prstGeom prst="rect">
            <a:avLst/>
          </a:prstGeom>
          <a:ln w="0">
            <a:noFill/>
          </a:ln>
        </p:spPr>
      </p:pic>
      <p:sp>
        <p:nvSpPr>
          <p:cNvPr id="10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0A32876C-3107-42A4-B774-9DD7E9A081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Simple Calculator (Part 10 of 1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9" name="Picture 3" descr="savitch_c17d19_10of11"/>
          <p:cNvPicPr/>
          <p:nvPr/>
        </p:nvPicPr>
        <p:blipFill>
          <a:blip r:embed="rId1"/>
          <a:stretch/>
        </p:blipFill>
        <p:spPr>
          <a:xfrm>
            <a:off x="838080" y="1231920"/>
            <a:ext cx="7239240" cy="5181480"/>
          </a:xfrm>
          <a:prstGeom prst="rect">
            <a:avLst/>
          </a:prstGeom>
          <a:ln w="0">
            <a:noFill/>
          </a:ln>
        </p:spPr>
      </p:pic>
      <p:sp>
        <p:nvSpPr>
          <p:cNvPr id="102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15AFAF09-377C-4E48-9B60-14A26D4143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Simple Calculator (Part 11 of 1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3" name="Picture 3" descr="savitch_c17d19_11of11"/>
          <p:cNvPicPr/>
          <p:nvPr/>
        </p:nvPicPr>
        <p:blipFill>
          <a:blip r:embed="rId1"/>
          <a:stretch/>
        </p:blipFill>
        <p:spPr>
          <a:xfrm>
            <a:off x="838080" y="1227240"/>
            <a:ext cx="7239240" cy="4943520"/>
          </a:xfrm>
          <a:prstGeom prst="rect">
            <a:avLst/>
          </a:prstGeom>
          <a:ln w="0">
            <a:noFill/>
          </a:ln>
        </p:spPr>
      </p:pic>
      <p:sp>
        <p:nvSpPr>
          <p:cNvPr id="102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90C39D47-BA52-40FF-840D-4BE0102CF0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caught Excep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 Swing program, throwing an uncaught exception does not end the GU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it may leave it in an unpredictable st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always best to catch any exception that is thrown even if all the catch block does is output an error message, or ask the user to reenter some in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63D04AD2-BA80-4F16-9EE2-A425D33D4E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irst Swing Demonstration (Part 2 of 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2" name="Picture 4" descr="savitch_c17d02_2of4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333600"/>
          </a:xfrm>
          <a:prstGeom prst="rect">
            <a:avLst/>
          </a:prstGeom>
          <a:ln w="0">
            <a:noFill/>
          </a:ln>
        </p:spPr>
      </p:pic>
      <p:sp>
        <p:nvSpPr>
          <p:cNvPr id="5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B336B7DA-7E6B-4C9D-B753-85ED7A22FB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irst Swing Demonstration (Part 3 of 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6" name="Picture 3" descr="savitch_c17d02_3of4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2803320"/>
          </a:xfrm>
          <a:prstGeom prst="rect">
            <a:avLst/>
          </a:prstGeom>
          <a:ln w="0">
            <a:noFill/>
          </a:ln>
        </p:spPr>
      </p:pic>
      <p:sp>
        <p:nvSpPr>
          <p:cNvPr id="5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04C447FE-F7FD-417B-A815-F6CC990848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irst Swing Demonstration (Part 4 of 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0" name="Picture 3" descr="savitch_c17d02_4of4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4186080"/>
          </a:xfrm>
          <a:prstGeom prst="rect">
            <a:avLst/>
          </a:prstGeom>
          <a:ln w="0">
            <a:noFill/>
          </a:ln>
        </p:spPr>
      </p:pic>
      <p:sp>
        <p:nvSpPr>
          <p:cNvPr id="5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88E3B487-C4D7-4AC6-B884-44828E1356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ethods in the Clas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Fram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1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Picture 3" descr="savitch_c17d03_1of3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2536560"/>
          </a:xfrm>
          <a:prstGeom prst="rect">
            <a:avLst/>
          </a:prstGeom>
          <a:ln w="0">
            <a:noFill/>
          </a:ln>
        </p:spPr>
      </p:pic>
      <p:sp>
        <p:nvSpPr>
          <p:cNvPr id="5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F6021637-9B1D-4AC4-ACEB-868906EAE5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ethods in the Clas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Fram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2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Picture 3" descr="savitch_c17d03_2of3"/>
          <p:cNvPicPr/>
          <p:nvPr/>
        </p:nvPicPr>
        <p:blipFill>
          <a:blip r:embed="rId1"/>
          <a:srcRect l="0" t="1750" r="0" b="2001"/>
          <a:stretch/>
        </p:blipFill>
        <p:spPr>
          <a:xfrm>
            <a:off x="838080" y="1587600"/>
            <a:ext cx="7772400" cy="4883040"/>
          </a:xfrm>
          <a:prstGeom prst="rect">
            <a:avLst/>
          </a:prstGeom>
          <a:ln w="0">
            <a:noFill/>
          </a:ln>
        </p:spPr>
      </p:pic>
      <p:sp>
        <p:nvSpPr>
          <p:cNvPr id="5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783FCA49-20B3-4390-B244-21CC7B4009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ethods in the Clas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Fram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3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Picture 4" descr="savitch_c17d03_3of3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4381560"/>
          </a:xfrm>
          <a:prstGeom prst="rect">
            <a:avLst/>
          </a:prstGeom>
          <a:ln w="0">
            <a:noFill/>
          </a:ln>
        </p:spPr>
      </p:pic>
      <p:sp>
        <p:nvSpPr>
          <p:cNvPr id="5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901D5C72-B3FE-4077-BDF0-049DA5DD8F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xels and the Relationship between Resolution and Si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ixe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the smallest unit of space on a scre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oth the size and position of Swing objects are measured in pix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more pixels on a screen, the greater the screen resol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high-resolution screen of fixed size has many pix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fore, each one is very sma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low-resolution screen of fixed size has fewer pix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fore, each one is much larg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fore, a two-pixel figure on a low-resolution screen will look larger than a two-pixel figure on a high-resolution scre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12E7F0F1-B6BE-4636-8550-4F12EE45D0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 to Sw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av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WT (Abstract Window Toolkit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ackage is the original Java package for doing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U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U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(graphical user interface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a windowing system that interacts with the us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wing package is an improved version of the AW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ever, it does not completely replace the AW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AWT classes are replaced by Swing classes, but other AWT classes are needed when using Sw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wing GUIs are designed using a form of object-oriented programming known a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vent-driven programm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4C3952E3-631B-4FCD-894B-B02C05F3AB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Forgetting to Program th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ose-Window But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ollowing lines from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irstSwingDemo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gram ensure that when the user clicks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lose-window butt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nothing happ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irstWindow.setDefaultCloseOperation(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     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Frame.DO_NOTHING_ON_CLOSE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is were not set, the default action would b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Frame.HIDE_ON_CLO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would make the window invisible and inaccessible, but would not end the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fore, given this scenario, there would be no way to click the "Click to end program" butt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that the close-window and other two accompanying buttons are part of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bject, and not separate butt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6F7A1DF3-C982-4E97-8E75-2AA8D653D2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tt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utt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bject is created from the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Butt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can be added to 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Fr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rgument to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Butt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structor is the string that appears on the button when it is display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Button endButton = new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Button("Click to end program."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irstWindow.add(endButton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E57BA548-F47C-4713-89D5-DB468AD428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ion Listeners and Action 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ing a button fires an ev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vent object is "sent" to another object called a listen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means that a method in the listener object is invoked automatic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rthermore, it is invoked with the event object as its argu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order to set up this relationship, a GUI program must do two th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must specify, for each button, what objects are its listeners, i.e., it must register the listen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must define the methods that will be invoked automatically when the event is sent to the liste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30ACE3E6-76E1-4C37-BC8A-4B5521C6FE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ion Listeners and Action 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ndingListener buttonEar = n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                 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ndingListener()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ndButton.addActionListener(buttonEar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ove, a listener object name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buttonEa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created and registered as a listener for the button name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endBut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that a button fires events known a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ction eve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which are handled by listeners known a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ction liste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AA346BA6-42FE-450E-ADCE-B671FA85F3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ion Listeners and Action 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t kinds of components require different kinds of listener classes to handle the events they fi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ction listener is an object whose class implements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ctionListen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te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ctionListen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terface has one method heading that must be implemen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void actionPerformed(ActionEvent 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3BBB0EE4-4DEF-4ECD-8F6C-7194ABCE16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ion Listeners and Action 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void actionPerformed(ActionEvent 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ystem.exit(0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ndingListen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defines it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ctionPerform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as abo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the user clicks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ndButt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 action event is sent to the action listener for that butt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ndingListen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bject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uttonEa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the action listener for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ndButt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action listener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uttonEa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receives the action event as the parameter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it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ctionPerform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thod, which is automatically invok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 that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ust be received, even if it is not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C204459D-BF92-4B43-97E9-77C47649D0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Changing the Heading for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ctionPerform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ctionPerform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is implemented in an action listener, its header must be the one specified in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ctionListen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terf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is already determined, and may not be chang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 even a throws clause may be ad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void actionPerformed(ActionEvent 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only thing that can be changed is the name of the parameter, since it is just a placehol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ther it is calle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 something else does not matter, as long as it is used consistently within the body of the meth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8F9788BF-6D36-47B2-A4DA-67A037AD9E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:  Ending a Swing Pr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UI programs are often based on a kind of infinite 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indowing system normally stays on the screen until the user indicates that it should go aw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e user never asks the windowing system to go away, it will never go a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order to end a GUI program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ystem.exi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ust be used when the user asks to end the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must be explicitly invoked, or included in some library code that is execu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therwise, a Swing program will not end after it has executed all the code in the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FBE2001B-4FE8-46BB-91ED-A63DA9124D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etter Version of Our First Swing GU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better version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irstWindo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akes it a derived class of the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Fr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is the normal way to define a windowing interf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nstructor in the new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irstWindo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starts by calling the constructor for the parent class using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uper(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ensures that any initialization that is normally done for all objects of typ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ill be d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most all initialization for the window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irstWindo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placed in the constructor for the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that this time, an anonymous object is used as the action listener for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nd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665845DF-1017-4C4C-B7D8-4AC745DA5D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Normal Way to Define a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Fram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1 of 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6" name="Picture 7" descr="savitch_c17d04_1of4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4010040"/>
          </a:xfrm>
          <a:prstGeom prst="rect">
            <a:avLst/>
          </a:prstGeom>
          <a:ln w="0">
            <a:noFill/>
          </a:ln>
        </p:spPr>
      </p:pic>
      <p:sp>
        <p:nvSpPr>
          <p:cNvPr id="6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634626AF-158B-4CB3-B217-25D90C8FF2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vent-driven programm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programming style that uses a signal-and-response approach to programm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v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n object that acts as a signal to another object know as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isten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ending of an event is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iring the ev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object that fires the event is often a GUI component, such as a button that has been click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0F189063-4395-41E4-AA4C-F04809A18C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Normal Way to Define a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Fram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2 of 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Picture 3" descr="savitch_c17d04_2of4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2889000"/>
          </a:xfrm>
          <a:prstGeom prst="rect">
            <a:avLst/>
          </a:prstGeom>
          <a:ln w="0">
            <a:noFill/>
          </a:ln>
        </p:spPr>
      </p:pic>
      <p:sp>
        <p:nvSpPr>
          <p:cNvPr id="6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33F8B2B0-ABEB-44BE-B06A-693AA56610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Normal Way to Define a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Fram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3 of 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4" name="Picture 3" descr="savitch_c17d04_3of4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2558880"/>
          </a:xfrm>
          <a:prstGeom prst="rect">
            <a:avLst/>
          </a:prstGeom>
          <a:ln w="0">
            <a:noFill/>
          </a:ln>
        </p:spPr>
      </p:pic>
      <p:sp>
        <p:nvSpPr>
          <p:cNvPr id="6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A758230E-BCA6-4575-A324-1A6BAB0765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Normal Way to Define a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Fram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4 of 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8" name="Picture 3" descr="savitch_c17d04_4of4"/>
          <p:cNvPicPr/>
          <p:nvPr/>
        </p:nvPicPr>
        <p:blipFill>
          <a:blip r:embed="rId1"/>
          <a:stretch/>
        </p:blipFill>
        <p:spPr>
          <a:xfrm>
            <a:off x="685800" y="1714680"/>
            <a:ext cx="7772400" cy="3439800"/>
          </a:xfrm>
          <a:prstGeom prst="rect">
            <a:avLst/>
          </a:prstGeom>
          <a:ln w="0">
            <a:noFill/>
          </a:ln>
        </p:spPr>
      </p:pic>
      <p:sp>
        <p:nvSpPr>
          <p:cNvPr id="63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5EF38A1F-934A-4F54-8F49-2516D10A7C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b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abe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n object of the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Lab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t can be added to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using a lab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text for the label is given as an argument when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Labe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cre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label can then be added to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Fr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Label greeting = new JLabel("Hello"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dd(greeting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5AC2D73A-3F9D-4203-AD78-2878234177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Java,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an object of the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la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ol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found in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ava.aw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ck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are constants in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ol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lass that represent a number of basic col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Fram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not be colored direct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ead, a program must color something called th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ntent pa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Fr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nce the content pane is the "inside" of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coloring the content pane has the effect of coloring the inside of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Fr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fore, the background color of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an be set using the following cod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getContentPane().setBackground(</a:t>
            </a:r>
            <a:r>
              <a:rPr b="1" i="1" lang="en-US" sz="1800" spc="-1" strike="noStrike">
                <a:solidFill>
                  <a:srgbClr val="034ca1"/>
                </a:solidFill>
                <a:latin typeface="Courier New"/>
              </a:rPr>
              <a:t>Color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7BD6D410-F015-4B1F-964E-6817E75C43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olor Const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0" name="Picture 8" descr="savitch_c17d05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2433600"/>
          </a:xfrm>
          <a:prstGeom prst="rect">
            <a:avLst/>
          </a:prstGeom>
          <a:ln w="0">
            <a:noFill/>
          </a:ln>
        </p:spPr>
      </p:pic>
      <p:sp>
        <p:nvSpPr>
          <p:cNvPr id="6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1796D4D4-A12E-44BA-8838-67D90DBBE0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with Color (Part 1 of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4" name="Picture 7" descr="savitch_c17d06_1of4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767040"/>
          </a:xfrm>
          <a:prstGeom prst="rect">
            <a:avLst/>
          </a:prstGeom>
          <a:ln w="0">
            <a:noFill/>
          </a:ln>
        </p:spPr>
      </p:pic>
      <p:sp>
        <p:nvSpPr>
          <p:cNvPr id="6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A355628B-93D6-47B0-B0F2-22CFCF70B0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with Color (Part 2 of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8" name="Picture 3" descr="savitch_c17d06_2of4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470040"/>
          </a:xfrm>
          <a:prstGeom prst="rect">
            <a:avLst/>
          </a:prstGeom>
          <a:ln w="0">
            <a:noFill/>
          </a:ln>
        </p:spPr>
      </p:pic>
      <p:sp>
        <p:nvSpPr>
          <p:cNvPr id="6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2EE3E685-D9EF-4D7B-BD05-E2BF68D588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with Color (Part 3 of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2" name="Picture 3" descr="savitch_c17d06_3of4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492360"/>
          </a:xfrm>
          <a:prstGeom prst="rect">
            <a:avLst/>
          </a:prstGeom>
          <a:ln w="0">
            <a:noFill/>
          </a:ln>
        </p:spPr>
      </p:pic>
      <p:sp>
        <p:nvSpPr>
          <p:cNvPr id="6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779993B4-CE22-41FB-B0B0-DA1730DCA7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with Color (Part 4 of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6" name="Picture 3" descr="savitch_c17d06_4of4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4935600"/>
          </a:xfrm>
          <a:prstGeom prst="rect">
            <a:avLst/>
          </a:prstGeom>
          <a:ln w="0">
            <a:noFill/>
          </a:ln>
        </p:spPr>
      </p:pic>
      <p:sp>
        <p:nvSpPr>
          <p:cNvPr id="6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03E920C8-6932-41B7-9D96-B5233EB8DD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ste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istener object performs some action in response to the ev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iven component may have any number of liste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listener may respond to a different kind of event, or multiple listeners might may respond to the same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4334D6EA-6DD3-4F55-8CB7-32D74FA2B9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ainers and Layout Manag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le components can be added to the content pane of 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sing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d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does not specify how these components are to be arrang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describe how multiple components are to be arranged,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ayout manag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u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a number of layout manager classes such a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orderLayou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lowLayou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GridLay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a layout manager is not specified, a default layout manager is 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383400D8-B800-49E3-BF5E-2CA1424B64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rder Layout Manag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BorderLayo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anager places the components that are added to 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bject into five reg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regions are: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BorderLayout.NOR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orderLayout.SOU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orderLayout.EA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orderLayout.WE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orderLayout.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BorderLayo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anager is added to 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sing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etLayo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etLayout(new BorderLayout()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B67A8F0C-1C93-44E4-A28E-684D34668E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nager (Part 1 of 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8" name="Picture 4" descr="savitch_c17d07_1of4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825720"/>
          </a:xfrm>
          <a:prstGeom prst="rect">
            <a:avLst/>
          </a:prstGeom>
          <a:ln w="0">
            <a:noFill/>
          </a:ln>
        </p:spPr>
      </p:pic>
      <p:sp>
        <p:nvSpPr>
          <p:cNvPr id="6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52D2553C-06C9-4C40-AC03-D03212939D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nager (Part 2 of 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3" descr="savitch_c17d07_2of4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735360"/>
          </a:xfrm>
          <a:prstGeom prst="rect">
            <a:avLst/>
          </a:prstGeom>
          <a:ln w="0">
            <a:noFill/>
          </a:ln>
        </p:spPr>
      </p:pic>
      <p:sp>
        <p:nvSpPr>
          <p:cNvPr id="6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ACA13B9A-9171-4452-B589-D466E51047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nager (Part 3 of 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savitch_c17d07_3of4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2803320"/>
          </a:xfrm>
          <a:prstGeom prst="rect">
            <a:avLst/>
          </a:prstGeom>
          <a:ln w="0">
            <a:noFill/>
          </a:ln>
        </p:spPr>
      </p:pic>
      <p:sp>
        <p:nvSpPr>
          <p:cNvPr id="6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1EADDBD0-1F18-434B-A1D2-92D642ACB6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nager (Part 4 of 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0" name="Picture 3" descr="savitch_c17d07_4of4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4065480"/>
          </a:xfrm>
          <a:prstGeom prst="rect">
            <a:avLst/>
          </a:prstGeom>
          <a:ln w="0">
            <a:noFill/>
          </a:ln>
        </p:spPr>
      </p:pic>
      <p:sp>
        <p:nvSpPr>
          <p:cNvPr id="6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0A65A1EB-93A7-4E86-AAA1-97231E7AC9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Reg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4" name="Picture 7" descr="savitch_c17d08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552840"/>
          </a:xfrm>
          <a:prstGeom prst="rect">
            <a:avLst/>
          </a:prstGeom>
          <a:ln w="0">
            <a:noFill/>
          </a:ln>
        </p:spPr>
      </p:pic>
      <p:sp>
        <p:nvSpPr>
          <p:cNvPr id="69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376CB910-00EE-4DC3-ABE7-067DF79F2D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rder Layout Manag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evious diagram shows the arrangement of the five border layout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:  None of the lines in the diagram are normally visi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using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orderLayou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anager, the location of the component being added is given as a second argument to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dd(label1, BorderLayout.NORTH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onents can be added in any order since their location is specifi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60A4C09C-598C-42E5-B050-A3AA93B7E0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w Layout Manag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FlowLayo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anager is the simplest layout manag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etLayout(new FlowLayout()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arranges components one after the other, going from left to r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onents are arranged in the order in which they are ad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ce a location is not specified,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d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has only one argument when using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FlowLayoutManag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dd.(label1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FA89E57A-3538-4219-9CBF-FFAF9B1DED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GridLayou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anager arranges components in a two-dimensional grid with some number of rows and colum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etLayout(new GridLayout(rows, columns)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ch entry is the same s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two numbers given as arguments specify the number of rows and colum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ch component is stretched so that it completely fills its grid po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:  None of the lines in the diagram are normally visi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id Layout Manag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7" name="Group 9"/>
          <p:cNvGrpSpPr/>
          <p:nvPr/>
        </p:nvGrpSpPr>
        <p:grpSpPr>
          <a:xfrm>
            <a:off x="3247920" y="4529160"/>
            <a:ext cx="3468960" cy="690480"/>
            <a:chOff x="3247920" y="4529160"/>
            <a:chExt cx="3468960" cy="690480"/>
          </a:xfrm>
        </p:grpSpPr>
        <p:sp>
          <p:nvSpPr>
            <p:cNvPr id="708" name="Rectangle 4"/>
            <p:cNvSpPr/>
            <p:nvPr/>
          </p:nvSpPr>
          <p:spPr>
            <a:xfrm>
              <a:off x="3247920" y="4529160"/>
              <a:ext cx="346896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Line 6"/>
            <p:cNvSpPr/>
            <p:nvPr/>
          </p:nvSpPr>
          <p:spPr>
            <a:xfrm>
              <a:off x="3247920" y="4876920"/>
              <a:ext cx="345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Line 7"/>
            <p:cNvSpPr/>
            <p:nvPr/>
          </p:nvSpPr>
          <p:spPr>
            <a:xfrm>
              <a:off x="4411800" y="4529160"/>
              <a:ext cx="0" cy="68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Line 8"/>
            <p:cNvSpPr/>
            <p:nvPr/>
          </p:nvSpPr>
          <p:spPr>
            <a:xfrm>
              <a:off x="5549760" y="4537080"/>
              <a:ext cx="0" cy="68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2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C3A693D8-7A1A-4A39-86BA-4DA7643689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Footer Placeholder 11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ception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xception object is an ev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hrowing of an exception is an example of firing an ev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istener for an exception object is the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lock that catches the ev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DB4381D6-A069-4AD4-B63C-2AEA6C06BF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id Layout Manag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using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GridLayo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, the metho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d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as only one argu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dd(label1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ems are placed in the grid from left to r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top row is filled first, then the second, and so fo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id positions may not be skipp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 the use of 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in the GUI class itself in the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 often a convenient way of demonstrating a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88882E31-227D-4B88-839F-422E87C93F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ridLayou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nager (Part 1 of 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9" name="Picture 7" descr="savitch_c17d09_1of4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751200"/>
          </a:xfrm>
          <a:prstGeom prst="rect">
            <a:avLst/>
          </a:prstGeom>
          <a:ln w="0">
            <a:noFill/>
          </a:ln>
        </p:spPr>
      </p:pic>
      <p:sp>
        <p:nvSpPr>
          <p:cNvPr id="72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C29A03EC-8C85-4985-ADD5-97787FC8AA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ridLayou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nager (Part 2 of 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3" name="Picture 3" descr="savitch_c17d09_2of4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2957400"/>
          </a:xfrm>
          <a:prstGeom prst="rect">
            <a:avLst/>
          </a:prstGeom>
          <a:ln w="0">
            <a:noFill/>
          </a:ln>
        </p:spPr>
      </p:pic>
      <p:sp>
        <p:nvSpPr>
          <p:cNvPr id="72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A1234E87-0FDF-41EF-BC5F-C10FEFD6FB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ridLayou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nager (Part 3 of 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7" name="Picture 3" descr="savitch_c17d09_3of4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585960"/>
          </a:xfrm>
          <a:prstGeom prst="rect">
            <a:avLst/>
          </a:prstGeom>
          <a:ln w="0">
            <a:noFill/>
          </a:ln>
        </p:spPr>
      </p:pic>
      <p:sp>
        <p:nvSpPr>
          <p:cNvPr id="72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D89FAEF1-352B-4225-86DF-BCDE259158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ridLayou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nager (Part 4 of 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1" name="Picture 3" descr="savitch_c17d09_4of4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4768920"/>
          </a:xfrm>
          <a:prstGeom prst="rect">
            <a:avLst/>
          </a:prstGeom>
          <a:ln w="0">
            <a:noFill/>
          </a:ln>
        </p:spPr>
      </p:pic>
      <p:sp>
        <p:nvSpPr>
          <p:cNvPr id="7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D1BA117A-4CE7-4597-B420-644340AFDA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Layout Manag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5" name="Picture 7" descr="savitch_c17d10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206520"/>
          </a:xfrm>
          <a:prstGeom prst="rect">
            <a:avLst/>
          </a:prstGeom>
          <a:ln w="0">
            <a:noFill/>
          </a:ln>
        </p:spPr>
      </p:pic>
      <p:sp>
        <p:nvSpPr>
          <p:cNvPr id="73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9394B1D7-2070-4E41-9CF5-15991C9EDA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n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UI is often organized in a hierarchical fashion, with containers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ane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side other contai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anel is an object of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Pane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 that serves as a simple contain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used to group smaller objects into a larger component (the pane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of the main functions of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Pane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bject is to subdivide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other contain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C251E83F-F12E-4117-B6E1-7C4E2E89E3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n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0904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h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each panel in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n use different layout manag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itional panels can be added to each panel, and each panel can have its own layout manag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enables almost any kind of overall layout to be used in a GU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etLayout(new BorderLayout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JPanel somePanel = new JPanel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omePanel.setLayout(new FlowLayout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in the following example that panel and button objects are given color using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etBackgrou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without invoking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getContentPa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getContentPa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thod is only used when adding color to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Fr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F9553A19-EE5E-415A-B217-DBDF459518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Panels (Part 1 of 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7" name="Picture 7" descr="savitch_c17d11_1of8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867120"/>
          </a:xfrm>
          <a:prstGeom prst="rect">
            <a:avLst/>
          </a:prstGeom>
          <a:ln w="0">
            <a:noFill/>
          </a:ln>
        </p:spPr>
      </p:pic>
      <p:sp>
        <p:nvSpPr>
          <p:cNvPr id="7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C1EC60D3-BE47-4283-8B38-B8E59BC08D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Panels (Part 2 of 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1" name="Picture 3" descr="savitch_c17d11_2of8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4171680"/>
          </a:xfrm>
          <a:prstGeom prst="rect">
            <a:avLst/>
          </a:prstGeom>
          <a:ln w="0">
            <a:noFill/>
          </a:ln>
        </p:spPr>
      </p:pic>
      <p:sp>
        <p:nvSpPr>
          <p:cNvPr id="7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B167711F-B67D-4DF4-BD79-955355D59C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ent Handl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istener object has methods that specify what will happen when events of various kinds are received by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methods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vent handl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grammer using the listener object will define or redefine these event-handler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8021558D-4227-4EF4-B6AA-520789003C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Panels (Part 3 of 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5" name="Picture 3" descr="savitch_c17d11_3of8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2930400"/>
          </a:xfrm>
          <a:prstGeom prst="rect">
            <a:avLst/>
          </a:prstGeom>
          <a:ln w="0">
            <a:noFill/>
          </a:ln>
        </p:spPr>
      </p:pic>
      <p:sp>
        <p:nvSpPr>
          <p:cNvPr id="7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40C4F88D-75AF-408E-ABCC-9DBD5AD341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Panels (Part 4 of 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9" name="Picture 3" descr="savitch_c17d11_4of8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4200480"/>
          </a:xfrm>
          <a:prstGeom prst="rect">
            <a:avLst/>
          </a:prstGeom>
          <a:ln w="0">
            <a:noFill/>
          </a:ln>
        </p:spPr>
      </p:pic>
      <p:sp>
        <p:nvSpPr>
          <p:cNvPr id="7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491C2083-9FD4-4828-8C84-3C0A1285B9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Panels (Part 5 of 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3" name="Picture 3" descr="savitch_c17d11_5of8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454200"/>
          </a:xfrm>
          <a:prstGeom prst="rect">
            <a:avLst/>
          </a:prstGeom>
          <a:ln w="0">
            <a:noFill/>
          </a:ln>
        </p:spPr>
      </p:pic>
      <p:sp>
        <p:nvSpPr>
          <p:cNvPr id="7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4ECDDC1E-FCF1-4F63-890D-60A4D94B63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Panels (Part 6 of 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7" name="Picture 3" descr="savitch_c17d11_6of8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71448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91C7A20F-B851-40B3-B637-2E462CA823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Panels (Part 7 of 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1" name="Picture 3" descr="savitch_c17d11_7of8"/>
          <p:cNvPicPr/>
          <p:nvPr/>
        </p:nvPicPr>
        <p:blipFill>
          <a:blip r:embed="rId1"/>
          <a:srcRect l="0" t="1662" r="0" b="2136"/>
          <a:stretch/>
        </p:blipFill>
        <p:spPr>
          <a:xfrm>
            <a:off x="838080" y="1320840"/>
            <a:ext cx="7772400" cy="5151240"/>
          </a:xfrm>
          <a:prstGeom prst="rect">
            <a:avLst/>
          </a:prstGeom>
          <a:ln w="0">
            <a:noFill/>
          </a:ln>
        </p:spPr>
      </p:pic>
      <p:sp>
        <p:nvSpPr>
          <p:cNvPr id="7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9ED3A1C5-F418-4959-843E-B093540B91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Panels (Part 8 of 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5" name="Picture 3" descr="savitch_c17d11_8of8"/>
          <p:cNvPicPr/>
          <p:nvPr/>
        </p:nvPicPr>
        <p:blipFill>
          <a:blip r:embed="rId1"/>
          <a:stretch/>
        </p:blipFill>
        <p:spPr>
          <a:xfrm>
            <a:off x="838080" y="1231920"/>
            <a:ext cx="7772400" cy="5137200"/>
          </a:xfrm>
          <a:prstGeom prst="rect">
            <a:avLst/>
          </a:prstGeom>
          <a:ln w="0">
            <a:noFill/>
          </a:ln>
        </p:spPr>
      </p:pic>
      <p:sp>
        <p:nvSpPr>
          <p:cNvPr id="7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445A2242-ABCC-4269-A33E-8620ADA1E7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Container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y class that is a descendent class of the class Container is considered to be a container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ontain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lass is found in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ava.aw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ackage, not in the Swing libr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y object that belongs to a class derived from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ontain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(or its descendents) can have components added to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lasse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Pane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e descendent classes of the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ontain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fore they and any of their descendents can serve as a contai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9A93B49F-EC41-4CCE-A5C6-2D074CA6C3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JCompone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y descendent class of the class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JCompon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called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mponent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y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Compon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bject 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mpon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be added to any container class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 it is derived from the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Contain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Compon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also be added to another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Compon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FD11643A-179B-4406-ADC6-B62F94F0BD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s in a Typical GU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most every GUI built using Swing container classes will be made up of three kinds of objec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ntainer itself, probably a panel or window-like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mponents added to the container such as labels, buttons, and pan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yout manager to position the components inside the contain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209E9A4A-CE21-4B3C-BB89-536288B030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erarchy of Swing and AWT Cla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1" name="Picture 8" descr="savitch_c17d12_complete"/>
          <p:cNvPicPr/>
          <p:nvPr/>
        </p:nvPicPr>
        <p:blipFill>
          <a:blip r:embed="rId1"/>
          <a:srcRect l="0" t="1742" r="0" b="2178"/>
          <a:stretch/>
        </p:blipFill>
        <p:spPr>
          <a:xfrm>
            <a:off x="838080" y="825480"/>
            <a:ext cx="4719600" cy="5600880"/>
          </a:xfrm>
          <a:prstGeom prst="rect">
            <a:avLst/>
          </a:prstGeom>
          <a:ln w="0">
            <a:noFill/>
          </a:ln>
        </p:spPr>
      </p:pic>
      <p:sp>
        <p:nvSpPr>
          <p:cNvPr id="79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56F7B84B-E9FE-4119-9D54-9503DBE287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ent Firing and an Event Listen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Picture 10" descr="savitch_c17d01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2975040"/>
          </a:xfrm>
          <a:prstGeom prst="rect">
            <a:avLst/>
          </a:prstGeom>
          <a:ln w="0">
            <a:noFill/>
          </a:ln>
        </p:spPr>
      </p:pic>
      <p:sp>
        <p:nvSpPr>
          <p:cNvPr id="53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E22C1431-5142-4D84-89C6-3A27373B58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p:  Code a GUI's Look and Actions Separat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task of designing a Swing GUI can be divided into two main subtas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ing and coding the appearance of the GUI on the scre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ing and coding the actions performed in response to user a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particular, it is useful to implement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ctionPerform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as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tu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until the GUI looks the way it shou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void actionPerformed(ActionEvent 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philosophy is at the heart of the technique used by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odel-View-Controll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atte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006B55B4-D598-4E63-93C6-491A3EF082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odel-View-Controller Patter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9" name="Picture 9" descr="savitch_c17d13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4341600"/>
          </a:xfrm>
          <a:prstGeom prst="rect">
            <a:avLst/>
          </a:prstGeom>
          <a:ln w="0">
            <a:noFill/>
          </a:ln>
        </p:spPr>
      </p:pic>
      <p:sp>
        <p:nvSpPr>
          <p:cNvPr id="8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BF86F96E-22EB-44AC-A2F1-055385F5AD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u Bars, Menus, and Menu I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en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n object of the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Men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hoice on a menu is called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enu ite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is an object of the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MenuI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menu can contain any number of menu i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menu item is identified by the string that labels it, and is displayed in the order to which it was added to the me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d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is used to add a menu item to a menu in the same way that a component is added to a container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8003E9E3-0884-4418-B7AB-5757046972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u Bars, Menus, and Menu I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759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ollowing creates a new menu, and then adds a menu item to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Menu diner = new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Menu("Daily Specials"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MenuItem lunch = n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MenuItem("Lunch Specials"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lunch.addActionListener(this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iner.add(lunch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that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arameter has been registered as an action listener for the menu i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D946D1FD-55D1-485C-B4D6-E5AF362E45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sted Men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lass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JMen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 descendent of the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JMenuIte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y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Men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be a menu item in another men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fore, menus can be ne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us can be added to other menus in the same way as menu i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F0EDD102-02E6-4104-A015-483EEBFFB8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nu Bars and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JFr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enu ba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a container for menus, typically placed near the top of a windowing interf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is used to add a menu to a menu bar in the same way that menu items are added to a me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MenuBar bar = new JMenuBar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ar.add(diner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enu bar can be added to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two different w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ing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etJMenuBa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etJMenuBar(ba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ing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thod – which can be used to add a menu bar to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 any other contai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BEC53F62-96E6-4A87-8E61-A8FE41EA14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GUI with a Menu (Part 1 of 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9" name="Picture 7" descr="savitch_c17d14_1of8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2814480"/>
          </a:xfrm>
          <a:prstGeom prst="rect">
            <a:avLst/>
          </a:prstGeom>
          <a:ln w="0">
            <a:noFill/>
          </a:ln>
        </p:spPr>
      </p:pic>
      <p:sp>
        <p:nvSpPr>
          <p:cNvPr id="82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2FE6E601-0830-4A77-82EE-4FDB1A235F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GUI with a Menu (Part 2 of 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3" name="Picture 3" descr="savitch_c17d14_2of8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995640"/>
          </a:xfrm>
          <a:prstGeom prst="rect">
            <a:avLst/>
          </a:prstGeom>
          <a:ln w="0">
            <a:noFill/>
          </a:ln>
        </p:spPr>
      </p:pic>
      <p:sp>
        <p:nvSpPr>
          <p:cNvPr id="82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9C4C7E70-D3A5-4A66-A9B6-8E89F64A32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GUI with a Menu (Part 3 of 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7" name="Picture 3" descr="savitch_c17d14_3of8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762360"/>
          </a:xfrm>
          <a:prstGeom prst="rect">
            <a:avLst/>
          </a:prstGeom>
          <a:ln w="0">
            <a:noFill/>
          </a:ln>
        </p:spPr>
      </p:pic>
      <p:sp>
        <p:nvSpPr>
          <p:cNvPr id="82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CCD0515B-28F2-4694-AEDC-9CF41D6267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GUI with a Menu (Part 4 of 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1" name="Picture 3" descr="savitch_c17d14_4of8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962160"/>
          </a:xfrm>
          <a:prstGeom prst="rect">
            <a:avLst/>
          </a:prstGeom>
          <a:ln w="0">
            <a:noFill/>
          </a:ln>
        </p:spPr>
      </p:pic>
      <p:sp>
        <p:nvSpPr>
          <p:cNvPr id="8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AE5747A7-5F44-458A-AB7A-7F18521921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ent-Driven Programm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t-driven programming is very different from most programming seen up until 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 far, programs have consisted of a list of statements executed in 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at order changed, whether or not to perform certain actions (such as repeat statements in a loop, branch to another statement, or invoke a method) was controlled by the logic of the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C022BDEA-50B6-40A6-8406-D1100F523F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GUI with a Menu (Part 5 of 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5" name="Picture 3" descr="savitch_c17d14_5of8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365280"/>
          </a:xfrm>
          <a:prstGeom prst="rect">
            <a:avLst/>
          </a:prstGeom>
          <a:ln w="0">
            <a:noFill/>
          </a:ln>
        </p:spPr>
      </p:pic>
      <p:sp>
        <p:nvSpPr>
          <p:cNvPr id="83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55A51F11-6605-43D8-8435-57EDB620A6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GUI with a Menu (Part 6 of 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9" name="Picture 3" descr="savitch_c17d14_6of8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733560"/>
          </a:xfrm>
          <a:prstGeom prst="rect">
            <a:avLst/>
          </a:prstGeom>
          <a:ln w="0">
            <a:noFill/>
          </a:ln>
        </p:spPr>
      </p:pic>
      <p:sp>
        <p:nvSpPr>
          <p:cNvPr id="84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E1A456A1-3A27-47B3-A884-C8B94D8DF7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GUI with a Menu (Part 7 of 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3" name="Picture 3" descr="savitch_c17d14_7of8"/>
          <p:cNvPicPr/>
          <p:nvPr/>
        </p:nvPicPr>
        <p:blipFill>
          <a:blip r:embed="rId1"/>
          <a:srcRect l="0" t="1884" r="0" b="2118"/>
          <a:stretch/>
        </p:blipFill>
        <p:spPr>
          <a:xfrm>
            <a:off x="838080" y="1320840"/>
            <a:ext cx="7772400" cy="5176800"/>
          </a:xfrm>
          <a:prstGeom prst="rect">
            <a:avLst/>
          </a:prstGeom>
          <a:ln w="0">
            <a:noFill/>
          </a:ln>
        </p:spPr>
      </p:pic>
      <p:sp>
        <p:nvSpPr>
          <p:cNvPr id="84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830C4290-0EA0-4741-B991-C2D70D7948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GUI with a Menu (Part 8 of 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7" name="Picture 3" descr="savitch_c17d14_8of8"/>
          <p:cNvPicPr/>
          <p:nvPr/>
        </p:nvPicPr>
        <p:blipFill>
          <a:blip r:embed="rId1"/>
          <a:stretch/>
        </p:blipFill>
        <p:spPr>
          <a:xfrm>
            <a:off x="838080" y="1231920"/>
            <a:ext cx="7772400" cy="5268960"/>
          </a:xfrm>
          <a:prstGeom prst="rect">
            <a:avLst/>
          </a:prstGeom>
          <a:ln w="0">
            <a:noFill/>
          </a:ln>
        </p:spPr>
      </p:pic>
      <p:sp>
        <p:nvSpPr>
          <p:cNvPr id="8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35360BBB-8CB1-49BB-8EA5-F7E1FAE0D8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bstractButt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imens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lasse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Butt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MenuIte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derived classes of the abstract class name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bstractBut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of their basic properties and methods are inherited from the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bstrac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s of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Dimens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 are used with buttons, menu items, and other objects to specify a s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imens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is in the packag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ava.aw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imension(int width, int heigh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: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wid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heigh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arameters are in pix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227540E4-1DE3-4D21-BCF3-D0D6A4955F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setActionComman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a user clicks a button or menu item, an event is fired that normally goes to one or more action liste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action event becomes an argument to an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ctionPerform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action event includes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stance variable called th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ction comma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the button or menu i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default value for this string is the string written on the button or the menu i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string can be retrieved with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getActionComma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.getActionCommand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D4843381-82CC-42BB-90C0-222FD6D6A1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setActionComman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etActionComm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can be used to change the action command for a compon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 especially useful when two or more buttons or menu items have the same default action command str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JButton nextButton = new JButton("Next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nextButton.setActionCommand("Next Button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JMenuItem choose = new JMenuItem("Next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choose.setActionCommand("Next Menu Item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E15B1CF1-E569-45CC-9D47-542C7AF786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98400" y="151920"/>
            <a:ext cx="844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Methods in the Class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AbstractButt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Part 1 of 3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3" name="Picture 8" descr="savitch_c17d15_1of3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4128840"/>
          </a:xfrm>
          <a:prstGeom prst="rect">
            <a:avLst/>
          </a:prstGeom>
          <a:ln w="0">
            <a:noFill/>
          </a:ln>
        </p:spPr>
      </p:pic>
      <p:sp>
        <p:nvSpPr>
          <p:cNvPr id="8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E692667A-A16E-4BF5-82E2-A8280E82D1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98400" y="151920"/>
            <a:ext cx="844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Methods in the Class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AbstractButt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Part 2 of 3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7" name="Picture 3" descr="savitch_c17d15_2of3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4354560"/>
          </a:xfrm>
          <a:prstGeom prst="rect">
            <a:avLst/>
          </a:prstGeom>
          <a:ln w="0">
            <a:noFill/>
          </a:ln>
        </p:spPr>
      </p:pic>
      <p:sp>
        <p:nvSpPr>
          <p:cNvPr id="8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3E820509-C531-4831-B198-577748A29F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98400" y="151920"/>
            <a:ext cx="844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Methods in the Class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AbstractButt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Part 3 of 3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1" name="Picture 3" descr="savitch_c17d15_3of3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890880"/>
          </a:xfrm>
          <a:prstGeom prst="rect">
            <a:avLst/>
          </a:prstGeom>
          <a:ln w="0">
            <a:noFill/>
          </a:ln>
        </p:spPr>
      </p:pic>
      <p:sp>
        <p:nvSpPr>
          <p:cNvPr id="8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29256B9F-88C9-4C1E-98C0-22326BBC73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ent-Driven Programm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event-driven programming, objects are created that can fire events, and listener objects are created that can react to the ev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gram itself no longer determines the order in which things can happ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ead, the events determine the or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396E2B15-B916-4F7D-A5D3-57BAC1A984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steners as Inner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ten, instead of having one action listener object deal with all the action events in a GUI, a separat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ctionListen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 is created for each button or menu i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button or menu item has its own unique action listen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is then no need for a multiway if-else stat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this approach is used, each class is usually made a private inner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D97EB8A0-C578-4965-9F4C-875FCC4411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eners as Inner Classes (Part 1 of 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9" name="Picture 7" descr="savitch_c17d16_1of6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2809800"/>
          </a:xfrm>
          <a:prstGeom prst="rect">
            <a:avLst/>
          </a:prstGeom>
          <a:ln w="0">
            <a:noFill/>
          </a:ln>
        </p:spPr>
      </p:pic>
      <p:sp>
        <p:nvSpPr>
          <p:cNvPr id="88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F4A967CB-A972-4916-83A8-F69DE7207C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eners as Inner Classes (Part 2 of 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3" name="Picture 3" descr="savitch_c17d16_2of6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990960"/>
          </a:xfrm>
          <a:prstGeom prst="rect">
            <a:avLst/>
          </a:prstGeom>
          <a:ln w="0">
            <a:noFill/>
          </a:ln>
        </p:spPr>
      </p:pic>
      <p:sp>
        <p:nvSpPr>
          <p:cNvPr id="8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3ACF6052-8141-48F8-9292-A99919BF03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eners as Inner Classes (Part 3 of 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7" name="Picture 3" descr="savitch_c17d16_3of6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657600"/>
          </a:xfrm>
          <a:prstGeom prst="rect">
            <a:avLst/>
          </a:prstGeom>
          <a:ln w="0">
            <a:noFill/>
          </a:ln>
        </p:spPr>
      </p:pic>
      <p:sp>
        <p:nvSpPr>
          <p:cNvPr id="88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6A3D6323-937B-46F5-9F09-8AFC969A70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eners as Inner Classes (Part 4 of 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1" name="Picture 3" descr="savitch_c17d16_4of6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794040"/>
          </a:xfrm>
          <a:prstGeom prst="rect">
            <a:avLst/>
          </a:prstGeom>
          <a:ln w="0">
            <a:noFill/>
          </a:ln>
        </p:spPr>
      </p:pic>
      <p:sp>
        <p:nvSpPr>
          <p:cNvPr id="89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B4410143-03C1-4E01-8C95-435B723FEA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eners as Inner Classes (Part 5 of 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5" name="Picture 3" descr="savitch_c17d16_5of6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2644560"/>
          </a:xfrm>
          <a:prstGeom prst="rect">
            <a:avLst/>
          </a:prstGeom>
          <a:ln w="0">
            <a:noFill/>
          </a:ln>
        </p:spPr>
      </p:pic>
      <p:sp>
        <p:nvSpPr>
          <p:cNvPr id="8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2C5A947C-2552-4C91-9E18-9C6C8B1A57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eners as Inner Classes (Part 6 of 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9" name="Picture 3" descr="savitch_c17d16_6of6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506760"/>
          </a:xfrm>
          <a:prstGeom prst="rect">
            <a:avLst/>
          </a:prstGeom>
          <a:ln w="0">
            <a:noFill/>
          </a:ln>
        </p:spPr>
      </p:pic>
      <p:sp>
        <p:nvSpPr>
          <p:cNvPr id="9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D9FC449C-9028-490D-A66E-FFA564B92F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Fie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ext fiel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n object of the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TextFie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displayed as a field that allows the user to enter a single line of 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rivate JTextField nam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ame = new JTextField(NUMBER_OF_CHAR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text field above, at least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UMBER_OF_CHA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haracters can be vis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C3690BA1-61BD-4D0B-94DD-657DF50DB7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Fie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is also a constructor with one additional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arameter for displaying an initial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the text fie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TextField name = new JTextField(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"Enter name here.", 30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wing GUI can read the text in a text field using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getTex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tring inputString = name.getText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etho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etTex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n be used to display a new text string in a text fie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ame.setText("This is some output"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4EC265BB-4F27-441A-ACA9-1CA5943C24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Text Field (Part 1 of 7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1" name="Picture 7" descr="savitch_c17d17_1of7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068640"/>
          </a:xfrm>
          <a:prstGeom prst="rect">
            <a:avLst/>
          </a:prstGeom>
          <a:ln w="0">
            <a:noFill/>
          </a:ln>
        </p:spPr>
      </p:pic>
      <p:sp>
        <p:nvSpPr>
          <p:cNvPr id="9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CBE25E43-B68E-4E13-9FC0-61B61156E0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Kenrick</cp:lastModifiedBy>
  <dcterms:modified xsi:type="dcterms:W3CDTF">2007-05-28T06:40:56Z</dcterms:modified>
  <cp:revision>12</cp:revision>
  <dc:subject/>
  <dc:title>Slide 1</dc:title>
</cp:coreProperties>
</file>