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4335-910A-4FEE-A106-04C204EDC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D7A0-CB13-4B7F-9F44-89F24C18D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168-3DBA-4B4B-BCC0-04E91A2F5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C8EE-EB84-4411-B052-911F144AF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1141-D27E-46C9-8154-2BAEF820A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6168-E8FC-435D-86CE-6098B71FD2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0EE8-D9F7-476E-BE22-2E713CAB4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EF05-4583-4354-BABD-284848CAF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4CFE-2393-491C-AACE-4A7D9064A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4EBB-5D33-4921-A9AF-7693535B4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B453-7285-42D9-A5D3-D535AD30F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527D-2C33-4279-9CA4-8A6DA2B43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705A-3801-4359-895A-F44543030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BD20-CF83-4AF1-9B92-A9507F1DE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7C35-6986-42D8-B2A4-88F1AD2E8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2EB0-2168-4FF6-8BB4-920D70545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7721-5905-492D-9952-21832CEDB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EE26-1DA9-4324-93F8-1A04608E9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E3E7-23FB-4BCB-9497-F171B3CDD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189-2268-470A-B2A7-78514715B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1437-7BF4-4794-B9E4-17B1678C7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D5C3-4888-42F1-885A-4CDC6325A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233B-F0F2-4B24-92E3-1F8755406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21E4-7B41-4A03-A84F-1F517A2AF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4A78-8116-48DF-AB39-58DBA4EE1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4572-D95D-47C3-BE52-E8D4BB656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10A4-1BE4-42AA-AB7D-F4526F1A8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B7AD-E235-4DBF-82DA-3EF816559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7D07-057E-4EF6-AB32-3E4E846C7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15F3-CC66-4911-B7EF-79C150A95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3973-2B5B-4572-8564-800D94CE0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2484-60C4-4BE3-8144-956DE545A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6524-3F94-46D4-9292-31E5C4856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7C0C-9FCC-49A2-B2F4-09FAC4030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4445-026E-404A-81E0-2F6C27A26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4005-F321-469F-87AD-E01C20B9E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3A63-0078-4081-8ED3-7EDA487B0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3312-D78B-45D3-9E46-BF7FEEADF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1208-18A5-4105-ABDE-498A40AC8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C7EF-A858-454D-BCD1-ED38BE258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AD72-6019-4587-8A52-138A4B6D5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91BA-66F0-4616-9A0E-F4DEF2FD4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F58-B458-4A46-9C1C-CABD74F07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86AE-1C1B-4694-9034-38906449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C09-FA41-4FB6-9ECA-9385A74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4BCA4-5D6A-4546-BFB1-B87CCCAD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AFC4A-F38C-41B8-AF16-699DD18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607AE-5340-4958-BF70-0F0FD045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12F38-57EC-49DD-A1E0-36C87BAE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1CD40-0280-41EB-ABF9-50007E0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1E289-5AAC-4BCA-A1D5-6CC35CC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1EEE2-E508-402B-A9DD-68F0F971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BC963-9E4B-42BD-9FD8-44D23563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30539-D213-42F4-ABDA-625B732B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BE8F4-8FDE-4FA9-87FB-3328031B4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6E1-7B47-4AA2-8D07-A49E0BFB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90883-CE90-4AF3-A18D-02F595BE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1303C-3490-4681-91E5-67B87BE8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F15CE-E5A9-419F-8C01-FEEC17A2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8437E-1E83-4FDC-85AD-6A190AB5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53468-E544-4906-9A1A-41AD850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7CE20-09F8-41E7-A54F-CFCCC4A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D9847-970E-489E-9BAB-B30993B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7A3DC-B27B-435F-AF68-00EC1A9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27477-FC97-4882-BE2B-8B1E856B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B8298-B165-4842-9469-7739B2F5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EA7-401A-459D-A70C-78FA3E94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41D5A-FD54-4BEB-87B0-3873FC8A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E0F2B-4411-47CA-9903-4E87C4EF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62790-91C1-4198-A016-3A081025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9FBD0-75A7-4D0E-8BE1-638EDDE7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549EE-7A15-4ECE-BA58-02F9A3F8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FE39F-9AB0-4F03-8DE3-BC93D82F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31FCD-8787-432D-82DE-BC8E31E5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4D6D5-880D-4A30-9965-120D36C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1878E-3A3F-47E9-9A07-A32A159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AB763-4798-4E23-8842-C2A0DF2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056C-85BA-4D96-AE17-1C83DBE2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36E86-E73F-4F95-B178-6B0574B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83998-59F4-46DD-8779-E1962293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2B0C7-90CC-437F-A37C-F96B0AE5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9039A-5B26-4523-8EEC-14AF4F09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9082C-4B48-40B6-9AC6-CCA37F78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039EF-F02B-4086-8EE0-E95B9FF8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C8039-16A5-462D-AE90-E8E754F9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8C0C6-FBB7-4537-85C5-C1671169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5784D-167D-473A-AD89-2708B199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20A69-AF1E-4745-ADC4-36A29DE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D5A7-2F78-4A1F-8747-58299882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67CFC-CDC7-4732-B96D-D84BC55B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2AF1C-6CDA-46D0-918E-8B99EEE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E5906-C76E-4A11-82A4-6A49D809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A0D60-C0AA-44F1-B17E-21FCE0B6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5F3A4-D686-4E23-BD5A-6F259FAE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C7DB-0CED-497C-BA48-65D00D9A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29A8-47EB-4CFC-A325-7ECA3025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FDA8-9C16-494C-A91A-CDCB606F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7712-982E-455A-9C01-6CAA4F8E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A6EF-D54F-4237-9025-4560DA5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32B-67CF-48B5-B263-2BBE3162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0915-929D-4038-A7AA-6EF9FB20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AEEF-74BB-4C9E-BD0B-5D47D37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1A9C-7F39-40B7-9ACD-FC9DE52F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15A8-181D-4E85-8289-9C7DD57A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52A4-9829-4A9A-8945-D204A522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F6451-AD52-4EA3-B5A9-0600B7D0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40A6E-E330-47DE-A461-BA517847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E5340-DB1D-430F-A236-69752658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3102A-250E-4960-8421-7523ABBD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61101-CCDD-405E-9EC4-7CE9DF96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36C-0025-4233-BC5E-DCDDD789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0EDB4-185C-48A4-AEC2-C0DAD2A6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E9281-19CB-4973-85F8-FB26879C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A48E4-ADA0-44E4-AC61-70A212E4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26FE2-C33A-4309-A41A-C4547D8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124DA-79B2-40DD-BBA9-DEB50D29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84F6D-F8D9-4D0F-9C71-FBC552F6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67E3D-D8D0-40EE-AE19-88D3FDFA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70BF-75D3-481D-BE85-D0AB5BCF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5761-835E-4091-BF96-31183918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FCF6-5BF5-4C0E-B675-7B7DCBD8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050-1F13-4303-88D1-9836592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CA521-DB0A-42E2-851A-8015C44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C2B8-5BA7-4A58-B07D-AC57A069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2AC5D-9A6A-4A10-9B79-ADC4771B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70111-2052-4F09-87DA-85001D84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EAC48-020F-4F92-A10D-0BCB4C7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782B4-CC83-47CE-9ABB-5387ADD7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3D847-2684-4959-B039-7BC5F9F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56B0B-8EB4-4358-82DB-7907D1B2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23F8-1CDE-44FD-ACCC-DEB3F6F5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1B90A-52EF-49BB-9F1A-95DFA24F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AB3-BB98-4671-9264-C528A00A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50C7-A5E0-4385-B65B-C132EF08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6C1D8-844B-4D97-BBD4-54CCB6A5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4968-2A54-4EF4-9765-1898D750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EEFE0-2127-4FD1-BECF-17BE03C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0CE0-3521-446D-90DD-739D35F3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62AF5-5515-4C17-A087-E2B3956F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5D49C-FD88-4B47-9D5C-A041272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69186-98EB-47B6-B021-59A55985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19284-7D86-40DF-975C-A7B71CC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F140F-4411-41F1-9025-8AD28779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119-9583-4432-A4B8-DC01BDB2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8FE5B-FE6A-4A32-839F-3B683ACC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796DB-648B-4290-BE89-F1A3054F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FB0B-9506-4633-AEBA-F1382CCE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535C-B7A5-49BA-941E-C25565D5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55A0A-B9AE-4A2F-AFC5-7F5C93B5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60002-DA6C-4AC5-AC3A-C095142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C586-C3B8-4F68-9B27-18982A0C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9789-E1CE-4A61-9DA6-8190F29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FFA3-1F97-4E6E-8B40-4DA986D0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6049B-79FA-4AFC-9264-07C30754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976-A18E-4DBB-A56E-87726373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F4634-44BA-437D-8082-2C591A3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BCEF7-9A65-4085-8FF8-2CBA910B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1F1E0-F6D6-4395-94C4-AE2C6F72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620F9-6838-4223-9402-316D67D7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AE57-6718-4BEB-BE55-BD5F93A3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CBEED-F631-455E-B683-03098C86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4C7C6-5B70-4FB4-A7FB-37F298E5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CBFE6-AF6C-46D3-B99D-098403C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61B2-F697-4B59-A041-3DE37DF4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53448-6BE1-4AD6-B03A-4741B23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F73-F1A4-4CE7-988B-920E328E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E8806-1DF8-43F9-B43C-4AB974B0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C73B-DD52-4797-9D5E-1A2EB35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BA79C-B39A-42F1-8AF0-41E6BF8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83CDE-6A9B-4CA7-9A2E-A6683BE2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6393B-C970-41EE-AB80-3DD296A8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AE301-DAE1-43E9-8678-F722F882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0A21-9F4D-434E-A066-A867BCC0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9471F-6198-4C2D-AC19-40B549A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67DF0-93B8-4CC7-B755-E272AD95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69E1-9F90-442C-8AB3-3B4E2054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7F78-1705-41C3-A8A1-14DECC2F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981EF-FAD3-44A2-A601-070E52F0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52C4-FB5E-4FA8-B123-F386528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90A1A-745F-4DF4-9FE0-2930D521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92CE-8896-4EC3-BF12-46F67206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4F288-F657-4B7E-BAC3-42F050D8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793A-941B-4D6C-A8E7-5DBA16F7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EF219-7FA4-4CDC-87C2-EF6CDBE5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CC1F0-C493-4F1C-B941-5B41C811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0D09C-B83E-4512-A01C-2A39CA89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B32D-38AC-4358-B029-1744E55E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1890-9D4B-4529-9A75-F900CA791BB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3651ECA-86EF-46A0-972C-934BD0C59A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056E-3F32-425F-85ED-04AFFAE7284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DC6CB9BE-BFD7-4DFE-9991-9C15E2EA2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21E9-5B19-46F3-98EA-EE21E052B8F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11E37FB2-74F1-42BC-A1A9-9B9A8928E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18C-9A05-4005-8BAE-629FFF3F0BD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D3709195-19B3-4456-A089-6471B749D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D420-089C-4986-80AA-100708EB5B2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10A4E8AF-7CFA-4AEF-8BDD-6FEB7D7D0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7E12-73F0-4548-BE26-A9CF5FB0AB7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7F0FD80B-6B07-481B-A98A-6DA061D56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BDF-9FC2-41F8-95B7-430B42860FD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4A89EA7C-29D0-49A4-B79E-30511F087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BD56-EE1B-4C54-8E12-AEBA1411DD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B3A1B451-BA81-49BE-9329-F6B12D6D1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0E00-85EC-4032-AF6C-B0EA769DEA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401AC83B-C09B-4FC9-AC1A-5F1EAEBCB7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F885-0FD9-4E8F-8601-45972BC0C6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932F1841-7C27-401C-BE27-CDFE88772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C102-6CE6-44B3-8CB3-2F4ACBB815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0A62E2FE-EE57-488B-8170-466745692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0CE-6EC6-4619-9E65-FCB67D6731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8-</a:t>
            </a:r>
            <a:fld id="{019AEB3C-75FE-4C8F-9FC6-84AA748A3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olymorphism and Abstract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 bill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pri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 bill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fraction = discount/1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1 - fraction) * getPrice(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E0560C63-040B-4648-AA3F-0C1504650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957240" y="5470560"/>
            <a:ext cx="7461360" cy="53640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following in a progra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simple = new sale("floor mat", 10.0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 discount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("floor mat", 11.00, 1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discount.lessThan(simple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$" + discount.bill()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&lt; " + "$" + simple.bill()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because late-binding works!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would b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$9.90 &lt; $10 because late-binding work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86D3F86-A9DB-4D0C-8998-83B99FD39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previous example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pression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return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output indicates, 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executed, it knows whic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to invo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as created and compiled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and i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id not yet ex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results are made possible by late-bi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B970259E-8065-41BA-A059-A491F1ED6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decision of which definition of a method to use is made at compile time, tha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tic 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ecision is made based on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ype of the variable naming th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static, not late, binding with privat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static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cas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, late binding would serve no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n the case of a static method invoked using a calling object, it does make a dif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4E197FFA-C428-4D5D-B1E0-3DF1A3C1D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announcement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Sale class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announcement(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DiscountSale class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FD05CDC0-5009-469F-92E4-C6ED90E53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evious example, th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)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bjects were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e following assign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mple = discou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the two variables point to the sam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variable name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290EF916-13B3-4D75-BE13-EA308C528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942840" y="2873520"/>
            <a:ext cx="7504200" cy="50796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e inv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imple.announcemen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utput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her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nnounc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tatic method invoked by a calling object (instead of its class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 the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imp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etermined by its variable name, not the object that it 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83AF0466-4AC0-4C2A-808B-DE0A4FEE5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 Late Binding for Static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other cases where a static method has a calling object in a more inconspicuous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 static method can be invoked within the definition of a nonstatic method, but without any explicit class name or calling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case, the calling object is the implicit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6D95577-AD61-4F58-8DCD-24CE255CD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k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icates that it cannot be overridden with a new definition in a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mpiler can use early binding with the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final void someMethod() 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rk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dicates that it  cannot be used as a base class from which to derive any oth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E2EBE1DD-A864-4880-963A-3D9FF0D3B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1752480" y="4390920"/>
            <a:ext cx="5867640" cy="53352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appropriat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defined for a class, then an object of that class can be output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aSale = new Sale("tire gauge", 9.95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aSal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produce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re gauge Price and total cost = $9.9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orks because of late bi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79A64362-3266-42F8-B9D2-FAE692029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hree main programming mechanisms that constitute object-oriented programming (OOP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morphism is the ability to associate many meanings to one method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this through a special mechanism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ynamic bi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37EEEDA9-65F2-477A-B184-E938E2A02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definition of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kes a single argument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println(Object the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theObject.toString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urn, It invokes the version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takes a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as defined befor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exi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et, because of late binding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used, no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841CE02D-24D5-4ACB-8106-BAECD040A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knows the Definitions of its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of a class variable determines which method names can be used with the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object named by the variable determines which definition with the same method name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al case of this rule i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of a class parameter determines which method names can be used with th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gument determines which definition of the method name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D74247EB-CFDB-443A-9EF9-1C155D3E4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asting and Down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pcas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when an object of a derived class is assigned to a variable of a base class (or any ancestor cla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saleVariable; //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 discountVariable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("paint", 15,10); //Derive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Variable = discountVariable; //Upca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saleVariable.toString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of late binding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uses the definition given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736EA6E2-1A94-4550-BE74-B6D765EC4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asting and Down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owncas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when a type cast is performed from a base class to a derived class (or from any ancestor class to any descendent cla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wncasting has to be done very carefu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many cases it doesn't make sense, or is illeg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countVariable =              //will 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DiscountSale)saleVariable;//run-time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iscountVariable = saleVariable //will 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//compiler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times, however, when downcasting is necessary, e.g., insid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for a cla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otherSale = (Sale)otherObject;//downca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C1C6C3E-61EF-4700-BAC9-8423F16B3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Downca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responsibility of the programmer to use downcasting only in situations where it makes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does not check to see if downcasting is a reasonable thing to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downcasting in a situation that does not make sense usually results in a run-time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98EC2D8-AD97-49B2-B2BA-9C533661E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hecking to See if Downcasting is Legiti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casting to a specific type is only sensible if the object being cast is an instance of that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exactly w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tes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instanceof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ill return true if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it will return true if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instance of any descendent class of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25E63DAA-44D6-419F-8AA6-AAD492E1A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irst Look at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object inherits a method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no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upposed to return a deep copy of the calling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inherited version of the method was not designed to be used as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each class is expected to override it with a more appropriate v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A14C70E1-00D9-41AB-A3FA-D1723A204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irst Look at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ading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efin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otected Object clone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ading for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that overrides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an differ somewhat from the heading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hange to a more permissive access, such as from 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always allowed when overriding a metho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ing the return type from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type of the class being cloned is allowed because every class is a descendent class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an example of a covariant return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30FDC00E-E96E-4E9E-8C2E-D673BE424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irst Look at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class has a copy constructor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for that class can use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py construc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reate the copy returned by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ale clon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eturn new Sale(thi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nother 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DiscountSale clon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return new DiscountSale(thi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FC857BB-7636-46A7-9FFD-B46C9EAE2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Sometime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Return Typ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version 5.0, Java did not allow covariant return typ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were no changes whatsoever allowed in the return type of an overridde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or all classes ha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its retur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return type of the clone method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return type of the overriding clone method of any other class w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8E5C484-9A62-49E7-8572-50E2DBFF0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Polymorph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ance allows a base class to be defined, and other classes derived from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de for the base class can then be used for its own objects, as well as objects of any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ymorphism allows changes to be made to method definitions in the derived classes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d have those changes apply to the software wri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A79096D9-3044-49B6-8303-1393761CC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Sometime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Return Typ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 to Java version 5.0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ould have looked like th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Object clone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new Sale(thi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the result must always be type cast when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ritten for an older version of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opy = (Sale)original.clon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BC8F9EE8-5579-4C49-9965-9478975C0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Sometime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Return Type i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still perfectly legal to use Object as the return type for a clone method, even with classes defined after Java version 5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n doubt, it causes no harm to include the type 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following is legal for the clone method of the Sale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opy = original.clon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dding the following type cast produces no probl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 copy = (Sale)original.clon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D507EF0F-F506-40CC-A896-7150A0130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Limitations of Copy Constru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e copy constructor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or a class appear to do the same thing, there are cases where only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given a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adco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copies an array of s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array of sales contains objects from a derived class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.e.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then the copy will be a plain sale, not a true 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[i] = new Sale(a[i]); //plain Sale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0FE66852-0E04-443C-8678-242B64095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Limitations of Copy Constru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used instead of the copy constructor, then (because of late binding) a true copy is made, even from objects of a derived class (e.g.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[i] = (a[i].clone());//DiscountSale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ason this works is because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the same name in all classes, and polymorphism works with method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py constructors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different names, and polymorphism doesn't work with methods of different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40960975-0731-4DCA-A85B-E926389C1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hapter 7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ase class and two of its derived classe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aried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re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 is added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mpares employees to to see if they have the same pa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samePay(Employee oth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(this.getPay() == other.getPay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0A7E72A7-D77D-4015-91E4-C7B1496F4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several problems with this meth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invok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mePay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 in each of the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n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, nor is there any way to define it reasonably without knowing whether the employee is hourly or salar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0195591C-88F4-4A18-B888-ABE960664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al situation would be if there were a way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pone the definition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a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 until the type of the employee were known (i.e., in the derived clas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e some kind of not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to indicate that it was accounted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prisingly, Java allows this using abstract classe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E0D7CDBF-6C5C-46FB-9323-46BB7C57C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bstract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postpone the definition of a method, Java allows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stract meth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be decl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stract method has a heading, but no method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dy of the method is defined in the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hat contains an abstract method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DD8DD4FE-D169-4A20-9F85-0D928BC3D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method is like a placeholder for a method that will be fully defined in a descend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a complete method heading, to which has been added the modifi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not be priv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no method body, and ends with a semicolon in place of its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abstract double getPay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abstract void doIt(int cou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24051992-E6E0-4B71-B7D7-762418762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that has at least one abstract method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bstract class must have 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cluded in its class hea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abstract class Employ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instanceVariabl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abstract double getPay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76556EF3-6E26-4CD8-9156-A8BE73199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of associating a method definition with a method invocation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method definition is associated with its invocation when the code is compiled, tha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arly 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method definition is associated with its invocation when the method is invoked (at run time), tha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te bin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1D76B86-8056-4BA4-BB12-EE4C0684F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tract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class can have any number of abstract and/or fully define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derived class of an abstract class adds to or does not define all of the abstract methods, then it is abstract also, and must ad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ts mod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lass that has no abstract methods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ret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CE089EE5-E29E-45DC-A7F5-1D1471A78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You Cannot Create Instances of an Abstract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class can only be used to derive more specialized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le it may be useful to discuss employees in general, in reality an employee must be a salaried worker or an hourly wor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bstract class constructor cannot be used to create an object of the abstrac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derived class constructor will include an invocation of the abstract class constructor in the form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0BED7918-7B47-4A4B-99AF-BCBEF6779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An Abstract Class Is 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an object of an abstract class cannot be created, it is perfectly fine to have a parameter of an abstract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akes it possible to plug in an object of any of its descendent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so fine to use a variable of an abstract class type, as long is it names objects of its concrete descendent classes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B52FAE33-13F6-4909-B580-C23625BF4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 Bi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late binding for all methods (except private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tatic metho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late binding, a method can be written in a base class to perform a task, even if portions of that task aren't yet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n example, the relationship between a base class call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ts derived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be exam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CD5DEBCC-36EF-4CCB-BE64-0F4CB8E73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contains two 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name of an item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ice of an item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ontains three constru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o-argument constructor that se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No name yet"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price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wo-parameter constructor that take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f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py constructor that takes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as a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69AEA273-C0F0-4C9F-B190-04E5602DA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also has a set of accessor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mutator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overridd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, and a static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has a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determines the bill for a sale, which simply returns the price of the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two method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De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ach of which compares two sale objec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comparing their bi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eturn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7D3108C8-C6FF-4BB1-B43E-3752A02B7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nherits the instance variables and methods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it has its own instance variabl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percent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and its own suitable constructor methods, accessor method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Dis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mutator method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Dis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overrid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, and static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nounc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S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has its ow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hich computes the bill as a function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s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9FFCB749-4A46-475D-ABF4-E0F68742E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scountSa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ess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ill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nvoc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lessThan (Sale otherSa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otherSale == n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Error: null object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bill( ) &lt; otherSale.bill( 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-</a:t>
            </a:r>
            <a:fld id="{B8EFF943-802C-4AC4-A32B-F92E99C8F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7:41Z</dcterms:modified>
  <cp:revision>13</cp:revision>
  <dc:subject/>
  <dc:title>Slide 1</dc:title>
</cp:coreProperties>
</file>