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C31D-1125-4AE4-B818-7AAC67542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8186-A84A-4681-9FD4-7103063DE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E720-CEF8-43CE-8A98-1C2A18631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EEED-3CFC-4064-9F91-B3F79E3B5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2CF1-EFE4-4D8D-A48A-CFC18D422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00EA-D8C7-454E-9EC4-0555FDB5B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7B2F-AA93-42EC-8E7F-72CCD1329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28A8-4D80-46DE-99E5-88F32B4DF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9EDC-B9DE-42E7-BBD7-77C8A8C86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4606-2A44-46E2-ACFC-573CFE4E8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BA23-272E-4E15-B54B-1FC17B706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6219-79D7-4274-A439-9869485AF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AFF3-12A0-4D33-B112-38D23CF92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A5E-091D-423D-8A6B-61E391E77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FEE7-E0F0-4A7A-B497-32502C80A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47B3-9203-410E-930A-10A7C44C8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DC31-6969-4294-A1AF-9766A90CD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8BD-64FA-42CF-8495-1D9D11929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1F92-C713-457E-95B7-530964A8D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2102-0A6B-4BA5-9005-B0EC544C7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F5E0-25C4-4ED5-97FC-5695047CD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D147-6F7D-4F23-A740-19F131A20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F89E-FD35-4E35-BD88-44D089AE6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A704-281B-4CBB-85BA-586505712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4C35-37BF-447B-856D-FECAB4511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0105-BCEC-4D85-8C90-B8622C185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2802-6514-455D-AC81-EBF9193EC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80EC-1F50-4B8D-A44E-91E45DA80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3650-6B72-4924-8D2B-867812B225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BF8A-B204-4F8F-A57E-603E66EC8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39A9-878F-4D3C-9D41-ABA3B756B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03C0-7B45-43CF-8273-A5F11A98C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CFF8-E578-40C2-9D1E-5E5C583794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83AC-23D5-44BE-9A88-C5D8213E8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4EF5-F683-4E3F-AE81-2CF8E7A1F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28C5-3EFA-413D-93A2-09B679CBA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24A9-50AD-4468-A4F0-C66235283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A27F-509F-43D6-BA22-EBA4C8326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0D68-04A2-43EB-AEF6-15B605473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2DB3-B78A-48B6-BC35-3771554C2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FC72-D2CE-4D73-ACEC-376D902E9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DC3F-5137-4BA3-92CF-2409D60EF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1E4F-80F6-4A39-9A50-5A414DF4F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8DB8-6DEB-457C-99C7-B2E1BBF0C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C40C-83A9-4939-B47E-9D5A62473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DF14-ECDB-4000-8270-3F7FA0248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0269-2107-4A98-9D64-E723978DA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4184-4B20-4B2C-9630-EC6C55122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236A-77C5-4BB9-9778-CDC7779718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B16C-F8DF-4AD2-8633-5C5FA6F35C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C006-224B-47B4-8402-312BC3517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93F1-4D89-4246-BE87-5BAB6C119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7510-DB93-4C1C-B03D-F69CFBD94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9AE8-1DDF-4667-AF3A-E283845B9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FB22-EECF-46AE-9273-96EE8EF50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C04-BF3E-4D63-9011-1257EF82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51C-D395-46CC-88A4-147E8E4C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A854B-4B51-40DA-8EDF-19E6F9C6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D9356-4804-4D41-8CCD-D86DA56A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F5776-04A8-429B-96AF-F4ED5228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88BE9-F5C1-4C59-8011-061653FA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0426A-DA8F-4B2E-AC7F-8250137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4FC41-A60F-4417-82EF-A63C2614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BF19C-310E-4496-9B5E-F733C6BC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9DEA9-9A03-4A04-B090-85406501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96C67-F3FB-4DDC-AB02-2A955E7E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F947A-E677-44E5-96F8-0DA8590A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A3C-6675-48BC-953D-E5C3AB75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DD86F-4EF0-4FD6-8CC7-E9DBC210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30ED0-107B-4D75-A5CF-ECEC7377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AC260-8637-4FB0-B7BB-BD38871B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46296-1049-43E8-A26F-DE37A4AB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027C7-E837-410E-BD60-72F8AECC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D1175-7303-4F39-80A2-FC2A14D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79614-3416-4410-AE93-253080D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0757A-CE5A-429D-8D7D-A602AC67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459F2-6F30-44D7-9651-E45FF465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36722-A32A-41E9-B1A4-EB72914F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26A-0A4A-4948-94C1-9BF739CF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153C0-24C0-491C-BF9E-C5416444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00F07-05A7-44CC-A122-AA940336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EBB04-48A3-44BF-A56E-455B756F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943BF-7320-4DC9-8D04-EB0B878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48436-B6EC-432F-9493-3FA243E5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98178-84B3-428F-91EF-DF0FF922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34FE7-31CA-4F71-93C9-AD6BB7AA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96546-5978-41F4-AF25-3A2192B5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C7E57-5580-477F-97E9-C4E776BA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F8BCF-F47B-4016-8DC9-AC3D2DEB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E9ED-6A37-4E99-940A-52AA14A7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CB5F9-8BDA-427C-95E9-B08C863B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2B4E6-15C4-4865-80BC-278B14D5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A0FA3-F652-4C73-B062-35F13CF4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499AD-92DD-456F-8AF7-115B415F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B895A-CF20-489B-B734-F13AF547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2DECD-40C9-4657-BDDE-7F79D54B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AA909-03E0-4784-BBC6-242AA0F9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D00CF-0F89-4C95-A96C-36A93C26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DF0D8-E384-4528-90DB-033A7ED5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63DA2-15A8-45EA-98B5-2E204C0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30D2-422E-4F24-B6BB-BF0FA577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4B2D6-DAE5-49A6-8FF1-84E50D80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2E056-E64E-4698-887B-FF94F851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EBE41-DB89-40DA-8C31-215806E5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F8C24-5040-42F9-99F9-40A4F916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5C91D-2806-490F-8E32-52221930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E3BB-DF23-40B0-A03C-7B2A7ED2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4A2E-27C8-4E84-B215-7088E6FF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CF9B-0081-476D-9A8E-B67FDEC5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20E3-E76E-4873-8955-9715E85A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3FEC-BF06-419C-B932-4F2BAF3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8EA-6FCE-4795-99D1-49B217AF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DEF2-507D-4DD4-AF6A-4328CB3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6061-487E-4126-A74F-0BAB610C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CFEE-CC4F-4C1C-A0D2-40F651C7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6A85-ED4E-4D8F-BBDD-115590CC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FEB1-BE7E-40F5-81F1-CF8D40AB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78163-38D8-47EC-B945-FB0345D1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9845B-3BCC-4AAC-B699-B7AD4C0B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04BDA-6A6B-41FB-BEFC-9854534B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8DD43-87A5-4DDF-B7A9-7058FE61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E9FA8-8C1B-448E-8A24-F233F875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152-59E4-42A2-9217-18B37F58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7A797-E45F-4349-B734-FECBF27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1AEDA-FA15-402E-9503-BC0E038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C2A74-0FAB-4544-AE2A-98D0F4CD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052EC-0C4A-4643-A3A2-4901A51F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A0597-7846-4275-9E3E-05A7BB3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31FA9-CEF0-41D4-9E25-F90AE53E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91604-2253-40C6-BAD0-77F07B57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F0BF-A32F-4693-8D81-FABA2485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BBDD4-4623-44AA-A02A-BABF076C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062F-A186-472B-9B46-233C6CC0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E40-6434-4655-AB0A-DB805292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4CA6-3E29-4F50-B16B-EED9AAA5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8D16-E2CB-4916-8F84-C2FE92A1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9E4A-1016-4294-A3B4-20F1A15F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4312-26F2-4508-8326-9F3EDC60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2E7A6-162D-43F9-805E-FC4232B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4250-DAEB-4E1E-BDB4-4E274AFD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A73D-5809-4698-ABC6-20FA51F9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1E11-3F69-4114-9C71-03589C5B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23AB-ED85-43D1-A144-5BD74F1A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66C0F-B55C-427D-A0F3-E87DB0B6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06C-7DC1-406F-8F22-B270707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C34C2-5A59-44DE-8F10-4D6004C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F1B3F-C5F2-4F54-8139-239CC58C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DCCB8-ADF6-4DF8-BEEB-7C29A4B7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FE4CD-E19D-4880-AFD7-7D1133DB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52CF7-A5F2-4B22-AE6F-8DDFFB1A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229B3-2E62-4B1D-B004-4485A142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1E145-ED45-4BF7-B271-A90EC72B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B7080-31A1-4CB1-AB2E-499F1387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C6DF2-B776-4277-98D3-5DB64759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0386-3AE2-4D8A-9ACA-56F6A387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9CAD-5471-4C82-8DA5-5AA32308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0DFAB-CCD0-40FE-AABF-8372C866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87C1F-B5A1-4C9D-AFA3-1946B20C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B7770-A8CB-4F62-929E-C7EFE96E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E30FF-A5DA-49F8-A241-F39A7B7C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64F33-69EC-44A7-8B88-731ABA5B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497D3-3BC3-4FC4-A4E5-D2ACA0E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12EA6-63E8-4F6D-A647-BECF0E3A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C4B9E-5D4E-4752-84C7-0A6BD0C5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2FDE8-66B8-41E4-9DF6-E7A41E11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741E5-965F-405F-8A1D-EE4B8C94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F62-DE4D-4548-9954-A9D901F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DA216-9899-4078-BD7B-F57C0656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14A04-C9BA-487B-A02B-047663BD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6A533-BF30-4A8C-A86D-93D7E50F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2874E-D99A-4378-B800-CF7999B2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C203C-7BB5-40D9-9790-C636811B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D537C-1B27-45FB-9ADD-A4438038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2417A-73AE-40AD-884C-8761847A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2B16F-D9E3-43C3-99DA-442C6658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582A-0433-4DDF-B8A8-64724B49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AF910-ED24-4985-BF05-6B4E254F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6BE7-D79F-47A5-96B4-B354A5EB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CBEC-2ADF-4BCB-AD94-C66CA281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D09BD-6E0A-4A95-AE59-D65A1918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3E670-893D-434A-99A1-65AA2235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13A6B-26BC-4862-AD95-C2F88164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EBC72-AD56-4649-A924-416DA560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F3CB0-8624-4B2B-A0A7-D79A973B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B1642-20AE-45B2-A3E3-5047044C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34D9B-6072-4255-A82E-3E9F2EC1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55723-BB06-4BDB-AD1F-CD4B209E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22817-AA8F-4C3C-BCC2-F3BBDF3A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564-22EC-4409-B464-08CADF86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154BB-6348-48E6-9ECA-152FF3A4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9DE83-7F14-4E56-8C45-03CE43F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59AAB-9C81-4B33-BA15-0B35C528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92850-811D-46EB-8A0F-0370FAAA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17025-B7A7-4940-807E-6DDC0738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C66D8-9231-4766-904C-4CF5F8FA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414C7-F089-45BE-BEB3-0C61C2DD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273B3-5429-4469-A013-BE68C10F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D0C4C-7CF3-42B7-8FB6-F6E1D226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F4CAA-DF0F-48E1-9174-43CF6A23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5852-DF0A-4278-993C-126B9ACBB78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37A8B78-1555-4F84-B774-4AE925C85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804F-AD54-4793-875B-A9DE9498B7E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74DFA385-EEF5-4A8D-92EE-5144C1CC9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A5D6-F92A-40C7-90D2-7C637808ED9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CD3AB469-3B4D-491E-8386-62CF1895B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51D8-2242-4E55-8F99-74EEE3EF0EF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10FEC6BC-106D-4A1C-BEFA-3EB4228814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A3E4-C019-4152-9B76-FE5E2554713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2E74DBA0-1407-4AB7-989A-5C055218A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2A3C-1759-4746-A006-4C516AF6DC3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70823848-C7CE-4A04-B1B7-AB0BFA0CE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87FF-16BF-4A20-ABF4-5518C5FD4E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58532C2F-0385-4212-AC98-AD0E5D039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201D-8407-4041-9D4F-9CAFE2595BA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0E347EEE-0C65-465D-AE42-DE67EAAA2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2849-7482-4209-B0F3-13C68B647D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45A43DE9-22F7-4AB8-9EB5-D9414950E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DCF2-ADBB-4BFE-8460-1BCA00964EE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A972B96D-89E9-4F23-BB69-AB3C115ED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FE9D-6418-4169-BEA2-D7A65365F8C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9CC63628-81C0-4E78-BCE9-212AB00903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9937-DF1B-429A-9B50-D00FBF6ACDB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3-</a:t>
            </a:r>
            <a:fld id="{06CE746D-2AF2-4730-BDAB-EA05F15C8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erfaces and Inn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bstract Class Implementing an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Picture 4" descr="D13_3"/>
          <p:cNvPicPr/>
          <p:nvPr/>
        </p:nvPicPr>
        <p:blipFill>
          <a:blip r:embed="rId1"/>
          <a:stretch/>
        </p:blipFill>
        <p:spPr>
          <a:xfrm>
            <a:off x="942840" y="1181160"/>
            <a:ext cx="7515360" cy="5295960"/>
          </a:xfrm>
          <a:prstGeom prst="rect">
            <a:avLst/>
          </a:prstGeom>
          <a:ln w="0">
            <a:noFill/>
          </a:ln>
        </p:spPr>
      </p:pic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117CE1EB-D5E8-43F8-BB35-5B392E8E3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ed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classes, an interface may be derived from a base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xte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rived interface must include the phr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xtends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BaseInterface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ncrete class that implements a derived interface must have definitions for any methods in the derived interface as well as any methods in the base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48318E44-434E-4F3D-B587-B128183BE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ding an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5" descr="D13_4"/>
          <p:cNvPicPr/>
          <p:nvPr/>
        </p:nvPicPr>
        <p:blipFill>
          <a:blip r:embed="rId1"/>
          <a:stretch/>
        </p:blipFill>
        <p:spPr>
          <a:xfrm>
            <a:off x="971640" y="1638360"/>
            <a:ext cx="7486560" cy="3581280"/>
          </a:xfrm>
          <a:prstGeom prst="rect">
            <a:avLst/>
          </a:prstGeom>
          <a:ln w="0">
            <a:noFill/>
          </a:ln>
        </p:spPr>
      </p:pic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7C927620-DE48-446B-B2D5-642D01439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tfall:  Interface Semantics Are Not Enfor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class implements an interface, the compiler and run-time system check the syntax of the interface and its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neither checks that the body of an interface is consistent with its intended mea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d semantics for an interface are normally added to the documentation for an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then becomes the responsibility of each programmer implementing the interface to follow the seman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method body does not satisfy the specified semantics, then software written for classes that implement the interface may not work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F5290F30-2E0E-4FBC-A1D2-3CF3A1D03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pter 6 discussed the Selection Sort algorithm, and examined a method for sorting a partially filled array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o increasing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de could be modified to sort into decreasing order, or to sort integers or strings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of these methods would be essentially the same, but making each modification would be a nuis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nly difference would be the types of values being sorted, and the definition of the ord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 could provide a single sorting method that covers all these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F438DBE4-7DC4-42B2-8A92-A756DF44F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rface is 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ckage, and so is automatically available to  any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only the following method heading that must be implemen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 int compareTo(Object other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the programmer's responsibility to follow the semantics of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erface when implement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C7F2EA11-9B35-47DD-A56E-5D877D7C6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Sem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ust 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egative number if the calling object "comes before" the parameter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zero if the calling object "equals" the parameter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ositive number if the calling object "comes after" the parameter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of the same type as the class being defined, then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assCastExce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uld be thr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6783BB57-A50B-42B4-8138-667544242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Sem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any reasonable notion of "comes before" is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all of the standard less-than relations on numbers and lexicographic ordering on strings are sui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"comes after" is just the reverse of "comes befor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8AAB177C-283C-4425-9968-4FB4CAF7D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Seman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orderings may be considered, as long as they are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otal ord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n ordering must satisfy the following ru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rreflex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For no objec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oe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richotom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For any two object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nd only one of the following holds true: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af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qual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ransi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I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mes befor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"equals" of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semantics should coincide with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if possible, but this is not absolutely requ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3D052C0C-1538-4574-8AFD-8B5318EAD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example reworks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lectionS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 from Chapter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w version,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GeneralizedSelectionS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des a method that can sort any partially filled arra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se base type implements th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ontains appropriat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dexOfSmall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erchan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s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Both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lasses implement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faces apply to classe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imitive type (e.g.,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cannot implement an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9A00182F-180E-4124-BF3B-8317508AD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omething like an extreme case of an abstract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ever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n interface is not a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t is a type that can be satisfied by any class that implements the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ntax for defining an interface is similar to that of defining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ept the wor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used in place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terface specifies a set of methods that any class that implements the interface must h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ontains method headings and constant definitions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contains no instance variables nor any complete method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5E82F50F-F21A-4960-AD90-6E1D7F595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neralized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5" descr="D13_5_1a"/>
          <p:cNvPicPr/>
          <p:nvPr/>
        </p:nvPicPr>
        <p:blipFill>
          <a:blip r:embed="rId1"/>
          <a:stretch/>
        </p:blipFill>
        <p:spPr>
          <a:xfrm>
            <a:off x="990720" y="1266840"/>
            <a:ext cx="7543800" cy="4829040"/>
          </a:xfrm>
          <a:prstGeom prst="rect">
            <a:avLst/>
          </a:prstGeom>
          <a:ln w="0">
            <a:noFill/>
          </a:ln>
        </p:spPr>
      </p:pic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2683F49D-8F7A-4103-8078-C5850078C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neralized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5" descr="D13_5_1b"/>
          <p:cNvPicPr/>
          <p:nvPr/>
        </p:nvPicPr>
        <p:blipFill>
          <a:blip r:embed="rId1"/>
          <a:stretch/>
        </p:blipFill>
        <p:spPr>
          <a:xfrm>
            <a:off x="914400" y="1228680"/>
            <a:ext cx="7543800" cy="4714920"/>
          </a:xfrm>
          <a:prstGeom prst="rect">
            <a:avLst/>
          </a:prstGeom>
          <a:ln w="0">
            <a:noFill/>
          </a:ln>
        </p:spPr>
      </p:pic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9A766613-3DED-460C-A155-6809F70BA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eneralizedSelectionS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lass: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erch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4" descr="D13_5_2"/>
          <p:cNvPicPr/>
          <p:nvPr/>
        </p:nvPicPr>
        <p:blipFill>
          <a:blip r:embed="rId1"/>
          <a:stretch/>
        </p:blipFill>
        <p:spPr>
          <a:xfrm>
            <a:off x="961920" y="1752480"/>
            <a:ext cx="7496280" cy="3533760"/>
          </a:xfrm>
          <a:prstGeom prst="rect">
            <a:avLst/>
          </a:prstGeom>
          <a:ln w="0">
            <a:noFill/>
          </a:ln>
        </p:spPr>
      </p:pic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7E74C9A5-CF4D-488F-ACB2-5C4B60655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ting Arrays of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2" name="Picture 5" descr="D13_6a"/>
          <p:cNvPicPr/>
          <p:nvPr/>
        </p:nvPicPr>
        <p:blipFill>
          <a:blip r:embed="rId1"/>
          <a:stretch/>
        </p:blipFill>
        <p:spPr>
          <a:xfrm>
            <a:off x="990720" y="762120"/>
            <a:ext cx="7102440" cy="5668920"/>
          </a:xfrm>
          <a:prstGeom prst="rect">
            <a:avLst/>
          </a:prstGeom>
          <a:ln w="0">
            <a:noFill/>
          </a:ln>
        </p:spPr>
      </p:pic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E2EA074A-CCAE-42EA-AD23-9E0DE2B68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ting Arrays of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5" descr="D13_6ba"/>
          <p:cNvPicPr/>
          <p:nvPr/>
        </p:nvPicPr>
        <p:blipFill>
          <a:blip r:embed="rId1"/>
          <a:stretch/>
        </p:blipFill>
        <p:spPr>
          <a:xfrm>
            <a:off x="905040" y="1295280"/>
            <a:ext cx="7553160" cy="3248280"/>
          </a:xfrm>
          <a:prstGeom prst="rect">
            <a:avLst/>
          </a:prstGeom>
          <a:ln w="0">
            <a:noFill/>
          </a:ln>
        </p:spPr>
      </p:pic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41E4AC2-152F-48CE-AEDF-6D2CBFB2B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ting Arrays of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5" descr="D13_6bb"/>
          <p:cNvPicPr/>
          <p:nvPr/>
        </p:nvPicPr>
        <p:blipFill>
          <a:blip r:embed="rId1"/>
          <a:stretch/>
        </p:blipFill>
        <p:spPr>
          <a:xfrm>
            <a:off x="981000" y="1219320"/>
            <a:ext cx="7477200" cy="4181400"/>
          </a:xfrm>
          <a:prstGeom prst="rect">
            <a:avLst/>
          </a:prstGeom>
          <a:ln w="0">
            <a:noFill/>
          </a:ln>
        </p:spPr>
      </p:pic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230D3A6C-8AF8-4396-A472-A022FBFC9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ed Constants in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terface can contain defined constants in addition to or instead of method hea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variables defined in an interface must be public, static, and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this is understood, Java allows these modifiers to be omit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class that implements the interface has access to these defin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5897302A-61B6-4B68-9369-6C8D97932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Inconsistent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Java, a class can have only one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revents any inconsistencies arising from different definitions having the same method hea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ddition, a class may implement any number of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interfaces do not have method bodies, the above problem cannot a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there are other types of inconsistencies that can a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CFF4497A-C950-4A91-994E-95BA6C568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Inconsistent 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class implements two interfa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type of inconsistency will occur if the interfaces have constants with the same name, but with different val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type of inconsistency will occur if the interfaces contain methods with the same name but different return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class definition implements two inconsistent interfaces, then that is an error, and the class definition is il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5F348771-F656-419D-99DD-6C848A6A3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rializ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treme but commonly used example of an interface is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has no method headings and no defined constants: It is completely emp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used merely as a type tag that indicates to the system that it may implement file I/O in a particular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48BBA8CB-F327-4C27-A0D4-CC6A22F83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terface serves a function similar to a base class, though it is not a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languages allow one class to be derived from two or more different base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ultiple inherit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allowed in J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ead, Java's way of approximating multiple inheritance is through 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462399DD-4415-4971-A065-44EF0D80F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lone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is another unusual example of a Java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ntain method headings or defin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used to indicate how 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nherited from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) should be used and re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FE0F646-26B4-4820-84D9-DA7E253B0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.clone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a bit-by-bit copy of the object's data in sto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data is all primitive type data or data of immutable class types (such a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then this is adequ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the simp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ollowing is an example of a simple class that has no instance variables of a mutable class type, and no specified bas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the base class i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1C33596-CC7B-4F5B-AE3B-6C9D18F19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th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lon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6" descr="D13_7"/>
          <p:cNvPicPr/>
          <p:nvPr/>
        </p:nvPicPr>
        <p:blipFill>
          <a:blip r:embed="rId1"/>
          <a:stretch/>
        </p:blipFill>
        <p:spPr>
          <a:xfrm>
            <a:off x="942840" y="1314360"/>
            <a:ext cx="7515360" cy="5086440"/>
          </a:xfrm>
          <a:prstGeom prst="rect">
            <a:avLst/>
          </a:prstGeom>
          <a:ln w="0">
            <a:noFill/>
          </a:ln>
        </p:spPr>
      </p:pic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1D4F4A20-9B71-4D04-9654-846D274BC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data in the object to be cloned includes instance variables whose type is a mutable class, then the simple implementa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cause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vacy l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mplementing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lone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erface for a class like th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invoke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l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of the base class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or whatever the base class 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reset the values of any new instance variables whose types are mutable class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done by making copies of the instance variables by invoking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lone meth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65D016F0-31E0-411E-9F16-534C1CD33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that this will work properly only if th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Clone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erface is implemented properly for the classes to which the instance variables bel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for the classes to which any of the instance variables of the above classes belong, and so on and so f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llowing shows an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09B3385D-F7A7-4D3A-BAE8-947C45C2E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mplementation of the Method </a:t>
            </a:r>
            <a:r>
              <a:rPr b="1" lang="en-US" sz="2900" spc="-1" strike="noStrike">
                <a:solidFill>
                  <a:srgbClr val="000000"/>
                </a:solidFill>
                <a:latin typeface="Courier New"/>
              </a:rPr>
              <a:t>clone: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Harder Cas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20" descr="savitch_c13d08"/>
          <p:cNvPicPr/>
          <p:nvPr/>
        </p:nvPicPr>
        <p:blipFill>
          <a:blip r:embed="rId1"/>
          <a:srcRect l="0" t="0" r="0" b="15903"/>
          <a:stretch/>
        </p:blipFill>
        <p:spPr>
          <a:xfrm>
            <a:off x="825480" y="1143000"/>
            <a:ext cx="6657840" cy="49021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9" descr="savitch_c13d08"/>
          <p:cNvPicPr/>
          <p:nvPr/>
        </p:nvPicPr>
        <p:blipFill>
          <a:blip r:embed="rId2"/>
          <a:srcRect l="9447" t="86764" r="37175" b="2410"/>
          <a:stretch/>
        </p:blipFill>
        <p:spPr>
          <a:xfrm>
            <a:off x="1565280" y="5791320"/>
            <a:ext cx="3794040" cy="631800"/>
          </a:xfrm>
          <a:prstGeom prst="rect">
            <a:avLst/>
          </a:prstGeom>
          <a:ln w="0">
            <a:noFill/>
          </a:ln>
        </p:spPr>
      </p:pic>
      <p:sp>
        <p:nvSpPr>
          <p:cNvPr id="6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389E4421-E94F-4F8B-800E-683CCA518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ooter Placeholder 7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Uses of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er classes are classes defined within oth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that includes the inner class is called the ou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no particular location where the  definition of the inner class (or classes) must be place within the ou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ing it first or last, however, will guarantee that it is easy to f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0F791DEA-627C-43D4-9E63-5D43CD7D2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Uses of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ner class definition is a member of the outer class in the same way that the instance variables and methods of the outer class ar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ner class is local to the outer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 of an inner class may be reused for something else outside the outer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inner class is private, then the inner class cannot be accessed by name outside the definition of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E3C66DFE-3180-4CA8-83B8-951F8086E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Uses of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main advantages to inne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an make the outer class more self-contained since they are defined inside a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h of their methods have access to each other's private methods and instance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n inner class as a helping class is one of the most useful applications of inne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used as a helping class, an inner class should be marked priv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FD89ACBF-3364-4C6E-869C-2EB1A07DA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Inner and Outer Classes Have Access to Each Other's Privat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definition of a method of an inner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legal to reference a private instance variable of the oute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legal to invoke a private method of the oute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definition of a method of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legal to reference a private instance variable of the inner class on an object of the inner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legal to invoke a (nonstatic) method of the inner class as long as an object of the inner class is used as a calling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definition of the inner or outer classes, the modifier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equival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FB0885E7-083B-49BD-9DAB-08300D4DC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interface and all of its method headings should be declared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not be given private, protected, or package a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class implements an interface, it must make all the methods in the interface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cause an interface is a type, a method may be written with a parameter of an interface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parameter will accept as an argument any class that implements the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8E438052-706C-4527-8DF2-E8DE4B8F8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with an Inner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5" descr="D13_9_1a"/>
          <p:cNvPicPr/>
          <p:nvPr/>
        </p:nvPicPr>
        <p:blipFill>
          <a:blip r:embed="rId1"/>
          <a:stretch/>
        </p:blipFill>
        <p:spPr>
          <a:xfrm>
            <a:off x="1017720" y="800280"/>
            <a:ext cx="7211880" cy="5448240"/>
          </a:xfrm>
          <a:prstGeom prst="rect">
            <a:avLst/>
          </a:prstGeom>
          <a:ln w="0">
            <a:noFill/>
          </a:ln>
        </p:spPr>
      </p:pic>
      <p:sp>
        <p:nvSpPr>
          <p:cNvPr id="6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1516BDA9-8DA1-42C8-BB00-E3A20CC6E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with an Inner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4" descr="D13_9_1b"/>
          <p:cNvPicPr/>
          <p:nvPr/>
        </p:nvPicPr>
        <p:blipFill>
          <a:blip r:embed="rId1"/>
          <a:stretch/>
        </p:blipFill>
        <p:spPr>
          <a:xfrm>
            <a:off x="952560" y="1171440"/>
            <a:ext cx="7505640" cy="4619880"/>
          </a:xfrm>
          <a:prstGeom prst="rect">
            <a:avLst/>
          </a:prstGeom>
          <a:ln w="0">
            <a:noFill/>
          </a:ln>
        </p:spPr>
      </p:pic>
      <p:sp>
        <p:nvSpPr>
          <p:cNvPr id="6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93B029A-77D6-42DC-86AB-8F0539615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with an Inner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4" descr="D13_9_2"/>
          <p:cNvPicPr/>
          <p:nvPr/>
        </p:nvPicPr>
        <p:blipFill>
          <a:blip r:embed="rId1"/>
          <a:stretch/>
        </p:blipFill>
        <p:spPr>
          <a:xfrm>
            <a:off x="990720" y="838080"/>
            <a:ext cx="7134120" cy="5615280"/>
          </a:xfrm>
          <a:prstGeom prst="rect">
            <a:avLst/>
          </a:prstGeom>
          <a:ln w="0">
            <a:noFill/>
          </a:ln>
        </p:spPr>
      </p:pic>
      <p:sp>
        <p:nvSpPr>
          <p:cNvPr id="6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A8E962E-45B6-4AE1-8590-B43435E9C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.clas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ile for an Inner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ing any class in Java produces a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.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le named </a:t>
            </a:r>
            <a:r>
              <a:rPr b="1" i="1" lang="en-US" sz="2800" spc="-1" strike="noStrike">
                <a:solidFill>
                  <a:srgbClr val="034ca1"/>
                </a:solidFill>
                <a:latin typeface="Courier New"/>
              </a:rPr>
              <a:t>ClassName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.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ing a class with one (or more) inner classes causes both (or more) classes to be compiled, and produces two (or more) .class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lassName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clas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ClassName$InnerClassName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764B3FB4-5975-4815-A9AC-5D4FA08EC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c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ormal inner class has a connection between its objects and the outer class object that created the inner class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allows an inner class definition to reference an instance variable, or invoke a method of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certain situations, however, when an inner class must be st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object of the inner class is created within a static method of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inner class must have static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4670928A-FDB1-4CED-8633-42DE3C461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c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a static inner class has no connection to an object of the outer class, within an inner class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nce variables of the outer class cannot be refere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static methods of the outer class cannot be inv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voke a static method or to name a static variable of a static inner class within the outer class, preface each with the name of the inner class and a d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3BDC6C8A-3D6C-40B8-AF79-EF370FCC4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inner class is marke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n it can be used outside of the ou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a nonstatic inner class, it must be created using an object of the out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ankAccount account = new BankAccount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ankAccount.Money amount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account.new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Money("41.99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prefix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accoun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come before </a:t>
            </a:r>
            <a:r>
              <a:rPr b="1" i="1" lang="en-US" sz="2400" spc="-1" strike="noStrike">
                <a:solidFill>
                  <a:srgbClr val="034ca1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ew objec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now invoke methods from the inner class, but only from the inn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4554A466-DEBF-49EC-B273-692824A8C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ase of a static inner class, the procedure is similar to, but simpler than, that for nonstatic inner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uterClass.InnerClass innerObject =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 OuterClass.InnerClass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all of the following are accep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nerObject.nonstatic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nnerObject.static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OuterClass.InnerClass.staticMethod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582349A6-38C0-490D-913D-26E34A54B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:  Referring to a Method of the Outer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method is invoked in an inner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inner class has no such method, then it is assumed to be an invocation of the method of that name in the out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both the inner and outer class have a method with the same name, then it is assumed to be an invocation of the method in the inn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both the inner and outer class have a method with the same name, and the intent is to invoke the method in the outer class, then the following invocation must be us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OuterClass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.this.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methodName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5F533C67-E684-4671-98B7-51B20B715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ting Inner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legal to nest inner classes within inner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ules are the same as before, but the names get l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has public inner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ich has public inner clas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the following is vali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 aObject = new A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.B bObject = aObject.new B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A.B.C cObject = bObject.new C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25543337-F129-453B-8459-49998EAA6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Order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Picture 4" descr="D13_1"/>
          <p:cNvPicPr/>
          <p:nvPr/>
        </p:nvPicPr>
        <p:blipFill>
          <a:blip r:embed="rId1"/>
          <a:stretch/>
        </p:blipFill>
        <p:spPr>
          <a:xfrm>
            <a:off x="923760" y="1428840"/>
            <a:ext cx="7763040" cy="3317760"/>
          </a:xfrm>
          <a:prstGeom prst="rect">
            <a:avLst/>
          </a:prstGeom>
          <a:ln w="0">
            <a:noFill/>
          </a:ln>
        </p:spPr>
      </p:pic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E5062410-27AE-49D9-A92A-D6F822C29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ner Classes and Inheri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uterCla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has 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ner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erived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Outer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ll automatically hav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ner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s an inner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is case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erived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not override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ner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uter class can be a derived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ner class can be a derived class al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8E29A2A-E15F-46EB-8012-F5EFF7921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n object is to be created, but there is no need to name the object's class, then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onymous cl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finition can b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lass definition is embedded inside the expression with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nymous classes are sometimes used when they are to be assigned to a variable of another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ther type must be such that an object of the anonymous class is also an object of the other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ther type is usually a Java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CF7E8CE3-BF22-4B0A-B2CE-3F537D27A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9" name="Picture 4" descr="D13_11a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286160"/>
          </a:xfrm>
          <a:prstGeom prst="rect">
            <a:avLst/>
          </a:prstGeom>
          <a:ln w="0">
            <a:noFill/>
          </a:ln>
        </p:spPr>
      </p:pic>
      <p:sp>
        <p:nvSpPr>
          <p:cNvPr id="7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576A3AA7-1BD1-402B-A9FB-662B1E1EC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Picture 4" descr="D13_11b"/>
          <p:cNvPicPr/>
          <p:nvPr/>
        </p:nvPicPr>
        <p:blipFill>
          <a:blip r:embed="rId1"/>
          <a:stretch/>
        </p:blipFill>
        <p:spPr>
          <a:xfrm>
            <a:off x="914400" y="776160"/>
            <a:ext cx="6676920" cy="5700960"/>
          </a:xfrm>
          <a:prstGeom prst="rect">
            <a:avLst/>
          </a:prstGeom>
          <a:ln w="0">
            <a:noFill/>
          </a:ln>
        </p:spPr>
      </p:pic>
      <p:sp>
        <p:nvSpPr>
          <p:cNvPr id="7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63CA6EC5-D6B7-453A-9AD8-ACF3212F4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ous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4" descr="D13_11c"/>
          <p:cNvPicPr/>
          <p:nvPr/>
        </p:nvPicPr>
        <p:blipFill>
          <a:blip r:embed="rId1"/>
          <a:stretch/>
        </p:blipFill>
        <p:spPr>
          <a:xfrm>
            <a:off x="914400" y="1600200"/>
            <a:ext cx="7539120" cy="3422520"/>
          </a:xfrm>
          <a:prstGeom prst="rect">
            <a:avLst/>
          </a:prstGeom>
          <a:ln w="0">
            <a:noFill/>
          </a:ln>
        </p:spPr>
      </p:pic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1230F49E-8092-44D1-9B24-D7E43E13E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mplement an interf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 concrete class must do two thing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must include the ph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mplements </a:t>
            </a:r>
            <a:r>
              <a:rPr b="1" i="1" lang="en-US" sz="2000" spc="-1" strike="noStrike">
                <a:solidFill>
                  <a:srgbClr val="034ca1"/>
                </a:solidFill>
                <a:latin typeface="Courier New"/>
              </a:rPr>
              <a:t>Interface_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e start of the class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more than one interface is implemented, each is listed, separated by comm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ass must implemen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method headings listed in the definition(s) of the interface(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e use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 parameter type in the following examp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D54E45D6-E156-40BB-B4A1-25AE4A6E4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of an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4" descr="D13_2a"/>
          <p:cNvPicPr/>
          <p:nvPr/>
        </p:nvPicPr>
        <p:blipFill>
          <a:blip r:embed="rId1"/>
          <a:stretch/>
        </p:blipFill>
        <p:spPr>
          <a:xfrm>
            <a:off x="923760" y="1295280"/>
            <a:ext cx="7763040" cy="3916440"/>
          </a:xfrm>
          <a:prstGeom prst="rect">
            <a:avLst/>
          </a:prstGeom>
          <a:ln w="0">
            <a:noFill/>
          </a:ln>
        </p:spPr>
      </p:pic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04CF73D6-3329-406C-BC81-327D93D86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 of an Interf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4" descr="D13_2b"/>
          <p:cNvPicPr/>
          <p:nvPr/>
        </p:nvPicPr>
        <p:blipFill>
          <a:blip r:embed="rId1"/>
          <a:stretch/>
        </p:blipFill>
        <p:spPr>
          <a:xfrm>
            <a:off x="971640" y="1295280"/>
            <a:ext cx="7791480" cy="3807000"/>
          </a:xfrm>
          <a:prstGeom prst="rect">
            <a:avLst/>
          </a:prstGeom>
          <a:ln w="0">
            <a:noFill/>
          </a:ln>
        </p:spPr>
      </p:pic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CDEB1AAA-44B2-43BF-991C-0B9670C90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tract Classes Implementing Inte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tract classes may implement one or more inte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method headings given in the interface that are not given definitions are made into abstract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ncrete class must give definitions for all the method headings given in the abstract clas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d the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3-</a:t>
            </a:r>
            <a:fld id="{5F64CF22-CBD7-4523-BBEE-51E57B117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9:23Z</dcterms:modified>
  <cp:revision>13</cp:revision>
  <dc:subject/>
  <dc:title>Slide 1</dc:title>
</cp:coreProperties>
</file>