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184F-DD0E-497A-B33D-4F5FD737A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C696-F099-486D-94B6-D3AF1D09F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CBCD-8BBA-404E-9D73-518272C9A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295D-55A7-4972-8CC3-48098A186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6867-9F9C-4CBB-9483-A4B8FD548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A431-FB50-4C83-9898-AB0D79A82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2EBF-7671-406E-84B1-7C220E218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30E5-8531-4CC3-83F4-64410979A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46A7-2FC3-4EDE-86DC-93D22F47B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2677-B44F-41F1-86ED-DC51006AA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DFB3-66F6-4DCF-95F3-AE62A33EE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1868-5AAC-45BA-9524-9188BEEE3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6E11-3A9B-4CE1-93A7-73127346A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0659-EFFC-4B79-A5A2-75B6CE150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C058-9DAA-4464-B116-E6B6A200A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016E-8E06-46F0-AD6D-1F514A012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AA0C-64A3-4047-A172-D90644EFC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059C-52AB-4F89-B37D-8D2D7B5B3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3B48-3B70-472B-8FD3-844305EEE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CBB1-0295-4DA6-BEB3-596618157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DFAB-EE5E-4DFD-A6F1-791EDBCD4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68B8-E15D-40A9-9505-30F95F7D1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359E-3C83-4B15-A302-8BF5406EE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7E77-C25F-4491-B6D5-F33687D52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29AE-5F86-4CBF-8955-EEC9ADF8A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975A-C8A9-4ECD-89AA-62E55AECD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C494-E865-4FDD-9CDB-E33F08E3B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6AA3-B0D0-4295-9AC9-22BDDF300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897A-388B-49F5-A2BA-D3AA17E81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05DC-D745-44F4-88E9-2D9FC7599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F987-92D8-4B7D-AB12-94B5F7A05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2B51-459C-4B7D-94CA-F134CF89C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89DF-443E-4079-9BA1-5F82FA8E2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5B5C-EDB7-43BC-B452-09CEEA006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A0CE-FA95-4361-AE03-EB85D367F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AD94-1317-4F39-826D-B43FFAD72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063B-9591-4367-9856-1E959C053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06D1-F7E3-4F2A-AF9E-9FCCABD37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0B1E-FB85-44E3-BD03-3D105F65C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2042-0285-479A-B18F-DBC5C31A8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6305-6F2F-4753-B0B9-FC255CE62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6B09-8C8B-4457-B003-E2BF58227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0142-EB38-48DC-99ED-A036C8560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285E-1475-408C-948B-B88061AF3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B7CF-E3ED-428F-9055-9DF62945C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269E-F832-4855-B085-41E84155D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330B-D41D-46ED-B3BD-5713D247F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343B-BABB-48E5-BC22-464D42592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B043-3075-4E08-BCFB-2F3113109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CC61-D5CB-4A75-BC18-641431907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D217-18D6-4264-9068-6A2DD397E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3FAF-AF64-4711-905B-9520C16A6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E8BB-152F-4289-AE5C-012F71ACD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6524-65CB-47E7-BC51-19B0BB0E9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4C60-19C5-4681-B111-01248B4F3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C5F1-5778-43B8-A606-E46A024B2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E839-36B9-4990-BB10-84590E328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BC40-4643-4C22-8DF2-76683A6E9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498E-5064-4F7A-BD3C-369C64032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A569-DD61-4A8C-961E-1ECB941C6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E294-DC6E-4066-B942-616117885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F148-1E28-4461-80F5-07C2F4926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0FDF-28A0-4C82-912C-6F7723823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92DC-4FA5-4228-B5E0-13F2F19FE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6B47-3BAC-4B1E-AA6A-2019CFB06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1FE-72F1-4955-A265-92417901E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3136-3002-40BC-A4AE-808CBC4AB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4B96-2AE0-4E68-87FC-6438610B5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997E-5C44-4141-B8F7-DF6C5D754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4D74-E8FB-4843-83C3-9E5B4855B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90D1-E365-46B5-BD73-DD8B95647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6DAC-2B5E-466E-B47B-0E2B2C3CF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832D-5505-4814-945D-D93EAF755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67D1-5D0F-4D2D-83E5-05613936C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B601-1694-459F-85D0-96947D995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6045-5D2E-41F4-9DEC-A4EA8FAC0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B664-F375-43BA-8DAB-94CB8F732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BD01-2DFA-40DE-A059-E8BF3E8B8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7C1D-869E-43DD-88C8-7B82E6544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90E-3FAB-46A1-A3A7-D914019D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196-645E-4464-B427-D025E9BB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0B954-DD2E-4BEB-AB77-4EF5BEE8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78486-ECF9-4ECC-9546-7B5B92EB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7AB52-8EC9-4244-A37D-45D2A9F6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40790-CF49-4441-A3D3-ED9FF81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FA43B-FD4A-4A53-A4E4-EE3C4541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D88DF-8631-4616-B54A-3421FB3F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2383A-8664-4088-A3F8-C3CC9FBC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7EBA8-BC5B-44C3-9B7E-AB358089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EE372-F0E1-4D16-8856-750E16DC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E6C95-E02C-4AAA-ABD4-94E86E46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08C-53FB-4797-BD99-AE1C94E3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51948-7DEA-4593-8A79-7DA0F782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00643-F2E0-4C94-BB40-6F01DFBB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D60EC-5AFB-459C-A033-A2A8AE04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70263-ADF8-4262-B77B-406B357D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1B339-20AF-4B6E-9928-2786F66F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C3788-19F4-4CDB-9A9A-4ABDAF74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FF9F0-079D-4679-BF15-6372839B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3C2DE-DA57-414F-B739-6C481646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AB35C-111F-4635-A899-BD9C1304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61889-8E24-4103-ADEB-4FA7CC51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D3F-34B5-47B9-A45B-1A11BB93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275B9-287C-41B7-8419-720DFE8D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D63C9-198E-4B11-9D0A-8F1801C8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B95AE-8161-4A57-9548-EB1112E3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E3704-D1D2-42AD-89F4-2C96A558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F40BA-FB27-4B18-8882-E84FAF0C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57853-DCE6-4962-8AB7-5FE1E668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CB155-E2E8-4182-A4A3-B963749E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E4636-F1C8-4F7A-B41A-C660E0A6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4C9D4-F788-489A-9981-836DEB7E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B3913-4375-476E-B6D7-AAC61A00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3ECE-9437-4B53-B926-1FA10CF8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8CF7D-80A9-4449-A2F5-154C675F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A7786-F3A1-4A50-B61C-E04FDD5B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E9101-77E5-4800-93AC-17519017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ADDF1-4D98-4724-9594-F7721915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DA3AD-4B7A-4BF9-8244-24336F49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78301-1CD3-4FEC-8420-D3AFD01C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B7934-42AD-4C07-AF9B-13B9D088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CF2C0-286B-48BC-B412-1D0A4BB6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32903-D76B-4CDF-A44E-3358C873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2126C-D9FA-40E0-AC09-4FEAA559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0F37-7AAD-4866-A041-2B2C3023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A2B89-38C4-4530-97BB-C8AF45D8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B8725-8B19-4042-B53F-E6B3321C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EF8FE-DE42-479A-92B7-A41A4795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7B472-0476-4DFD-B00F-4A1E43D9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0B122-AAD4-4695-89A6-4A039CBE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1212-9E84-4578-938F-2847E5B8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9B81-117A-4614-8611-64B6B20A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AFA1-410C-4178-8A7B-30EB1BFA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4559-48AD-44A2-9ADF-7A060EB5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7A31-74FC-4F8D-8E85-39BA6BF5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611-327B-4353-8D8A-521B2BEE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F41E-6430-45F1-8958-613E7955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132E-4852-4669-A7CC-ABEF971F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805E-D7CD-4799-A9F8-85C2729D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C860-106C-4D52-AA87-41BCD511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34B0-DA39-417A-BBA6-B0D50901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13579-E4E0-47FE-A533-DD537158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66B21-510D-4BD3-87A9-5AAA802A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D5C52-7C5F-43F3-A981-95EA3359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B0541-BAE1-4C11-8417-ACBA8D57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44714-E51F-4611-9A0C-7668CFD3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F9C-FEBB-4E2D-993D-5BEE1DCD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C4809-E5DF-4852-8541-DE12C042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C05FA-EDC6-4E0C-A210-8B2478C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ACCAE-8F20-4247-8DB9-9FE2AB63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7A370-DA90-44AF-B428-62ABFE54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D62D3-E367-4585-BFF4-75AB41EF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6EF23-ACED-44CD-A756-13E44FC0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B489E-B2FF-40E2-8BF1-E95F6995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2ED85-BC9A-41C2-99FA-457C36C1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38D85-5C52-4DAF-A9A1-8D2FB149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4D8AD-7254-4995-911D-77E4790B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A9E-186C-4A6B-9389-66CE3053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1792D-9733-48FF-A4CD-3D783F31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5FE9-B6F5-479F-9F96-895F4CD8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4ECD2-F10E-4F4A-B9F8-499AB380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5DA61-902D-4A5F-8364-2D598055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645BC-8F24-45AE-8397-70AD3C80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0C4E9-35B6-4659-8D48-5192479D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749E-CA99-4E98-9459-0FA04AF4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EE5AB-8DFA-45E6-ACAD-E6C119DD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A26EF-0A10-4F76-9E36-989A724C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B1905-4B77-4567-A591-9ED469A7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1CF-1DAB-4B9F-9E45-5CC5991F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7F8BE-33F1-4DDE-8258-FD2FCF3A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BF0C7-AB9D-404A-9D49-C830B638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48A47-8F8F-4F71-BF77-A25D2041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04DB2-D55E-46CD-8923-88227F38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1959-519C-4DE0-A27F-2453B92E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794FE-151F-497C-8A74-EAE60BFD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BF09C-7988-4F5C-8B73-17A8D283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04FE6-561C-4B4B-B666-04FD3209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91B4E-6EA0-4150-99A2-871CCADE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EDEC-A096-409F-9FA5-35E92E69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CAA-9031-4302-93E1-757CB2B7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EFD22-D934-4963-AF41-470AB98D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914F0-80B8-4811-8CE4-623C08A2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2AF12-FEF6-4C70-A5F9-9AF1E61F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B3B79-D3E3-461C-944A-2DFCC951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F945E-1CE5-48DE-82AE-72281D43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45F13-D79C-4715-8594-CF100867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E776B-B472-45B3-AEB5-8F0BAF27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87478-0F68-4A3B-A35D-700FD0C4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6C6F1-D2EB-4A05-8809-5494002A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441C0-3C4F-4FF4-BE1C-8388B31A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148-9911-48A6-9956-459F93E1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A2939-2803-44F3-BCB7-C70ED515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646E8-F234-4BA0-B916-838628BF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18F77-9BE6-43C2-830A-3DD262FA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E3EC4-F22D-4D2D-9D1E-FDF8C05D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8DFFD-4709-40C5-AAD3-D1A09D09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1F37B-C804-46AA-8A80-A8617DA3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F2B7F-0F05-48D4-B202-CA8568B0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54E12-C8E3-47A5-94C6-71944269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BE4FC-F066-4519-968F-7188CE91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41D29-98D0-4EB9-BA37-07019F45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319-BC14-4581-93A0-B0249704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2EB8-D75A-4547-9A6F-F14618DB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EB5F-5EE4-4CE0-B32C-49AF0004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84CF6-3957-4109-99EA-3D8790CC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E6DFB-2638-44DB-AC49-E669E24E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3AC2D-B98A-42EE-9010-7A60F671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B61AA-B890-4E67-B68A-CC4393D3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1F5EC-6D3F-4013-92DC-EA9B87D1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77754-478C-48C0-9067-461E88AC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C60D5-33DE-4AE6-BEB2-4CEA9C02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4380F-2096-4E24-A7FC-CF96D981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8881-40A1-4787-908D-F9EE40FD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CE114-1DE4-4941-BC87-7887FB7E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F42EC-8C33-4DC6-9089-2FB4FAD4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9D87A-9EA4-40B4-86D2-5FC093B3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E7C23-B952-4F8E-8AB5-667C559A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1E377-A6ED-4AB7-9CE0-F3B33C3E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069AE-8469-44FC-AB91-2E104F4B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3C036-3CBD-457F-84F4-DEC9EB86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800BC-23D6-4972-93F1-92A9E659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F4CE6-88EB-46A3-98FA-DB16F6B7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33B33-49CA-4393-8288-0FA0E378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A608-C4F0-4973-B616-BEC60A430D5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D3A8C85-4340-41DB-A85A-1B21D2595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57AA-6DF9-4682-A787-DCE11822A37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83449ED9-19F5-4AAF-AA41-2E0C688E6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CE1B-680E-448B-B617-7D8756FBEDE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5987D2A6-139F-434E-BCF5-CA02FBC2AB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4793-8B0C-431C-80DA-C49BBD314D1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D4932F41-09CA-4EA9-909B-4E52744151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44F9-429E-4949-A316-B53BA7C5AB8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7E4B1EC0-9700-4A3F-BCC1-14F7C3A2A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2E8F-3654-47EF-8A89-31E19C0D147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1A5B7DC7-AC4A-4E49-AD04-9571505911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31AD-BA6A-4BB8-B258-3B2CEA017BC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AF47B6A6-B34F-4A85-BCD0-E01CE916D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D512-C8E9-47CB-B4F3-FBD22091C44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EC359490-2764-444C-9D07-93449DD99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2560-E3EB-48CE-B042-BB320573803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8A7DD6DA-5313-4902-9023-0377E4E7C0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3F45-0B56-4B29-ABDE-A7E7AEC13F6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AF1C1BF7-06C2-41E2-BD57-BD0EFB27DB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67F4-927A-4100-A272-F4ABF6652E3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E865816E-CCE3-47B7-886D-5732A9E84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D9ED-044B-4A37-AC27-0A8252B893F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4-</a:t>
            </a:r>
            <a:fld id="{95759DDC-5735-44C6-A53E-55E0975038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nerics 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d the ArrayList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p:  Summary of Adding to an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is usually used to place an element in a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osition for the first time (at a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ex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st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has a single parameter for the element to be added, and adds an element at the next unused index, in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CF345CC-22E6-43A0-BA3D-4BCB94F17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p:  Summary of Adding to an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lement can be added at an already occupied list position by using the two-parameter version of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uses the new element to be placed at the index specified, and every other member of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be moved up by one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70FEB33B-0150-45E2-AB05-B1F7FA40B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p:  Summary of Adding to an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wo-argument vers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also be used to add an element at the first unused position (if that position is know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individual element can be changed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only reset an element at an index that already contains an el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, 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determine how many elements are stored in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11029A14-CBAB-4522-B69E-391DE4EB5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ols for manipulating arrays consist only of the square brackets and the instance variabl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owever, come with a selection of powerful methods that can do many of the things for which code would have to be written in order to do them using ar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F1D7991D-23AE-454E-8982-C509DC1B3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1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3" descr="C:\WINDOWS\Desktop\Oh_type\savitch_gif\c14_rev\savitch_c14d01_01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219480"/>
          </a:xfrm>
          <a:prstGeom prst="rect">
            <a:avLst/>
          </a:prstGeom>
          <a:ln w="0">
            <a:noFill/>
          </a:ln>
        </p:spPr>
      </p:pic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F864508D-BBB6-4EFA-AB47-355A6D81B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2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3" descr="C:\WINDOWS\Desktop\Oh_type\savitch_gif\c14_rev\savitch_c14d01_02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78400"/>
          </a:xfrm>
          <a:prstGeom prst="rect">
            <a:avLst/>
          </a:prstGeom>
          <a:ln w="0">
            <a:noFill/>
          </a:ln>
        </p:spPr>
      </p:pic>
      <p:sp>
        <p:nvSpPr>
          <p:cNvPr id="5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7258FA3-1F5A-492C-BFC3-E8622647B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3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3" descr="C:\WINDOWS\Desktop\Oh_type\savitch_gif\c14_rev\savitch_c14d01_03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700520"/>
          </a:xfrm>
          <a:prstGeom prst="rect">
            <a:avLst/>
          </a:prstGeom>
          <a:ln w="0">
            <a:noFill/>
          </a:ln>
        </p:spPr>
      </p:pic>
      <p:sp>
        <p:nvSpPr>
          <p:cNvPr id="5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9D0CE2A9-199D-49C3-8EF2-F02C0D44D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4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3" descr="C:\WINDOWS\Desktop\Oh_type\savitch_gif\c14_rev\savitch_c14d01_04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951280"/>
          </a:xfrm>
          <a:prstGeom prst="rect">
            <a:avLst/>
          </a:prstGeom>
          <a:ln w="0">
            <a:noFill/>
          </a:ln>
        </p:spPr>
      </p:pic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FF113E73-7FC6-4991-BF6B-A60893332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5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3" descr="C:\WINDOWS\Desktop\Oh_type\savitch_gif\c14_rev\savitch_c14d01_05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843440"/>
          </a:xfrm>
          <a:prstGeom prst="rect">
            <a:avLst/>
          </a:prstGeom>
          <a:ln w="0">
            <a:noFill/>
          </a:ln>
        </p:spPr>
      </p:pic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0CC98017-9819-47C9-BA5A-1473674F7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6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3" descr="C:\WINDOWS\Desktop\Oh_type\savitch_gif\c14_rev\savitch_c14d01_06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861080"/>
          </a:xfrm>
          <a:prstGeom prst="rect">
            <a:avLst/>
          </a:prstGeom>
          <a:ln w="0">
            <a:noFill/>
          </a:ln>
        </p:spPr>
      </p:pic>
      <p:sp>
        <p:nvSpPr>
          <p:cNvPr id="5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20280858-5A4C-4AF9-BFA7-89DC08DC0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Gene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ning with version 5.0, Java allows class and method definitions that include parameters for 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definition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ic programming with a type parameter enables code to be written that applies to any clas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788262EE-6782-4740-8813-D520FCECA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7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3" descr="C:\WINDOWS\Desktop\Oh_type\savitch_gif\c14_rev\savitch_c14d01_07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046240"/>
          </a:xfrm>
          <a:prstGeom prst="rect">
            <a:avLst/>
          </a:prstGeom>
          <a:ln w="0">
            <a:noFill/>
          </a:ln>
        </p:spPr>
      </p:pic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3A99E13-E76C-48BA-BE4C-A4D93DBB6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8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3" descr="C:\WINDOWS\Desktop\Oh_type\savitch_gif\c14_rev\savitch_c14d01_08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367160"/>
          </a:xfrm>
          <a:prstGeom prst="rect">
            <a:avLst/>
          </a:prstGeom>
          <a:ln w="0">
            <a:noFill/>
          </a:ln>
        </p:spPr>
      </p:pic>
      <p:sp>
        <p:nvSpPr>
          <p:cNvPr id="5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4395A91A-83A3-4339-B169-E3BA10353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9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3" descr="C:\WINDOWS\Desktop\Oh_type\savitch_gif\c14_rev\savitch_c14d01_09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818240"/>
          </a:xfrm>
          <a:prstGeom prst="rect">
            <a:avLst/>
          </a:prstGeom>
          <a:ln w="0">
            <a:noFill/>
          </a:ln>
        </p:spPr>
      </p:pic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1282FF85-70CD-4188-A963-EF5CAC417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10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3" descr="C:\WINDOWS\Desktop\Oh_type\savitch_gif\c14_rev\savitch_c14d01_10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02896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912C8F4-A586-4269-B71C-422AA9496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Methods in the Class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11 of 1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3" descr="C:\WINDOWS\Desktop\Oh_type\savitch_gif\c14_rev\savitch_c14d01_11of11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747880"/>
          </a:xfrm>
          <a:prstGeom prst="rect">
            <a:avLst/>
          </a:prstGeom>
          <a:ln w="0">
            <a:noFill/>
          </a:ln>
        </p:spPr>
      </p:pic>
      <p:sp>
        <p:nvSpPr>
          <p:cNvPr id="6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648EB46-83FF-4F29-840D-0AB54CD1E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are Some Parameters of Typ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ase_Typ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Others of typ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looking at the methods available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, there appears to be some inconsist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some cases, when a parameter is naturally an object of the base type, the parameter type is the base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in other cases, it is the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becaus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implements a number of interfaces, and inherits methods from various ancestor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interfaces and ancestor classes specify that certain parameters have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57A4E43F-897D-47B3-97D0-DF3FDDEAE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"For Each" 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 is an example of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lle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ing with version 5.0, Java has added a new kind of for loop calle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or-ea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hanced f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o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kind of loop has been designed to cycle through all the elements in a collection (like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4D1B4146-9E4E-4D89-9EEB-69049C46F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or-each Loop Used with an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1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Picture 3" descr="C:\WINDOWS\Desktop\Oh_type\savitch_gif\c14_rev\savitch_c14d02_1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946680"/>
          </a:xfrm>
          <a:prstGeom prst="rect">
            <a:avLst/>
          </a:prstGeom>
          <a:ln w="0">
            <a:noFill/>
          </a:ln>
        </p:spPr>
      </p:pic>
      <p:sp>
        <p:nvSpPr>
          <p:cNvPr id="6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14F55AC-6C0F-41F7-9254-F102F8D6B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or-each Loop Used with an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2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3" descr="C:\WINDOWS\Desktop\Oh_type\savitch_gif\c14_rev\savitch_c14d02_2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6243840" cy="4479840"/>
          </a:xfrm>
          <a:prstGeom prst="rect">
            <a:avLst/>
          </a:prstGeom>
          <a:ln w="0">
            <a:noFill/>
          </a:ln>
        </p:spPr>
      </p:pic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166E1F1F-226A-4191-89F8-1E0C86324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or-each Loop Used with an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Part 3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3" descr="C:\WINDOWS\Desktop\Oh_type\savitch_gif\c14_rev\savitch_c14d02_3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935520"/>
          </a:xfrm>
          <a:prstGeom prst="rect">
            <a:avLst/>
          </a:prstGeom>
          <a:ln w="0">
            <a:noFill/>
          </a:ln>
        </p:spPr>
      </p:pic>
      <p:sp>
        <p:nvSpPr>
          <p:cNvPr id="6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44928DF1-6E03-4111-9FD4-8B9A46F6A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4ca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class in the standard Java libr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like arrays, which have a fixed length once they have been created,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n object that can grow and shrink while your program is ru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general,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rves the same purpose as an array, except that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change length while the program is ru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4336FC5D-12F9-4486-A95B-642F8104F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lf Score Program (Part 1 of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3" descr="C:\WINDOWS\Desktop\Oh_type\savitch_gif\c14_rev\savitch_c14d03_1of6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94240"/>
          </a:xfrm>
          <a:prstGeom prst="rect">
            <a:avLst/>
          </a:prstGeom>
          <a:ln w="0">
            <a:noFill/>
          </a:ln>
        </p:spPr>
      </p:pic>
      <p:sp>
        <p:nvSpPr>
          <p:cNvPr id="6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F3D907FA-F36D-4D5B-ADD8-242FA9970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lf Score Program (Part 2 of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3" descr="C:\WINDOWS\Desktop\Oh_type\savitch_gif\c14_rev\savitch_c14d03_2of6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170080"/>
          </a:xfrm>
          <a:prstGeom prst="rect">
            <a:avLst/>
          </a:prstGeom>
          <a:ln w="0">
            <a:noFill/>
          </a:ln>
        </p:spPr>
      </p:pic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34927AE-0FDB-4C0D-B3E2-34D2B6B28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lf Score Program (Part 3 of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3" descr="C:\WINDOWS\Desktop\Oh_type\savitch_gif\c14_rev\savitch_c14d03_3of6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214880"/>
          </a:xfrm>
          <a:prstGeom prst="rect">
            <a:avLst/>
          </a:prstGeom>
          <a:ln w="0">
            <a:noFill/>
          </a:ln>
        </p:spPr>
      </p:pic>
      <p:sp>
        <p:nvSpPr>
          <p:cNvPr id="6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6435646F-FD71-4D75-8DC9-61493AB80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lf Score Program (Part 4 of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3" descr="C:\WINDOWS\Desktop\Oh_type\savitch_gif\c14_rev\savitch_c14d03_4of6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027240"/>
          </a:xfrm>
          <a:prstGeom prst="rect">
            <a:avLst/>
          </a:prstGeom>
          <a:ln w="0">
            <a:noFill/>
          </a:ln>
        </p:spPr>
      </p:pic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72BDE6D8-389D-49F7-B6F0-501736BE0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lf Score Program (Part 5 of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3" descr="C:\WINDOWS\Desktop\Oh_type\savitch_gif\c14_rev\savitch_c14d03_5of6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701880"/>
          </a:xfrm>
          <a:prstGeom prst="rect">
            <a:avLst/>
          </a:prstGeom>
          <a:ln w="0">
            <a:noFill/>
          </a:ln>
        </p:spPr>
      </p:pic>
      <p:sp>
        <p:nvSpPr>
          <p:cNvPr id="6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12A44CE8-1621-4BA5-9DA5-6B5A892F5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lf Score Program (Part 6 of 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3" descr="C:\WINDOWS\Desktop\Oh_type\savitch_gif\c14_rev\savitch_c14d03_6of6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057480"/>
          </a:xfrm>
          <a:prstGeom prst="rect">
            <a:avLst/>
          </a:prstGeom>
          <a:ln w="0">
            <a:noFill/>
          </a:ln>
        </p:spPr>
      </p:pic>
      <p:sp>
        <p:nvSpPr>
          <p:cNvPr id="6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3FAEBFC-5A4E-43D5-9D04-26817DD46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rimToSiz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Save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utomatically increases its capacity when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the capacity may increase beyond what a program requ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ddition, although a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rows automatically when needed, it does not shrink automatic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a large amount of excess capacity, an invocation of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rimToS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shrink the capacity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wn to the size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F1FB54F2-0094-4B7B-85AA-EF63F5ED3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Makes a Shallow C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deep copy of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eeded, using the clone method is not suffic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k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 produces a shallow copy, not a deep c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make a deep copy, it must be possible to make a deep copy of objects of the base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a deep copy of each element in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created and placed into a new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44E73008-354A-47FC-A7B5-78EAF69A6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Java standard libraries have a class name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at behaves almost exactly the same as the clas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ost situations, either class could b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s newer, and is becoming the preferr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72F2A748-72EB-4E70-9030-AFC5708860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terized Classes and Gene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rameteriz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a parameter, denoted by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ase_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at can be replaced by any reference type to obtain a class f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the specified base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ing with version 5.0, Java allows class definitions with parameters for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classes that have type parameter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arameterized 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eneric defini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, simply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ener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043B0834-859A-4FBB-B252-C9EEA2E3E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implemented using an array as a private instance 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is hidden array is full, a new larger hidden array is created and the data is transferred to this new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11FA4858-CDAE-49A1-B776-7025ED59E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parameterize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 discussed here have a type parameter for the bas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lso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es with no parameter whose base type is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classes are left over from earlier versions of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978EE6B0-F9D7-4216-9ACC-A684FEE5E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and methods can have a type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e parameter can have any reference type (i.e., any class type) plugged in for the type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specific type is plugged in, this produces a specific class type or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ditionally, a single uppercase letter is used for a type parameter, but any non-keyword identifier may b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78D40958-FC91-4FDA-B775-B142DD8F1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definition with a type parameter is stored in a file and compiled just like any oth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a parameterized class is compiled, it can be used like any oth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 class type plugged in for the type parameter must be specified before it can be used in 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ing this is said 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stanti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generic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ample&lt;String&gt; object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 Sample&lt;String&gt;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6FE15BA3-418B-4412-851F-C4B410D50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ass Definition with a Type Para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3" descr="C:\WINDOWS\Desktop\Oh_type\savitch_gif\c14_rev\savitch_c14d0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530520"/>
          </a:xfrm>
          <a:prstGeom prst="rect">
            <a:avLst/>
          </a:prstGeom>
          <a:ln w="0">
            <a:noFill/>
          </a:ln>
        </p:spPr>
      </p:pic>
      <p:sp>
        <p:nvSpPr>
          <p:cNvPr id="6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8E948570-14D0-4940-B564-31B526D91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Definition with a Type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that is defined with a parameter for a type is called a generic class or a parameteriz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ype parameter is included in angular brackets after the class name in the class definition h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non-keyword identifier can be used for the type parameter, but by convention, the parameter starts with an uppercase l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ype parameter can be used like other types used in the definition of a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C191135A-9622-48F5-86E5-605B67583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Compile with 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-Xl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many pitfalls that can be encountered when using type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ing with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-Xl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ption will provide more informative diagnostics of any problems or potential problems in the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vac –Xlint Sample.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8F6EBBC4-3140-4912-A237-9A28C968D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eneric Ordered Pair Class (Part 1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Picture 3" descr="C:\WINDOWS\Desktop\Oh_type\savitch_gif\c14_rev\savitch_c14d05_1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295880"/>
          </a:xfrm>
          <a:prstGeom prst="rect">
            <a:avLst/>
          </a:prstGeom>
          <a:ln w="0">
            <a:noFill/>
          </a:ln>
        </p:spPr>
      </p:pic>
      <p:sp>
        <p:nvSpPr>
          <p:cNvPr id="6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18FD5BA3-CBF3-48F6-B571-BC9083C56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eneric Ordered Pair Class (Part 2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3" descr="C:\WINDOWS\Desktop\Oh_type\savitch_gif\c14_rev\savitch_c14d05_2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5000760" cy="3495600"/>
          </a:xfrm>
          <a:prstGeom prst="rect">
            <a:avLst/>
          </a:prstGeom>
          <a:ln w="0">
            <a:noFill/>
          </a:ln>
        </p:spPr>
      </p:pic>
      <p:sp>
        <p:nvSpPr>
          <p:cNvPr id="6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CE92F1C-24F6-4157-AB33-0C0B8AD14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eneric Ordered Pair Class (Part 3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Picture 3" descr="C:\WINDOWS\Desktop\Oh_type\savitch_gif\c14_rev\savitch_c14d05_3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960640"/>
          </a:xfrm>
          <a:prstGeom prst="rect">
            <a:avLst/>
          </a:prstGeom>
          <a:ln w="0">
            <a:noFill/>
          </a:ln>
        </p:spPr>
      </p:pic>
      <p:sp>
        <p:nvSpPr>
          <p:cNvPr id="7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E067B630-C0C2-45EC-8DC9-EF0F3BFCE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Generic Ordered Pair Class (Part 4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3" descr="C:\WINDOWS\Desktop\Oh_type\savitch_gif\c14_rev\savitch_c14d05_4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699000"/>
          </a:xfrm>
          <a:prstGeom prst="rect">
            <a:avLst/>
          </a:prstGeom>
          <a:ln w="0">
            <a:noFill/>
          </a:ln>
        </p:spPr>
      </p:pic>
      <p:sp>
        <p:nvSpPr>
          <p:cNvPr id="7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4F5D49DF-F515-4E36-AA49-67F54B60C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not always use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stead of an arra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less efficient than an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not have the convenient square bracket n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e type of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a class type (or other reference type):  it cannot be a primitiv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last point is less of a problem now that Java provides automatic boxing and unboxing of primi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2B510A76-437F-4D6C-B369-9F2477AB6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ur Ordered Pair Class (Part 1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3" descr="C:\WINDOWS\Desktop\Oh_type\savitch_gif\c14_rev\savitch_c14d06_1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076640"/>
          </a:xfrm>
          <a:prstGeom prst="rect">
            <a:avLst/>
          </a:prstGeom>
          <a:ln w="0">
            <a:noFill/>
          </a:ln>
        </p:spPr>
      </p:pic>
      <p:sp>
        <p:nvSpPr>
          <p:cNvPr id="7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ABDAEC3F-82B7-42B2-9E09-87B59314C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ur Ordered Pair Class (Part 2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3" descr="savitch_c14d06_2of3.gif                                        0004F375backup                         BE98102B:"/>
          <p:cNvPicPr/>
          <p:nvPr/>
        </p:nvPicPr>
        <p:blipFill>
          <a:blip r:embed="rId1"/>
          <a:stretch/>
        </p:blipFill>
        <p:spPr>
          <a:xfrm>
            <a:off x="838080" y="1600200"/>
            <a:ext cx="7790040" cy="3890880"/>
          </a:xfrm>
          <a:prstGeom prst="rect">
            <a:avLst/>
          </a:prstGeom>
          <a:ln w="0">
            <a:noFill/>
          </a:ln>
        </p:spPr>
      </p:pic>
      <p:sp>
        <p:nvSpPr>
          <p:cNvPr id="7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AF788207-3C28-460B-95EC-6B8AF1901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ur Ordered Pair Class (Part 3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3" descr="C:\WINDOWS\Desktop\Oh_type\savitch_gif\c14_rev\savitch_c14d06_3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792520"/>
          </a:xfrm>
          <a:prstGeom prst="rect">
            <a:avLst/>
          </a:prstGeom>
          <a:ln w="0">
            <a:noFill/>
          </a:ln>
        </p:spPr>
      </p:pic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535B45AA-AE3C-4EC3-852F-9CD7B77BD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Generic Constructor Name Has No Type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hough the class name in a parameterized class definition has a type parameter attached, the type parameter is not used in the heading of the constructor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Pair&lt;T&gt;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nstructor can use the type parameter as the type for a parameter of the constructor, but in this case, the angular brackets are not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Pair(T first, T secon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when a generic class is instantiated, the angular brackets ar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air&lt;String&gt; pair =</a:t>
            </a: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 Pair&lt;STring&gt;("Happy", "Day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4343C0E1-FDEA-4075-9FBC-92AC438CE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Primitive Type Cannot be Plugged in for a Type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e plugged in for a type parameter must always be a referenc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not be a primitive type such a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now that Java has automatic boxing, this is not a big restr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 reference types can include ar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4F54C051-E2C3-4727-8B26-A899EC053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Type Parameter Cannot Be Used Everywhere a Type Name Can Be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in the definition of a parameterized class definition, there are places where an ordinary class name would be allowed, but a type parameter is not allow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the type parameter cannot be used in simple expressions using new to create a new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stance, the type parameter cannot be used as a constructor name or like a construct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 object =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ew T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[] a =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new T[10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0E86CFC-3504-4387-A692-C9875C975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n Instantiation of a Generic Class Cannot be an Array Bas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ays such as the following are illeg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Pair&lt;String&gt;[] a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ew Pair&lt;String&gt;[10]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hough this is a reasonable thing to want to do, it is not allowed given the way that Java implements generic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C1242C6A-DB81-4597-BAEE-16887A9C7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ur Ordered Pair Class and Automatic Boxing (Part 1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8" name="Picture 3" descr="C:\WINDOWS\Desktop\Oh_type\savitch_gif\c14_rev\savitch_c14d07_1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951360"/>
          </a:xfrm>
          <a:prstGeom prst="rect">
            <a:avLst/>
          </a:prstGeom>
          <a:ln w="0">
            <a:noFill/>
          </a:ln>
        </p:spPr>
      </p:pic>
      <p:sp>
        <p:nvSpPr>
          <p:cNvPr id="7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4F2789E6-1298-4A2E-9E4A-ECC3F03CE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ur Ordered Pair Class and Automatic Boxing (Part 2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2" name="Picture 3" descr="C:\WINDOWS\Desktop\Oh_type\savitch_gif\c14_rev\savitch_c14d07_2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846600"/>
          </a:xfrm>
          <a:prstGeom prst="rect">
            <a:avLst/>
          </a:prstGeom>
          <a:ln w="0">
            <a:noFill/>
          </a:ln>
        </p:spPr>
      </p:pic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E0E9643-1001-4D8E-9BA5-92896E8C4D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Our Ordered Pair Class and Automatic Boxing (Part 3 of 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Picture 3" descr="C:\WINDOWS\Desktop\Oh_type\savitch_gif\c14_rev\savitch_c14d07_3of3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1668600"/>
          </a:xfrm>
          <a:prstGeom prst="rect">
            <a:avLst/>
          </a:prstGeom>
          <a:ln w="0">
            <a:noFill/>
          </a:ln>
        </p:spPr>
      </p:pic>
      <p:sp>
        <p:nvSpPr>
          <p:cNvPr id="7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A5F076AA-864F-4900-9D6C-AF8C4DD83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make use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, it must first be imported from the packag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va.u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reated and named in the same way as object of any class, except that you specify the base type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&lt;BaseType&gt; aList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 ArrayList&lt;BaseType&gt;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5855C7F3-55C0-4F80-9B66-9B4629DF8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Class Definition Can Have More Than One Type 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eneric class definition can have any number of type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type parameters are listed in angular brackets just as in the single type parameter case, but are separated by com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7375AFE6-C91C-4366-AA1D-A2096A5EF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Type Parameters (Part 1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4" name="Picture 3" descr="C:\WINDOWS\Desktop\Oh_type\savitch_gif\c14_rev\savitch_c14d08_1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119480"/>
          </a:xfrm>
          <a:prstGeom prst="rect">
            <a:avLst/>
          </a:prstGeom>
          <a:ln w="0">
            <a:noFill/>
          </a:ln>
        </p:spPr>
      </p:pic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73B901D9-C36F-40A8-B2AA-C8D80A4FD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Type Parameters (Part 2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8" name="Picture 3" descr="C:\WINDOWS\Desktop\Oh_type\savitch_gif\c14_rev\savitch_c14d08_2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5558040" cy="3554280"/>
          </a:xfrm>
          <a:prstGeom prst="rect">
            <a:avLst/>
          </a:prstGeom>
          <a:ln w="0">
            <a:noFill/>
          </a:ln>
        </p:spPr>
      </p:pic>
      <p:sp>
        <p:nvSpPr>
          <p:cNvPr id="7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AF005AC-520B-45D5-99DB-8F22F6A65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Type Parameters (Part 3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Picture 3" descr="C:\WINDOWS\Desktop\Oh_type\savitch_gif\c14_rev\savitch_c14d08_3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01788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0508D477-83B9-4739-850A-1C2CE20B7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Type Parameters (Part 4 of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6" name="Picture 3" descr="C:\WINDOWS\Desktop\Oh_type\savitch_gif\c14_rev\savitch_c14d08_4of4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889440"/>
          </a:xfrm>
          <a:prstGeom prst="rect">
            <a:avLst/>
          </a:prstGeom>
          <a:ln w="0">
            <a:noFill/>
          </a:ln>
        </p:spPr>
      </p:pic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98F31F64-2457-4BA5-A032-CE8B8297D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A Generic Class Cannot Be an Exception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ot permitted to create a generic class with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Err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row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r any descendent class of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Throw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eneric class cannot be created whose objects are throw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 class GEx&lt;T&gt; extends Exce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ove example will generate a compiler error mes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25EEE421-11DF-4AF3-9706-7CB1CDE2F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a Generic Class with Two Type Parameters (Part 1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4" name="Picture 3" descr="C:\WINDOWS\Desktop\Oh_type\savitch_gif\c14_rev\savitch_c14d09_1of2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94240"/>
          </a:xfrm>
          <a:prstGeom prst="rect">
            <a:avLst/>
          </a:prstGeom>
          <a:ln w="0">
            <a:noFill/>
          </a:ln>
        </p:spPr>
      </p:pic>
      <p:sp>
        <p:nvSpPr>
          <p:cNvPr id="7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AA354DE-8CAF-4429-895F-B2D29DF46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a Generic Class with Two Type Parameters (Part 2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8" name="Picture 3" descr="C:\WINDOWS\Desktop\Oh_type\savitch_gif\c14_rev\savitch_c14d09_2of2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456000"/>
          </a:xfrm>
          <a:prstGeom prst="rect">
            <a:avLst/>
          </a:prstGeom>
          <a:ln w="0">
            <a:noFill/>
          </a:ln>
        </p:spPr>
      </p:pic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2539104F-0C18-432C-91D7-B83B8853B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unds for Type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it makes sense to restrict the possible types that can be plugged in for a type parame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instance, to ensure that only classes that implemen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rface are plugged in fo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define a class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public class RClass&lt;T extends Comparabl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xtends Compara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s as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ou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n the type parame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ttempt to plug in a type f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ich does not implement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terface will result in a compiler error mes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EFCE3696-A69D-4D61-874E-3505BF1DA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unds for Type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ound on a type may be a class name (rather than an interface na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only descendent classes of the bounding class may be plugged in for the typ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ExClass&lt;T extends Class1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ounds expression may contain multiple interfaces and up to on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re is more than one type parameter, the syntax is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public class Two&lt;T1 extends Class1, T2 extends Class2 &amp; Comparabl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875E9809-DEC6-4DED-BFE5-FFB92F378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itial capacity can be specified when creating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llowing code creates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stores objects of the base typ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 an initial capacity of 20 i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rrayList&lt;String&gt; list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 ArrayList&lt;String&gt;(2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ying an initial capacity does not limit the size to which 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eventually gr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the base type of an ArrayList is specified as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6D734B2-4FB5-46FD-9854-8E61429EB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ounded Type Para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0" name="Picture 3" descr="C:\WINDOWS\Desktop\Oh_type\savitch_gif\c14_rev\savitch_c14d10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192560"/>
          </a:xfrm>
          <a:prstGeom prst="rect">
            <a:avLst/>
          </a:prstGeom>
          <a:ln w="0">
            <a:noFill/>
          </a:ln>
        </p:spPr>
      </p:pic>
      <p:sp>
        <p:nvSpPr>
          <p:cNvPr id="7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CDFD28A-5041-49F7-BDE5-8815D19F6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:  Generic 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terface can have one or more type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tails and notation are the same as they are for classes with type para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3A8FC61F-0AB0-4A06-A826-44EEEA5AC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ic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generic class is defined, the type parameter can be used in the definitions of the methods for that generic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, a generic method can be defined that has its own type parameter that is not the type parameter of any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neric method can be a member of an ordinary class or a member of a generic class that has some other type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ype parameter of a generic method is local to that method, not to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B16BFE5B-FA67-4DF9-9231-162760ED5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ic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ype parameter must be placed (in angular brackets) after all the modifiers, and before the returned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static &lt;T&gt; T genMethod(T[] 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one of these generic methods is invoked, the method name is prefaced with the type to be plugged in, enclosed in angular brack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 s = NonG.&lt;String&gt;genMethod(c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525352C2-1B30-46B5-841A-381A895BA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eritance with Generic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eneric class can be defined as a derived class of an ordinary class or of another generic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in ordinary classes, an object of the subclass type would also be of the superclass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two classes: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given </a:t>
            </a:r>
            <a:r>
              <a:rPr b="1" lang="en-US" sz="2800" spc="-1" strike="noStrike">
                <a:solidFill>
                  <a:srgbClr val="034ca1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generic class, there is no relationship betwee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&lt;A&g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&lt;B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true regardless of the relationship betwee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.g., i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subclass of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0AFACBC0-DBAC-469C-994C-34D1E44DA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erived Generic Class (Part 1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4" descr="C:\WINDOWS\Desktop\Oh_type\savitch_gif\c14_rev\savitch_c14d11_1of2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522600"/>
          </a:xfrm>
          <a:prstGeom prst="rect">
            <a:avLst/>
          </a:prstGeom>
          <a:ln w="0">
            <a:noFill/>
          </a:ln>
        </p:spPr>
      </p:pic>
      <p:sp>
        <p:nvSpPr>
          <p:cNvPr id="8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906EFEA4-4853-44F3-BE63-067AC8E47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erived Generic Class (Part 2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Picture 3" descr="C:\WINDOWS\Desktop\Oh_type\savitch_gif\c14_rev\savitch_c14d11_2of2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4441680"/>
          </a:xfrm>
          <a:prstGeom prst="rect">
            <a:avLst/>
          </a:prstGeom>
          <a:ln w="0">
            <a:noFill/>
          </a:ln>
        </p:spPr>
      </p:pic>
      <p:sp>
        <p:nvSpPr>
          <p:cNvPr id="8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2301BA18-C4C6-4F50-A760-AE3F6EB5A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UnorderedPair (Part 1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8" name="Picture 3" descr="C:\WINDOWS\Desktop\Oh_type\savitch_gif\c14_rev\savitch_c14d12_1of2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2401920"/>
          </a:xfrm>
          <a:prstGeom prst="rect">
            <a:avLst/>
          </a:prstGeom>
          <a:ln w="0">
            <a:noFill/>
          </a:ln>
        </p:spPr>
      </p:pic>
      <p:sp>
        <p:nvSpPr>
          <p:cNvPr id="8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5B247BB3-5E59-4B74-B01D-FBF890CE8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UnorderedPair (Part 2 of 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Picture 3" descr="C:\WINDOWS\Desktop\Oh_type\savitch_gif\c14_rev\savitch_c14d12_2of2.gif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3494160"/>
          </a:xfrm>
          <a:prstGeom prst="rect">
            <a:avLst/>
          </a:prstGeom>
          <a:ln w="0">
            <a:noFill/>
          </a:ln>
        </p:spPr>
      </p:pic>
      <p:sp>
        <p:nvSpPr>
          <p:cNvPr id="8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087E93D8-2788-44BC-B917-D67780712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is used to set an element for the first time in a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Array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list.add("something"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nam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verloa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lso a two argument version that allows an item to be added at any currently used index position or at the first unused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86457F19-328A-4733-B579-DDDC16E72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used to find out how many indices already have elements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rray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 howMany = list.siz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used to replace any existing element, and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used to access the value of any existing e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list.set(index, "something else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 thing = list.get(index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-</a:t>
            </a:r>
            <a:fld id="{D962CD56-341E-47F8-853A-B1B9AD1C0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9:45Z</dcterms:modified>
  <cp:revision>13</cp:revision>
  <dc:subject/>
  <dc:title>Slide 1</dc:title>
</cp:coreProperties>
</file>