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CADE-875D-45B6-BDB3-59AC7B6DD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DA07-2766-4B25-8680-DDE519F25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812C-E74A-4F3F-8012-E11EBCF64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D7BF-E5BD-4023-9887-B981BA9E2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89B-66CA-4E15-801D-6A4B2157A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71D6-F04F-4900-B78E-6D0CD3C70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EF7A-1947-4177-9BF5-694FFC7C0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9555-288E-495E-9BDA-BCCB7B6D4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FC75-49BC-40C4-9EF1-967951442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C6F5-F20A-4479-AD58-710EADE72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AD90-7507-4EB7-B8CB-EE1E5A479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339C-8EFE-4905-AF0D-2B0E90CF9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54D7-BD8C-4BBA-9D4D-6D1D750FD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3202-BD56-4B81-87D6-E82C6E1F9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157-4495-4E1E-A757-46E91624D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8501-0BCA-4482-8954-FAAF357E2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E19B-4EA6-463F-B7F4-AC500C4C1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D811-E599-4A6E-BEF4-65930D6A0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DF4C-2B1A-4A77-A0A0-033F37B0E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9F06-AF4D-489E-A9F2-B90554868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F69C-3B5E-4E0A-AE66-39C94F57C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6A3D-BED5-4365-A547-C129EC0B2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BA99-F1C9-4671-AD55-90D287FCF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8B8F-5659-422A-8433-05E9AD0D2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4534-AED5-48E7-B448-4F3B19078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8006-4B63-4862-945B-08D0F6B34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9E68-0168-40B3-9B69-8F08CDDC5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5DEA-B018-4458-BAEF-5DD4778DA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C644-14B6-465E-8880-223410288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9AAD-F46F-4BF0-8583-F84D47A01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7283-3F92-4E55-9571-FF245DBA4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0B7E-E826-497F-BAE6-EA6D778D2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3ED2-E6B7-41DF-8830-1F2E0E3E2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39AB-A7E6-4BC0-B09B-E12322095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FB76-1D34-4651-84F5-DD0D97DC5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DC20-E134-41A1-BF81-08AC0A695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574F-3FCC-4814-B209-C4FD0D6FD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BD0E-24F6-4744-A909-B9E9DB863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D6AD-A538-482B-958A-607345F2C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3AC3-A8EC-4D0D-915A-A97CEBCE2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D833-A121-4EAB-A758-8EAB42DCF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EEF3-AE29-4D6A-B545-BECAAF7D2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4CFF-FBD0-4B3D-97DF-2ACA839A7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F481-0019-4D0A-A2CF-13FE1A0D0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30E1-ACF2-4486-B238-E75414347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FA29-8B76-42D5-BD5C-1623BA32A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8D31-878D-4945-91CA-03905AEB6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7B4D-B610-43DE-AB25-4760C7D73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B564-6E4F-4885-B6ED-7BF1426D0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ADCB-4E48-41A0-B0A5-A6B150E08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382B-6272-4F59-945F-6B5E5A304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1196-312F-49D6-B548-C46C5A732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1A48-5763-4FB6-9690-EE34F2061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FA42-D8BA-4721-962F-C794EF2AC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3DE3-620B-4E2A-B94D-49A699AB4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72C9-8283-4AF5-B19D-FFFFC9A88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9AA5-2639-4937-8C5D-3B23AD8F9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5283-1B10-486D-8B1C-AAA7224E1E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BFA8-4824-400C-9E9C-7A6A9970B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2F24-2BF8-4A04-BDB1-CB186F756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6E2F-0632-4B2D-9441-5E32E2036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A074-B105-4650-BAFD-09B9D1E5A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03ED-2B8D-4D63-B572-E66ABD73C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8BA2-3783-4CE6-A15C-9CD84BB97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709-6295-4ECB-88FA-C606264A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7BF-22B1-476A-977E-A9D4EA78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45005-40E2-4C0C-B55E-287E3438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D84A4-3D73-43A4-B09C-B04C440C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FD6EF-9951-4294-8EBB-13F4D7BD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D637F-80D9-4141-B52F-FCE5A359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3A806-8D12-4B5F-990C-81B2394B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E1F01-B357-41F4-BE5E-5AC77A86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11034-F239-4EF2-B1B0-1F4CF944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ACE82-7ACC-4349-A6AC-C70F2773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37BAE-ED83-4D59-9073-4A84147D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78F81-290C-4E55-B750-6B004FB5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F12-FA7C-4BBE-A90A-637A0926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42DD8-91E9-45FA-953E-5BEB2589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7BD68-AAC4-49F3-8877-7022413B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A311A-0A40-47BB-B78A-4AFA4CA1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452CD-46A5-4DF6-82B3-57912CA3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9C2AF-31AE-421C-976C-1ECFC04F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0A2EE-3F2D-4C95-9B5C-124F5C6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3A7E3-21AC-4563-9E0B-DB3453EA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54A27-3022-4ABC-B773-47E910BF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7FDE3-186E-4D3E-9628-31CE8824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B00FD-C288-44C5-8BAE-3528822A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51E-BD99-4312-9436-E895D49F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7BC51-F5DF-4CE5-B992-9F97E2F8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D67E7-6A71-4EEB-B5CF-542B0251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A7B3A-CCDB-46C1-8F81-F84BC7F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69B21-0130-4E6D-A1D2-B384A05D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D36AB-1BC1-43EC-A653-D23DDB63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3D906-B3FD-4199-8404-7929F6AB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FA299-FB63-4BB4-8FC7-67F6BBAE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392BA-F92C-4E27-A1B7-DA321102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14CF3-076C-4195-AEDA-000BB5C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A0DDB-D567-4B75-8D5A-64A46842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E951-A63F-4E1A-ACA1-AC497780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BBD37-A46C-4634-A26D-21CB567C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9E638-8F50-430A-ACC9-CE3C4BEC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DE3E2-184A-42D5-A2AF-73A292FC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A7897-2C6D-4EF1-A1FB-A9ECF5F4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81251-F4E7-4266-8847-557E2B7D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0C16F-97A5-4D85-9CF2-C30F78A8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F996C-73D5-4A1E-BE35-86F2B6C1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2A3CB-E85B-4072-B26E-2D3C605C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669E4-922C-4E92-9C68-DACB68B7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F0744-57FA-41FE-A166-4D430311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7147-D2A3-484E-8F05-C0563791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0AC0B-2F43-4FFE-9E4C-C9B9484C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D8D89-4128-4060-A919-3F112948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E201A-1A7E-45F0-881B-E09C74C9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A0A9D-D187-4712-BF49-23AF2EDD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7B49F-FC87-4884-870B-576B93A7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9215-014D-4755-935D-58601D35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A8DE-9062-4DAA-85C5-E05B7BC2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1175-35B6-4E88-96AD-B064F131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3648-C4EC-4BDD-8F2E-3C65024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5A2F-CDF7-407D-A8B0-25F7BC3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9800-BF8B-4FF4-A3B4-C31258DE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CEA8-7D0F-490C-89A3-D05691FD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CE10-D8FB-49A8-98A2-9CC0A54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BF86-8996-4681-87E8-C9C04080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675E-4318-4A05-88F2-41B0647C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5532-5C00-490C-88DD-876CAC3E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42386-74EC-4DF6-8BAE-A404E7CA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BE692-A044-4C52-B033-0C300CB4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5CD7F-349B-4CCA-AF00-69739A46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21792-53DD-4FEC-9873-F355B9DD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09C3E-F7B9-4838-93A8-7973D569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686-793A-4C44-B39D-ADC42AA2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759AD-B937-4729-A2F6-F46B18B3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4906D-754A-41DB-ACC6-795DF75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D7FB3-F670-4075-B8CA-948AABC2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5CCC4-9C0E-4E2E-9238-605AE85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CB4BF-0DF1-460D-AF77-34AE63E2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6F715-F7E8-4942-83A9-2A0A1D19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F05B2-5F65-45E8-8C78-74AA1A2E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FA820-3881-4447-BBF9-5F877F6B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568C-1C5F-4A72-B513-BA9860CD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E0D6-D28C-4F4E-AC5D-519FE47E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CAB-6A2D-48A7-AA01-43C6F7BB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E505-0109-4372-AB46-E96F72BE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CBCE9-EBA5-4D06-A9C6-06156503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9D8D7-E959-4F41-A3BE-30B9DC18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2AC8D-A43D-4D0E-A556-630210CA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DCAAC-83BB-4017-8C87-0207F980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C37C5-7F72-4084-BE3E-1A2FF417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8883F-5EB1-4E00-B73A-FDFB004E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98655-0C38-49D2-A614-FB6C0EAC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F0F3-7E6E-4448-99CE-ED01B7D8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20FA0-1AF8-4748-B79B-27DF55EC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981-654D-44B8-8ABB-2864AB93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67E14-859F-46D6-A3A1-690E3735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31B25-1AEF-4A96-A52A-0D8AE447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94589-59C8-4C83-B1B9-70325F52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FE6E8-28F6-495D-AB2C-767FA5B6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3AC88-ACB8-4AEC-A83A-713559EC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C677-650E-4116-95D0-3B925D4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29CA1-DAA7-4C0B-9F81-C0C443F8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0DFDE-6ABD-4E71-B2E1-04CDB352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BA51E-1AC6-497C-B08A-67F8CE10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0622E-7582-43A7-A017-91F44429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425-F5FD-4802-9755-0D2A699C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9104F-097A-46CE-8DCA-2930453A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7387B-7EEB-4EB6-898F-66A8E353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5C750-8345-4720-8975-237DA221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C19B-CC31-4B52-BB99-4B7B29F1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C78B6-4E51-4991-A90C-3087DA36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EFD7C-E2A6-4367-B01A-F94EBDF8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2579-A81C-480E-92D3-CB12294B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ACE5-68CD-4AF3-BC0E-75A0F301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6A06E-AF35-4FEA-8474-73ECA258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1768C-B865-47FE-B6B8-0657BD98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5A5-191F-4B63-8AF9-DD45E329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B77DD-D487-4E29-998B-5A7D2CC9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302C5-D3D2-420C-8418-2D026510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31B89-051F-4D2C-947C-8808A11B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6D66D-019C-435F-A4AB-8BCA3FE7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642BA-53CF-452E-8D20-5F8F3061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60FD5-FC06-45E9-82BA-70ACE2D9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F382D-E3AD-48D8-BA32-6BD73EA9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41CAF-60AB-46E9-8021-36E46A0C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C06A3-5E14-44D7-87DB-D3D796D6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AC534-A518-4541-A086-3C590ED7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4FD-6B40-4E06-B4B9-7EB4414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4B99C-4685-42A8-9BB0-F220BE11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EB945-8A89-42C9-96B8-42AF4A9D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D4D29-45EF-4BF4-9411-D62B2B37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BFBBC-EDA1-4387-84CF-9C8C46D3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0D415-C5B5-4160-87C4-7911ABA5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52C8A-E0A7-48D8-B19C-DDDFA7AF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80014-EAAF-4F57-B0AE-92A11344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28CA3-F57B-40F1-A489-2680E09C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0F225-691E-4F73-9035-F08A0346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553BD-6D21-4476-B948-A44A09E0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6A8-5353-45BB-A94F-34595251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189D2-554D-48B9-998B-9A68E090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0A21C-BE93-4011-ABEF-5BA773A2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1887-6723-4B31-83CD-4FAFA6FA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28D79-EC7A-4DDE-99CD-0565E08B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0B243-646C-4780-B81E-615B96CF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E2C38-33BE-4F34-9598-8FD9C215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37013-D53D-4F08-A212-945E856F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3228F-186C-4AA7-8501-2581AEB0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33757-5349-4962-895E-007DB547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5827C-1C21-427B-ADA9-23ED766B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5C7-2584-48EB-B10D-86F1E666D6A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EDFE001-92D3-4381-9E93-1EA31C884C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F0FF-2BD1-448D-866F-B587862AD72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8E12F1E4-FA79-42E7-9D51-3353CBDDA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FEB4-08BD-4B4B-93C3-1BF0F0DFE7F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0AB23785-40E0-42EE-9834-BBDFF963B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60E5-AAB0-4EAC-B5C2-C52D60CD3A2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894ED08-5270-4AC8-AF0B-6631DE4D3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BAFE-19CB-4978-A8F4-4EFDB1AD55F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9E8E4F3-B79B-4A43-AE2E-442CE184D9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6407-6416-4289-A22D-E2BC640C374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5DEDDD9-2CEF-4D1E-A933-6CC907DEE3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0F68-0324-42A6-ACE9-94C9AF5BC03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05C1DB3-1342-47A8-8261-08848B4AD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7A90-A238-4A22-9E08-356DFD0D6BC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D349A03-6710-475A-B288-A3049B9D3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FEDF-1CF7-49F5-AC69-D252F5481C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25D3907-D78E-4D24-97A6-08822D8331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1E8B-E061-495B-B163-0581E7C2ACD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A173394-EFF3-4E6C-8FDB-4BF7E27073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E163-8B18-4E35-BF2D-1C3DF79AA8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1E95DDF-ECFB-4FAC-ABD4-ECE4C3BBD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5A58-C741-4890-87A7-1C9DDCC0CF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232D990-7EBD-4A79-8CDD-9EB63CEFF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as it inherits the instance variables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herits all of its methods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herits the method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Hire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Hire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object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invoke one of these methods, just like any other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55DDBB8A-F0D9-4B46-ACA6-B56B4372A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 (Subclas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rived class, also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defined by starting with another already defined class,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se 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per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adding (and/or changing) methods, instance variables, and static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rived class inherits all the public methods, all the public and private instance variables, and all the public and private static variables from the bas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rived class can add more instance variables, static variables, and/or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E4E826B5-C7B8-41D9-B03F-3834AB8FB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erited Me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rived class automatically has all the instance variables, all the static variables, and all the public methods of th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bers from the base class are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her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s for the inherited variables and methods do not appear in the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is reused without having to explicitly copy it, unless the creator of the derived class redefines one or more of the base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12EA05EC-92A1-4C03-BA08-7E2A2382D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ent and Chil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se class is often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erived class is then 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hild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relationships are often extended such that a class that is a parent of a parent . . . of another class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cesto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n ancestor o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scend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7DFFECAD-BA54-415A-AA65-0C2E68FA7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riding a Method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a derived class inherits methods from the base class, it can change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verri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herited method if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override a method definition, a new definition of the method is simply placed in the class definition, just like any other method that is added to the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168D2DAB-8C98-453B-AAE3-501F2F0AB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Return Type of an Overridde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dinarily, the type returned may not be changed when overriding a meth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f it is a class type, then the returned type may be changed to that of any descendent class of the returned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variant retur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variant return typ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new in Java 5.0; they are not allowed in earlier versions of J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3A93BBCC-93EA-4FE6-99B6-8BBA05165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ariant Return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e following base cla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Base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Employee getSomeone(int someKe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is allowed in Java 5.0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DerivedClass extends Base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HourlyEmployee getSomeone(int someKe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26858E2E-A067-43DE-8A56-EBC526A42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Access Permission of an Overridde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cess permission of an overridden method can be changed from private in the base class to public (or some other more permissive access) in the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e access permission of an overridden method can not be changed from public in the base class to a more restricted access permission in the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43D5638-7B67-414C-B8A5-BF2810157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Access Permission of an Overridde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following method header in a base ca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 void doSometh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 header is valid in a derived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doSometh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 opposite is not val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following method header in a base ca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doSometh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 header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id in a derived class: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vate void doSometh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7C802A46-C5D3-405A-AE3C-603E6770F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Overriding Versus Overlo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confu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verri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method in a derived clas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verloa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method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method is overridden, the new method definition given in the derived class has the exact same number and types of parameters as in the bas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method in a derived class has a different signature from the method in the base class, that is overlo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when the derived class overloads the original method, it still inherits the original method from the base class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2F46C70-F684-4596-A25A-366BAF311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heri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ne of the main techniques of object-oriented programming (OO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this technique, a very general form of a class is first defined and compiled, and then more specialized versions of the class are defined by adding instance variables an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pecialized classes are said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her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methods and instance variables of the general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D0DCBB11-25DC-47C2-A3B9-8D09A76B3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od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modifie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placed before the definition of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n that method may not be redefined in a derived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the modifie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placed before the definition of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n that class may not be used as a base class to derive other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018DA977-15A4-4F19-8D91-44D97859A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erived class uses a constructor from the base class to initialize all the data inherited from the bas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invoke a constructor from the base class, it uses a special syntax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erivedClass(int p1, int p2, double p3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(p1, p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stanceVariable = p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above example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(p1, p2)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call to the base class constru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A7C9C5B-E4A0-4E70-B9F1-CF23C8DF0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all to the base class constructor can never use the name of the base class, but uses the keywor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t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all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always be the first action taken in a constructor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stance variable cannot be used as an argument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3BB46983-C233-48D9-87D2-0ED2D97BC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derived class constructor does not include an invoc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the no-argument constructor of the base class will automatically be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result in an error if the base class has not defined a no-argument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inherited instance variables should be initialized, and the base class constructor is designed to do that, then an explicit call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uld always b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4124A973-611C-4E24-A816-AED5277EC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the definition of a constructor for a class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as a name for invoking another constructor in the sam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ame restrictions on how to use a call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pply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it is necessary to include a call to bo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call using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be made first, and then the constructor that is called must cal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its first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48F0F7AC-1B4E-4749-8011-30A28E222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ten, a no-argument constructor us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invoke an explicit-value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-argument constructor (invokes explicit-value constructor us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fault argument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ClassName(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is(argument1, argument2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icit-value constructor (receives default value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ClassName(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type1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param1, 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type2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para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3ACDC086-04AA-4CB8-8210-E019A79B4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stru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HourlyEmployee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("No name", new Date(), 0, 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ove constructor will cause the constructor with the following heading to be invok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HourlyEmployee(String theName, Date theDate, double theWageRate, double theHou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FC4C7F94-2D75-4041-BC64-D12AB1FA2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An Object of a Derived Class Has More than On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bject of a derived class has the type of the derived class, and it also has the type of th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generally, an object of a derived class has the type of every one of its ancesto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an object of a derived class can be assigned to a variable of any ancestor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61EC507C-2F2D-4BCF-8A5F-01BDF13D8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An Object of a Derived Class Has More than On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bject of a derived class can be plugged in as a parameter in place of any of its ancesto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act, a derived class object can be used anyplace that an object of any of its ancestor types can b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, however, that this relationship does not go the other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ncestor type can never be used in place of one of its derived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E59A3C2F-A11E-4747-9E06-7538D0136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The Terms "Subclass" and "Superclas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rm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b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uper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ometimes mistakenly rever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uperclass or base class is more general and inclusive, but less 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ubclass or derived class is more specialized, less inclusive, and more comple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more instance variables and methods are added, the number of objects that can satisfy the class definition becomes more restri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EE5FF39-C490-4C1A-879F-0A5E5A47F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eritance is the process by which a new class is created from anoth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ew class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riginal clas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s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erived class automatically has all the instance variables and methods that the base class has, and it can have additional methods and/or instance variables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eritance is especially advantageous because it allows code to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u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having to copy it into the definitions of the derived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2D7D936D-23E9-4350-9370-537DD4EB5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hanc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ks to inheritance, most of the standard Java library classes can be enhanced by defining a derived class with additional meth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enables all the tokens in a string to be generated on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sometimes it would be nice to be able to cycle through the tokens a second or third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BE9225E6-F09C-4590-8F84-A08EAFD29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hanc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be made possible by creating a derived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</a:t>
            </a:r>
            <a:r>
              <a:rPr b="1" lang="en-US" sz="20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nhancedStringTokeniz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inherit the useful behavior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nherit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untToke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un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w behavior can be modeled by adding new methods, and/or overriding existing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method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okensSoF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s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an existing method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xtTok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s overri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A278C01A-0402-4BBE-8A42-FA1CB09EC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hanc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14" descr="savitch_c07d07_1of4"/>
          <p:cNvPicPr/>
          <p:nvPr/>
        </p:nvPicPr>
        <p:blipFill>
          <a:blip r:embed="rId1"/>
          <a:stretch/>
        </p:blipFill>
        <p:spPr>
          <a:xfrm>
            <a:off x="866880" y="1619280"/>
            <a:ext cx="7772400" cy="4367160"/>
          </a:xfrm>
          <a:prstGeom prst="rect">
            <a:avLst/>
          </a:prstGeom>
          <a:ln w="0">
            <a:noFill/>
          </a:ln>
        </p:spPr>
      </p:pic>
      <p:sp>
        <p:nvSpPr>
          <p:cNvPr id="6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6E38857D-CEF1-4AB4-94E9-E03AE3C60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5"/>
          <p:cNvSpPr/>
          <p:nvPr/>
        </p:nvSpPr>
        <p:spPr>
          <a:xfrm>
            <a:off x="91440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An Enhance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 Class</a:t>
            </a:r>
            <a:br>
              <a:rPr sz="3200"/>
            </a:b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(Part 2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8" descr="savitch_c07d07_2of4"/>
          <p:cNvPicPr/>
          <p:nvPr/>
        </p:nvPicPr>
        <p:blipFill>
          <a:blip r:embed="rId1"/>
          <a:stretch/>
        </p:blipFill>
        <p:spPr>
          <a:xfrm>
            <a:off x="866880" y="1619280"/>
            <a:ext cx="7772400" cy="2727360"/>
          </a:xfrm>
          <a:prstGeom prst="rect">
            <a:avLst/>
          </a:prstGeom>
          <a:ln w="0">
            <a:noFill/>
          </a:ln>
        </p:spPr>
      </p:pic>
      <p:sp>
        <p:nvSpPr>
          <p:cNvPr id="6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5F114A4C-4395-4C3B-A3ED-D706B5B69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91440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An Enhance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 Class</a:t>
            </a:r>
            <a:br>
              <a:rPr sz="3200"/>
            </a:b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(Part 3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7" descr="savitch_c07d07_3of4"/>
          <p:cNvPicPr/>
          <p:nvPr/>
        </p:nvPicPr>
        <p:blipFill>
          <a:blip r:embed="rId1"/>
          <a:stretch/>
        </p:blipFill>
        <p:spPr>
          <a:xfrm>
            <a:off x="866880" y="1619280"/>
            <a:ext cx="7772400" cy="2608200"/>
          </a:xfrm>
          <a:prstGeom prst="rect">
            <a:avLst/>
          </a:prstGeom>
          <a:ln w="0">
            <a:noFill/>
          </a:ln>
        </p:spPr>
      </p:pic>
      <p:sp>
        <p:nvSpPr>
          <p:cNvPr id="6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75D9D62-47E3-48FB-B5F5-2F65447F4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91440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An Enhance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 Class</a:t>
            </a:r>
            <a:br>
              <a:rPr sz="3200"/>
            </a:br>
            <a:r>
              <a:rPr b="0" lang="en-US" sz="3200" spc="-1" strike="noStrike">
                <a:solidFill>
                  <a:srgbClr val="034ca1"/>
                </a:solidFill>
                <a:latin typeface="Arial"/>
              </a:rPr>
              <a:t>(Part 4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7" descr="savitch_c07d07_4of4"/>
          <p:cNvPicPr/>
          <p:nvPr/>
        </p:nvPicPr>
        <p:blipFill>
          <a:blip r:embed="rId1"/>
          <a:stretch/>
        </p:blipFill>
        <p:spPr>
          <a:xfrm>
            <a:off x="866880" y="1619280"/>
            <a:ext cx="7772400" cy="2489040"/>
          </a:xfrm>
          <a:prstGeom prst="rect">
            <a:avLst/>
          </a:prstGeom>
          <a:ln w="0">
            <a:noFill/>
          </a:ln>
        </p:spPr>
      </p:pic>
      <p:sp>
        <p:nvSpPr>
          <p:cNvPr id="6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66043FCA-EFB6-40FC-9645-76F815F14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ion and Inheritance Pitfall: Use of Private Instance Variables from th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stance variable that is private in a base class is not accessibl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 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definition of a method in any other class, not even in a method definition of a derived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an object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cannot access the private instanc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ire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name, even though it is inherited from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se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a private instance variable of the base class can only be accessed by the public accessor and mutator methods defined in that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can us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Hire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Hire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s to acce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ire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FD42B324-E6EA-4082-81C0-7BE393159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capsulation and Inheritance Pitfall: Use of Private Instance Variables from th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private instance variables of a class were accessible in method definitions of a derived class, then anytime someone wanted to access a private instance variable, they would only need to create a derived class, and access it in a method of tha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ould allow private instance variables to be changed by mistake or in inappropriate ways (for example, by not using the base type's accessor and mutator methods on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22478FC6-304B-439F-8488-E2F645D82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Private Methods Are Effectively Not Inher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methods of the base class are like private variables in terms of not being directly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 private method is completely unavailable, unless invoked indirec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possible only if an object of a derived class invokes a public method of the base class that happens to invoke the privat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hould not be a problem because private methods should just be used as helping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method is not just a helping method, then it should be public, not priv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B9161C9C-054E-4BA6-801C-27AF27B5C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method or instance variable is modified b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rather th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then it can be access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de its own class defini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ide any class derived from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definition of any class in the same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difier provides very weak protection compared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allows direct access to any programmer who defines a suitable derived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instance variables should normally not be mark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ot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538F63E5-A2DA-49A1-AEC6-736F6CDBF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esigning certain classes, there is often a natural hierarchy for group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record-keeping program for the employees of a company, there are hourly employees and salari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rly employees can be divided into full time and part time wo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laried employees can be divided into those on technical staff, and those on the executive st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622C3D96-2FB7-42B3-9792-8F9DD51B1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stance variable or method definition that is not preceded with a modifier h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ckage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age access is 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riendly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s or methods having package access can be access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 n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ide the definition of any class in the sam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neither can be accessed outside the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2CC7AC65-28DC-46D7-AAE5-3F6BF30A9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ackag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that package access is more restricted tha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age access gives more control to the programmer defining th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ever controls the package directory (or folder) controls the package acc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CD075F1-6C2D-4600-BD58-29C6D5E2B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 Mod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8" descr="savitch_c07d09"/>
          <p:cNvPicPr/>
          <p:nvPr/>
        </p:nvPicPr>
        <p:blipFill>
          <a:blip r:embed="rId1"/>
          <a:srcRect l="0" t="1730" r="0" b="1984"/>
          <a:stretch/>
        </p:blipFill>
        <p:spPr>
          <a:xfrm>
            <a:off x="866880" y="1217520"/>
            <a:ext cx="6051600" cy="5205600"/>
          </a:xfrm>
          <a:prstGeom prst="rect">
            <a:avLst/>
          </a:prstGeom>
          <a:ln w="0">
            <a:noFill/>
          </a:ln>
        </p:spPr>
      </p:pic>
      <p:sp>
        <p:nvSpPr>
          <p:cNvPr id="6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4AD38CEB-7D79-4271-A942-708F5EFB7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Forgetting About the Default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considering package access, do not forget the default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lasses in the current directory (not belonging to some other package) belong to an unnamed package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fault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class in the current directory is not in any other package, then it is in the default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instance variable or method has package access, it can be accessed by name in the definition of any other class in the default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D10091D5-CF9B-4DFD-88EB-2547D0B1D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Restriction on Protected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rived from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a protected instance variabl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the classe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fferent packa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the following is tru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thod i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acce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name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inherited from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thod i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create a local object of itself, which can acce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name (again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inherited from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26866B56-B7E0-49C2-A00B-D720677BE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Restriction on Protected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if a method i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reates an object o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t can not acce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lass knows about its own inherited variables and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it cannot directly access any instance variable or method of an ancestor clas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less they are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 acce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enever it is used as an instance variabl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u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not acce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en it is used as an instance variabl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rue 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same pack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y were in the same package there would be no problem, becaus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cess implies package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73306032-F70F-472D-A5F0-ED0874AB8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"Is a" Versus "Has a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erived class demonstrates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"is a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lationship between it and its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ing an "is a" relationship is one way to make a more complex class out of a simpl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"is an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more complex class compared to the more genera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9764962-137C-4D2B-918F-C44583060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"Is a" Versus "Has a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way to make a more complex class out of a simpler class is through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"has a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latio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type of relationship,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mposi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ccurs when a class contains an instance variable of a class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contains an instance variabl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ire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o therefore,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"has a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290FD59-D3A1-4136-AC5B-40D8F699C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"Is a" Versus "Has a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kinds of relationships are commonly used to create complex classes, often within the sam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derived class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contains an instance variable of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"is an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"has a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EC6F9DF7-8159-482A-BED2-0E9E8D148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Static Variables Are Inher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c variables in a base class are inherited by any of its derived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ifier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otec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package access have the same meaning for static variables as they do for insta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2748907C-AA28-4FFC-B26B-C89E73FD1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employees share certain characteristics in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employees have a name and a hire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s for setting and changing names and hire dates would be the same for all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employees have specialized character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rly employees are paid an hourly wage, while salaried employees are paid a fixed w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s for calculating wages for these two different groups would be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22775E0-118E-43E3-826B-12383AF55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a Redefined Base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definition of a method of a derived class, the base class version of an overridden method of the base class can still be invo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y preface the method name with super and a d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ring toStr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(super.toString() + "$" + wageRat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using an object of the derived class outside of its class definition, there is no way to invoke the base class version of an overridde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A5EA5E79-2137-424E-A7C3-D547A2CB7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 Cannot Use Multipl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u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only valid to us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invoke a method from a direct 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at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not invoke a method from some other ancestor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were derived from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were derived form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, it would not be possible to invok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within a method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uper.super.toString() // ILLEGA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156E0722-C13A-4F2B-A4D9-376CF472F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ava, every class is a descendent of the class </a:t>
            </a:r>
            <a:r>
              <a:rPr b="1" i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class h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its ances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object of every class is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being of the type of its ow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class is defined that is not explicitly a derived class of another class, it is still automatically a derived class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A7DB0EE8-88EA-4845-8EE7-DA3F3798D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in the packag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ch is always imported auto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enables methods to be written with a parameter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ameter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replaced by an object of any class whatso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some library methods accept an argument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o they can be used with an argument that is an object of any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23E6377A-008A-4066-A5CE-BE382EF6C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some methods that every Java class inher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object inherits these methods from some ancestor cla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ither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self, or a class that itself inherited these methods (ultimately) from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se inherited methods should be overridden with definitions more appropriate to a given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Java library classes assume that every class has its own version of such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EB2A0169-2A76-4134-B5CC-AF384211B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ight Way to Defin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always inherited from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methods like the following simply overload i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equals(Employee otherEmploye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is method should be overridden, not just overload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equals(Object otherObje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069D5320-BF72-4994-A5F7-261A22198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ight Way to Defin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verridden vers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meet the follow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ther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type cast to the given class (e.g.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 new method should only do this 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ther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lly is an object of that class, and 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therObje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equal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lly, it should compare each of the instance variables of both objec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E68B934B-E302-49CE-8A57-E3F1AD667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tte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for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equals(Object otherObje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(otherObject == nu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 if(getClass( ) != otherObject.getClass( 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 otherEmployee = (Employee)otherObjec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(name.equals(otherEmployee.name) &amp;&amp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ireDate.equals(otherEmployee.hireDate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D687F5DD-6922-4959-A414-785E5A4E6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su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authors suggest 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erator in the defini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ead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rator will retur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the object being tested is a member of the class for which it is being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it will retur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f it is 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cendent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at 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possible (and especially disturbing),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to behave inconsistently given this scen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83608A05-DD16-4092-8679-8F1408088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su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 is an example using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. . . //excerpt from bad equals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lse if(!(OtherObject instanceof Employee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turn false; 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 consider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mployee e = new Employee("Joe", new Date(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urlyEmployee h = 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urlyEmployee("Joe", new Date(),8.5, 4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 testH = e.equals(h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 testE = h.equals(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7D130D7D-578F-4DC9-A39A-D3CF74692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Java, a class call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defined that includes all employ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lass can then be used to define classes for hourly employees and salaried employ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urn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can be used to defin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artTime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, and so f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8E1EDBB-42E6-4980-84FB-CA3A952DE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ersu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estH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b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ecaus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the same name and hire date a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es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ll b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ecaus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cannot be compared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this problem would not occur i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were used instead, as in the previou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280056DF-BE19-4CF1-B379-E12E044A1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et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8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 and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can be used to check the class of an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more ex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erator simply tests the class of an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used in a test wit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if two objec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ere created 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sam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7C88029C-83A2-4192-8BD9-2AE86417C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instanceo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perator checks if an object is of the type given as its second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 instanceof Class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ill retur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assN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otherwise retur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this means it will retur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type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y descend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ass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989CBD87-F990-481E-855A-21D6B906A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etClass(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object inherits the sam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from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method is mark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o it cannot be overrid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voc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lass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an object returns a representati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class that was used 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reate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s of any two such invocations can be compared wit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determine whether or not they represent the exact sam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object1.getClass() == object2.getClass(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7E99C739-189F-4E66-BE75-8FA0C34CD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ass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Group 6"/>
          <p:cNvGrpSpPr/>
          <p:nvPr/>
        </p:nvGrpSpPr>
        <p:grpSpPr>
          <a:xfrm>
            <a:off x="685800" y="1447920"/>
            <a:ext cx="8066160" cy="4182840"/>
            <a:chOff x="685800" y="1447920"/>
            <a:chExt cx="8066160" cy="4182840"/>
          </a:xfrm>
        </p:grpSpPr>
        <p:pic>
          <p:nvPicPr>
            <p:cNvPr id="539" name="Picture 5" descr="D7_1"/>
            <p:cNvPicPr/>
            <p:nvPr/>
          </p:nvPicPr>
          <p:blipFill>
            <a:blip r:embed="rId1"/>
            <a:stretch/>
          </p:blipFill>
          <p:spPr>
            <a:xfrm>
              <a:off x="685800" y="1447920"/>
              <a:ext cx="8001000" cy="41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4" descr="07_01"/>
            <p:cNvPicPr/>
            <p:nvPr/>
          </p:nvPicPr>
          <p:blipFill>
            <a:blip r:embed="rId2"/>
            <a:stretch/>
          </p:blipFill>
          <p:spPr>
            <a:xfrm>
              <a:off x="762120" y="1969920"/>
              <a:ext cx="7989840" cy="328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253BC174-29D0-4104-BC5D-26B1517DE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Footer Placeholder 8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an hourly employee is an employee, it is defined a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riv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rived 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defined by adding instance variables and methods to an existing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isting class that the derived class is built upon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as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hras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xtends Base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added to the derived class defin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HourlyEmployee extends Employ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5673890D-E183-4D9B-A3FF-BE6FFCC5A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derived class is defined, it is said to inherit the instance variables and methods of the base class that it ext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fines the instance variabl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ire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its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so has these instance variables, but they are not specified in its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lyEmploy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dditional instance variabl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age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u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are specified in its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-</a:t>
            </a:r>
            <a:fld id="{FB0E103E-B6D4-49E8-9361-8CE2D18F1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7:22Z</dcterms:modified>
  <cp:revision>13</cp:revision>
  <dc:subject/>
  <dc:title>Slide 1</dc:title>
</cp:coreProperties>
</file>