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C4B-6B35-467B-9BA1-5A775BDC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C1BF-B97F-4966-A5AE-D15CFCAE1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7AE7-21CA-4627-84B6-0D16E90FC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6E26-4FE2-4F96-A4FC-0D261FA82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F92-E9DD-47E7-A884-F75EBD4B6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934-06DF-442C-A3EB-1ECA3AD2E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5396-D86B-4ACF-B5C2-867C1D604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110-6EB2-4960-8BE8-4E8D89B02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6B92-9C45-4C89-BDFC-D6F785279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2E6D-076C-447C-A5B4-49FFB4DF4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1A4F-6414-49E7-A6A9-CCFE4BBA0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0DF5-A806-4321-9DCA-99E86F1E3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7C82-2B3C-452F-B4D9-1E21E6616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C0D3-FD1E-4715-9BF3-39CD77914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B357-AD11-4C0E-8F06-534D70027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985E-CC05-4A04-9DAD-5182BF17C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1FC1-7BCB-4888-AC8E-5E5F192AB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23E-CEF6-4237-A9F8-D6E4242B5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7560-4927-4277-B04F-F821DEF58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EFA5-37C6-4347-8A86-D1A58B181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A33-E2FA-44CC-8A45-2D1542F4C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3728-CD95-43A0-8C13-A5058770F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128-924B-4329-BD6B-9A78AE416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8AFF-ED5E-4CCC-BD99-5D078686D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88B2-0CE2-478D-B14D-4909DAA6E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ABA-6E31-4054-B7E5-D28522C07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D27D-C3EE-4669-B802-2BCE51664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FD32-C0E8-4643-8705-57105ACF7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32B-3C0A-4EEF-9B35-A983B9DBA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A33D-8F68-462A-AC38-C20512355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1692-B7F7-4BFF-A296-70B257AC2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F09-AC61-473F-94C1-623D13321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BF1A-E60B-48BC-9902-EE8A64AE1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51A5-F5E8-4C48-87BA-6AE7457B3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749F-E89D-4542-BB94-F36BDA20B5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DC5-DC89-4B22-8AC9-B8385C05B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F68-1C45-4525-9C94-33199F765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580D-A1F2-424B-8F72-2808157DE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A442-3D93-4BBD-B088-4DCECF03D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D69-7E72-4C61-9F5C-D553E2B38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FA14-55F1-47A9-8319-B2F73A080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D431-2D42-4C84-880A-E01221EC7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D63E-E2BA-44B0-A868-849803113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67B6-42E5-4849-B99F-128FDCF7E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A255-0EC1-4C4C-88DE-D851AF037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B704-35FD-4CA9-A639-B53390C41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9C5A-A9B1-4611-81B8-8CE4AE047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B76-F048-4FCF-BB47-6DC0481A3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ACC3-D469-41C2-A666-616BED52A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36A-0911-40EA-B1BF-4AC792204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1ECA-69C1-4F31-B5BE-577412C4C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308-9E1E-4441-BFDA-3B0912FAF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6E6-7A7D-46BF-A84A-A1BA8FBD0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D4D-02C1-4182-8FF1-783BB3092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26B-6DEB-43A6-996F-D95525D35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1EFA-E481-44DC-A50F-F72D44FD3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9183-465D-4D5B-94C3-483FFB76F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195-5417-4016-8B97-4DA44015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CA7-51D5-44C2-BC88-5BF9681F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0E023-838A-4AC5-8589-EE3A021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042D1-B2A3-4105-9E13-F4F5FC1C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DD283-A44F-4AF1-A61B-1F39BECA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20B2C-7355-4CFB-B398-7FCAF88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D5501-6433-46FC-BB65-9E32EB1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EEDFC-D639-4BAD-8AD6-CE673E84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AB3F8-C4DC-428C-B355-173CDF12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C956C-7131-42A2-BC82-E0920499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74D08-18D5-4CC4-8ECD-3D93E850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DE75F-620A-4818-A785-9559D305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A46-7BF2-4AFC-8353-63164DFC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EB05B-9205-4F5B-A87F-3E3ACFC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677FA-F812-4A56-AD15-DE77BE8A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0E573-2158-4D97-911E-EF4CED91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D9A02-CA6E-41D9-BBDC-F2EFA9CF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3712E-2A55-44F7-94E1-05B45002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6CEF1-F11D-4D4C-9356-CCFD494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53B47-3BF4-4DC1-99BA-03BA8B84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C58BE-0BCA-46D4-8523-B8EDA35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B3732-0E4E-49FE-BE34-8C2F6EE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1F8C7-5CDC-4CFC-8DBD-DB8D7ABA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C01-1A92-4F9F-8C10-7C16FA27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701EB-2EB2-4F56-A2F2-E00FA267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216D8-EA4A-4F8A-9AB2-4A5F0EDA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9432C-A653-4EF7-B9F6-2FCEF474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FD9F5-A595-4606-BC31-70D3898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17C6B-5969-4C73-8A5F-A113A957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333BE-C7E7-4430-BB04-04F026D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F6A01-DF60-4575-90D3-E81A20A6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1C43F-23BC-404F-8C93-47F91BC0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29CE2-033C-49B2-974D-AF523A8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B5B0-B758-45DA-B572-353D23F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0C3-F40C-4FF2-93D8-7891CEC6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3286-B893-4800-9BB7-A70C7A5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63ABF-DBA1-4AF9-8B4D-85D42C10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9E688-7F56-4156-988A-5F3DDE4C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8AFD0-D54D-499B-A66E-366E9E1D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0C310-D67F-4EDD-86B9-1E7EEFD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FEF6D-6386-47E4-8177-1DC382B0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0749A-6D35-4499-A3DD-2CA43076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C41C3-4BF2-45F2-8A72-A497F029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6291F-20B9-4990-8E4C-7CF5E686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F7964-6ACF-44B8-81AD-BE1F067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C27C-816E-45AB-9707-1C60A795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1B92C-AEF8-4818-887E-14C344F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CF2DF-138C-480F-86E7-0D02BEE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1DCD9-69CB-4C0D-A732-5732F6E5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25934-AAC7-4991-8E09-9D03857B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93921-4657-43CE-BFBD-F671FC1A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315101-702B-4C69-9245-8A1C5DB8E19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18D83D-D54B-4306-9C5B-1A3888BED0C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BC3756-0436-40C1-BF4B-FC3466B0889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D751A7-C952-4C09-8F9D-D0FF697394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105281-ED7D-41AB-BB17-A39DA25D1F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32E3-7969-475F-9AF2-43B380EF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6FB60-9106-44DE-96D8-8D0F5BEB95B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92D17-F62F-43CD-9CB7-CBFCCC5D054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755271-BB3C-43FC-B34B-A297B7871FA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084CF8-6A55-46DA-B4F0-1AA0D7A002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7C97B0-C589-487E-8EEA-6FB0391AB5B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67C1C0-9051-4488-868F-4BE8653692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58A03B-0FB3-4276-AEFA-F9CF685935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2615-3BCD-4453-9ECD-C2115B6C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F361-0D55-47E9-A526-D180BE74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92D-8C91-44D6-AB0A-8FC83865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26F3-D270-45A1-AC25-DAA95F3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692-3EC6-4709-9624-3EF35044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A126-4E08-43E4-B7EF-DF9EADF2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36E0-B4EB-4B62-BB67-713BCC05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088C-2DEE-447D-A3C5-D8A52FEC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591-64ED-4E54-AFAA-A54B05C6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843-873D-4A1F-9A58-742E0B1A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0FB87-6831-4E4D-BC58-F60EB45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6A810-8BFD-48BD-B7D1-040C2234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E89CC-AC4A-4B3B-96B3-AE470199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2CB42-90A7-4FF3-9CB5-C13061B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8F74D-ED48-421F-9D3F-CDDE88B7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C95-FE6B-4D5E-91E2-BAEC52D0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4ECCD-112C-495F-B22C-35CB620B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E7434-EB19-40C7-8191-EA6B544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E9EE1-9537-47FA-9539-556F6D5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C0979-76A5-417A-A0D1-93F5E91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E5A89-FB92-4A76-B7C6-D1E2E58C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0DF5D-C02A-4D8C-B9D1-A3D14C24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40478-DDD4-45A6-9EBA-AF47451D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073B-4676-4084-AD79-D6DD7E48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02D55-5AE9-4971-A481-E0BCE50B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A7BE-74E6-4E22-9201-37C4C457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688-581E-4457-B6A4-CEA7A4ED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B681-0DA6-479C-BBA1-16CB72D6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843A-1D5C-4DEB-9BA6-A935B548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8B1B-DA08-44A3-8741-34AB0E78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8264-C3CD-40CD-A606-CB0C73E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2483-1D73-4E97-B5D8-79E80110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9664F-4E59-4BE8-B37C-CACC06B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246D-A5E3-4240-BBCC-B186F484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E3931-F6B0-4F05-8FCE-1FC9BDC0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576DC-C411-49D9-BBF8-0E92B0B2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04930-C1B5-43B6-B3A0-2B1217DC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2AFA-A14F-435F-A598-2859ACD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E2377-A539-4A72-86D0-300F408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3BAF-A5D4-4C47-A693-3927D530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C0139-4249-4960-A403-A01D202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58C0E-08F1-41E3-B368-E4F1035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97CA-8EC6-41DF-AD98-8761A4BC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2617-6BA0-4B63-8B64-1DB7E362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874BF-A043-4D07-B347-AFE68D02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0FEAA-A6A9-42B4-9F69-9145BAC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A8D51-E5E9-4DB1-BD81-46F3EB38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EF706-C05F-4318-86CB-27857753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E72-7E6E-46D7-A2F4-A679C5DC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D51BE-1CB6-4E14-8157-5173C56D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FC852-D354-4CDD-93C4-181DA080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98851-7E05-43E9-8F08-D488573F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410C-8652-4A78-8E55-49509437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7B5D-0596-4749-A1B2-AD4BB868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6EEAD-0651-4B94-B0B0-917FC12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F3B9B-2EEC-47D5-BB20-80EE473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47121-B971-4799-A95B-90024EA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9182-8AB3-4ABA-8378-81844E3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21EA3-0795-476A-B8CA-AD8C7DE7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963-2C6D-4E94-9FD4-F4D7D6B0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727C7-3B78-469A-B52A-2BC0189D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328F-0982-4B6E-A8E0-BA9F96EA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AE6B6-18E1-451A-A29A-63858A99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5501A-0185-46BF-A117-C218C18A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E0AD2-538E-44D3-9736-0201719F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5B2A5-1A60-4986-82A4-3C8E8289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1B06C-E8EE-4C5A-B8F0-00512A54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65D62-7B47-44FA-B0C0-69BBA0C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F6F6E-95D3-40A7-9E04-F14167C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43AEF-5159-421D-9A76-8637A37E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0A0-9548-497A-8E83-8FDB30AD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29B1-85FA-4AE6-90AF-3277E278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38C19-2E69-438F-A7BD-6CB5511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B3DE4-E058-4967-A31B-2149D08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1582C-D216-447C-B361-FAED91E6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90CD3-F4E1-4F4D-B221-0A4EBD4F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41537-36F4-40EC-852E-D738D4FE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23AFB-92F4-4596-B15E-4D92E61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EF829-5BEE-4264-8EEB-C9AFEB28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A492E-0577-48E1-ADA1-CD47A187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3AD2D-F7BB-422D-8059-E1709A13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50F0-2079-4366-A9CF-F36E2C14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44C66-4FCD-42E0-BDBE-2034121C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89D02-3DB3-460B-B73B-708129E6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8550-7A31-4395-A724-4E7EC88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855CB-B6F7-4EAA-9F36-E05D444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EAFC5-299F-4479-9558-95893844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3943-E29F-4EA8-A879-6EDE7CEB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85902-1BCE-4BA9-9709-E377DB39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44A82-FF61-4521-AFC7-17BADF98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88BE0-79A8-4992-BA39-1AD07649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FAA68-8FA7-4088-85CA-BCBA6FC6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1AD9-F812-44C8-8C77-93A9B0DD10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EE4D25-7DB7-4C32-9A06-124C57B7D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8CB6-F71C-4D13-98E3-96C915BC6A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5C8452D9-868E-4437-BB51-49F9FD4E9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1A6D-83F9-4DC0-AAEB-1525178F0A0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3BE8B658-AC51-4ADC-B7CF-97211C1B2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E21B-BD4B-4719-A8A7-E631EF6661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4B50795C-2E6A-494D-951C-C575A1A351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7"/>
          </p:nvPr>
        </p:nvSpPr>
        <p:spPr>
          <a:xfrm>
            <a:off x="9140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95C475B0-FD29-4A0F-B182-E15CAA787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87FD-7721-468D-91AE-B1A60E4EA8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F4236CCC-8397-457F-A021-1933D9DDE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BFE3-F883-4B4D-A3F5-08A6B9A3C5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C02A4C6E-BC43-4DC6-A3F9-157340803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D4FB-6B5C-4347-8CDC-8265D1378BB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CB3FD2A0-C62D-4AB7-88C0-D393A7015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539-BDD0-4AC5-9E69-44F9408DAE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64B9AD26-37C4-4CDE-A524-083F2F959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31EF-CAAB-44CB-85B4-39DAE3CEC6C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867B0AC6-DAE8-4CC2-9CFC-37608436F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5747-05CA-4C99-A247-C51D8E972E8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69886B88-2B17-4335-A456-C13A17771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66D6-DD31-4902-8878-A5ABFAF8CC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6735C974-A396-426B-B469-9EB78C7D6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AF9-930E-430D-A1C1-95FA8A0295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9-</a:t>
            </a:r>
            <a:fld id="{6F431798-1365-45BF-BE09-8858ACFD9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55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 is executed, two things can hap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No exception is thrown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executed to the end of the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ski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ecution continues with the code placed afte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74982EF8-AC13-47FD-83A4-B2595B174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 An exception is thrown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and caught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t of the cod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ski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is transferred to a follow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(in simple cas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hrown object is plugged in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that follows th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executed (if a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10632E5A-A19E-4F6E-8055-C1E139EF4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more exception classes than just the singl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more exception classes in the standard Java libr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exception classes can be defined like any oth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edefined exception classes have the following proper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a constructor that takes a single argument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has an accessor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can recover the string given as an argument to the constructor when the exception object was cre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ogrammer-defined classes should have the same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051B575-02B4-4DF0-A53D-0D6EBD07E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 Classes from Standard Pack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erous predefined exception classes are included in the standard packages that come with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O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oSuchMethod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leNotFound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exception classes must be imported in order to use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io.IOExcep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AF5714E-3CDF-4312-962B-63C5A0828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 Classes from Standard Pack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defined exception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root class for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xception class is a descendent clas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an be used directly in a class or program, it is most often used to define a derived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ckage, and so requires n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8285055E-2E29-4C49-9E9D-F1A0D596B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 // method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 new Exception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tringArgument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message = e.getMessag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messag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 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C5FF8DA-744E-4B12-9487-3E1582659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exception ha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ance variable that contains som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tring typically identifies the reason for the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vious exampl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Argu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argument to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string used for the value of the  string instance variable of exceptio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the method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.getMessage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turns this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4239353-6D7E-4698-B7CB-3B0A6146F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Exception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throw an exception object of any exception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using a predefined class,  exception classes can be programmer-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an be tailored to carry the precise kinds of information need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ifferent type of exception can be defined to identify each different exceptional sit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A20988F-8657-4B0B-BE9F-DD4D27DA4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Exception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xception class to be defined must be a derived class of some already defined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be a derived class of any exception class in the standard Java libraries, or of any programmer defined exceptio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ors are the most important members to  define in an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must behave appropriately with respect to the variables and methods inherited from the 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there are no other members, except those inherited from the 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exception class performs these basic task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A1AC9B0B-376A-4FD0-BDC8-4FE301C3C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grammer-Defined Exceptio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D9_3"/>
          <p:cNvPicPr/>
          <p:nvPr/>
        </p:nvPicPr>
        <p:blipFill>
          <a:blip r:embed="rId1"/>
          <a:stretch/>
        </p:blipFill>
        <p:spPr>
          <a:xfrm>
            <a:off x="990720" y="1486080"/>
            <a:ext cx="7486560" cy="339084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E77AA2F-8573-4BBB-8810-ECA11AB98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Exception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the best outcome can be when nothing unusual happ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 case where exceptional things happen must also be prepar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exception handling facilities are used when the invocation of a method may cause something exceptional to occ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9112BEF-B794-4FA5-A430-A3322651D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An Exception Class Can Carry a Message of Any Type:  int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804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ception class constructor can be defined that takes an argument of another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stores its value in an instance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ould need to define accessor methods for this instance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FD3B1F3-BC5D-4F81-BDA8-850770A6C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ooter Placeholder 6"/>
          <p:cNvSpPr/>
          <p:nvPr/>
        </p:nvSpPr>
        <p:spPr>
          <a:xfrm>
            <a:off x="9144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lass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ssa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12" descr="savitch_c09d05"/>
          <p:cNvPicPr/>
          <p:nvPr/>
        </p:nvPicPr>
        <p:blipFill>
          <a:blip r:embed="rId1"/>
          <a:srcRect l="0" t="1719" r="0" b="1719"/>
          <a:stretch/>
        </p:blipFill>
        <p:spPr>
          <a:xfrm>
            <a:off x="880920" y="1382760"/>
            <a:ext cx="6691320" cy="4917960"/>
          </a:xfrm>
          <a:prstGeom prst="rect">
            <a:avLst/>
          </a:prstGeom>
          <a:ln w="0">
            <a:noFill/>
          </a:ln>
        </p:spPr>
      </p:pic>
      <p:sp>
        <p:nvSpPr>
          <p:cNvPr id="6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9436BBA-6A11-4E75-9028-1F007CA22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 Object Character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wo most important things about an exception object are its type (i.e., exception class) and the message it car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ssage is sent along with the exception object as an instance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ssage can be recovered with the accessor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the catch block can use the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CA07996-EC65-44AC-8B57-87D4EAA5F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er-Defined Exception Class 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 classes may be programmer-defined, but every such class must be a derived class of an already existing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used as the base class, unless another exception class would be more sui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wo constructors should be defined, sometimes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ception class should allow for the fact that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her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3F0F9039-C2F3-4241-A4F0-EE35E4C8E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rv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predefined exception classe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turns the string that is passed to its constructor as an argu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it will return a default string if no argument is used with the constru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behavior must be preserved in all programmer-defined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nstructor must be included having a string parameter whose body begins with a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use the parameter as its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o-argument constructor must also be included whose body begins with a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al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use a default string as its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A79FB8D3-ADC5-4C3E-9D80-B90A654CF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can potentially throw any number of exception values, and they can be of differing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ny one execution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, at most one exception can be thrown (since a throw statement ends the execution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different types of exception values can be thrown on different executions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A1283EC-10A6-4FA1-865F-222E76658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can only catch values of the exception class type given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hea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types of exceptions can be caught by placing more than on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after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number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can be included, but they must be placed in the correct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7360D136-3748-4081-9EBA-D4D8E4F8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Catch the More Specific Exception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atching multiple exceptions, the order o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s is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n exception is thrown i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s are examined in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one that matches the type of the exception thrown is the one that is exec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FDF40196-CAEF-4272-8457-3543A0855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Catch the More Specific Exception Fir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NegativeNumber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gativeNumber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gativeNumberExce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caught by the firs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before ever reaching the second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tch block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gativeNumber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ever be us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correct ordering, simply reverse the two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A13B6AA-1923-4C6A-9004-3EFFD04DC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rowing an Exception in a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it makes sense to throw an exception in a method, but not catch it in the sam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rograms that use a method should just end if an exception is thrown, and other programs should do something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such cases, the program using the method should  enclose the method invocation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and catch the exception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that foll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is case, the method itself would not includ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would have to include a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2A0153A5-0B25-45C5-B851-ED6502FD8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Exception Hand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library software (or programmer-defined code) provides a mechanism that signals when something unusual happ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rowing an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nother place in the program, the programmer must provide code that deals with the exceptional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andling the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C5A46BE-1060-492F-BB59-B03E67A5B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ing Exceptions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method can throw an exception but does not catch it, it must provide a war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arning is called a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 of including an exception class in a throws clause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claring the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nException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throws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states that an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Meth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thro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Method() throws An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314F4946-56A7-425D-BFD2-DB3671D80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ing Exceptions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method can throw more than one type of exception, then separate the exception types by com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void aMethod()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Exception, Another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 method throws an exception and does not catch it, then the method invocation ends immedi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FEA229D-ADC5-428E-A89C-D3CBE46CB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tch or Declare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rdinary exceptions that might be thrown within a method must be accounted for in one of two wa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that can throw an exception is placed with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, and the possible exception is caugh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within the sam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ssible exception can be declared at the start of the method definition by placing the exception class name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222B084-FB63-4A39-A664-ADFD29306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tch or Declare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echnique handles an exception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cond technique is a way to shift the exception handling responsibility to the method that invoked the exception throwing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voking method must handle the exception, unless it too uses the same technique to "pass the buck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imately, every exception that is thrown should eventually be caught by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n some method that does not just declare the exception clas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8D2903A-16C8-4466-B008-EB0461294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tch or Declare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ny one method, both techniques can be mi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exceptions may be caught, and others may be declared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se techniques must be used consistently with a given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n exception is not declared, then it must be handled within th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n exception is declared, then the responsibility for handling it is shifted to some other calling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if a method definition encloses an invocation of a second method, and the second method can throw an exception and does not catch it, then the first method must catch or declare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CD53B33-A9B9-4859-A1FC-A3210CFC1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ed and Unchecked Ex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s that are subject to the catch or declare rule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ecked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mpiler checks to see if they are accounted for with either a catch block or a throws cla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all descendants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checked exce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ther exceptions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check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ll its descendant classe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rror cla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ror classes a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ubject to the Catch or Declare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0314D9A-C34C-45F8-8C5D-2B1EDA15B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s to the Catch or Declare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ed exceptions must follow the Catch or Declare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in which these exceptions can be thrown will not compile until they are handl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hecked exceptions are exempt from the Catch or Declare R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in which these exceptions are thrown simply need to be corrected, as they result from some sort of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61090BBD-D59D-4927-8A15-C8BDAAA03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Throwabl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5" descr="D9_10"/>
          <p:cNvPicPr/>
          <p:nvPr/>
        </p:nvPicPr>
        <p:blipFill>
          <a:blip r:embed="rId1"/>
          <a:stretch/>
        </p:blipFill>
        <p:spPr>
          <a:xfrm>
            <a:off x="990720" y="914400"/>
            <a:ext cx="7653240" cy="5487840"/>
          </a:xfrm>
          <a:prstGeom prst="rect">
            <a:avLst/>
          </a:prstGeom>
          <a:ln w="0">
            <a:noFill/>
          </a:ln>
        </p:spPr>
      </p:pic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161B3E0-6F55-47D5-97F5-B35B22AD3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 in Derived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method in a derived class is overridden, it should have the same exception classes listed in it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 that it had in the bas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it should have a subset of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rived class may not add any exceptions to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it can delete s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683C73B-C896-40BE-B768-3E7B27136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an Exception is Never Cau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 every method up to and including the main method simply includ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 for an exception, that exception may be thrown but never cau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GUI program (i.e., a program with a windowing interface), nothing happens - but the user may be left in an unexplained situation, and the program may be no longer be rel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non-GUI programs, this causes the program to terminate with an error message giving the name of the exception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well-written program should eventually catch every exception by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n som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2E4155C9-B63F-4911-8B70-FD8214229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way of handling exceptions in Java consists of 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ry-throw-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contains the code for the basic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ells what to do when everything goes smooth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alled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because it "tries" to execute the case where all go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also contain code that throws an exception if something unusual happ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hatMayThrowAn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A7E1E7E-D5D8-4F94-A74E-4A4051A63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s should be reserved for situations where a method encounter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 unusual or unexpected case that cannot be handled easily in some othe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exception handling must be used, here are some basic guideli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s and list the exception classe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 within a method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in a different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3DA34BAC-B69A-44F7-875F-8BFF6A5F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an example of a method from which the exception origin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void someMethod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 Some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Exception(SomeArgume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E0D9EA9-CEC2-48BC-B316-1E3A4CD6A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Use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used by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ther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ther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then deal with the excep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otherMethod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SomeExceptio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oHandle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37E6E22-15F1-4F05-8899-B8B532091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 handling is an example of a programming methodology known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sing event-driven programming, objects are defined so that they send events to other objects that handle th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event is an object al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ing an event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iring an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1C01CCC-3F5D-44A6-9AFD-0996203A8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xception handling, the event objects are the exception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fired (thrown) by an object when the object invokes a method that throws the 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ception event is sent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, where it is hand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366B1284-1B0C-4DDE-AA17-3D2F55B74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Neste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to plac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and its following catch blocks inside a larg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, or inside a larg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set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-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 are placed inside a larg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different names must be used for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parameters in the inner and outer blocks, just like any other set of nested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set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-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 are placed inside a larg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and an exception is thrown in the inn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that is not caught, then the exception is thrown to the ou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for processing, and may be caught in one of it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87AC0C1-C040-4165-A64E-667016332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contains code to be executed whether or not an exception is thrown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it is used,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placed after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and its follow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 . . .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ExceptionClass1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 . . .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ExceptionClassN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 . . . 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oBeExecutedInAll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88DBE3D-4318-4D96-A48A-17AA06613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l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-catch-final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are inside a method definition, there are three possibilities when the code is ru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runs to the end, no exception is thrown, and the 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xception is thrown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caught in one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s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xception is thrown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, there is no match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n the metho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executed, and then the method invocation ends and the exception object is thrown to the enclosing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01C560FA-C288-4E7D-9D02-0BAB18976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hrowing an Ex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 can contain code that throws an ex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is useful to catch an exception and then, depending on the string produced b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Mess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r perhaps something else), throw the same or a different exception for handling further up the chain of exception handling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42BB8557-6C0B-4417-BE97-5095798B7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ssertionErr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 a program contains an assertion check, and the assertion check fails,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ssertionErr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uses the program to end with an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ssertionErr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riv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refore is an unchecked 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event the program from ending, it could be handled, but this is not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139FF16C-06D8-4ECD-9660-C443E115E0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PossiblySomeArguments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n exception is thrown, the execution of the surround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sto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ly, the flow of control is transferred to another portion of code known a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thrown is the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or, and is always an object of some exceptio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ecution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is call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rowing an 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D693619-796C-4652-8E9C-FA7F6FE16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ption Handling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xt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can be used to rea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s from the key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f a user enters something other than a well-for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alue,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putMismatch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be th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ess this exception is caught, the program will end with an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exception is caught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can give code for some alternative action, such as asking the user to reenter the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868AFA6-ABAC-4CFE-88F4-DECD5C26C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putMismatch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 the standard Java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that refers to it must use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, such as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util.InputMismatchExcep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descendent clas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untime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it is an unchecked exception and does not have to be caugh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or declared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catching i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allowed, and can sometimes be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D01037B3-C2FB-4FCF-BCE9-49BDAEC67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Exception Controlled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times it is better to simply loop through an action again when an exception is thrown, as follow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 done =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hile (! do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odeThatMayThrowAn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ne = tr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 (SomeExceptionClass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omeMore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566CF662-5BC0-4E98-BEEA-C03D53205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ontrolled Lo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11" descr="savitch_c09d11_1of3"/>
          <p:cNvPicPr/>
          <p:nvPr/>
        </p:nvPicPr>
        <p:blipFill>
          <a:blip r:embed="rId1"/>
          <a:stretch/>
        </p:blipFill>
        <p:spPr>
          <a:xfrm>
            <a:off x="880920" y="1627200"/>
            <a:ext cx="7772400" cy="2847960"/>
          </a:xfrm>
          <a:prstGeom prst="rect">
            <a:avLst/>
          </a:prstGeom>
          <a:ln w="0">
            <a:noFill/>
          </a:ln>
        </p:spPr>
      </p:pic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E47B894A-0D97-4C64-BE1A-EB3815EC4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ontrolled Lo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3" descr="savitch_c09d11_2of3"/>
          <p:cNvPicPr/>
          <p:nvPr/>
        </p:nvPicPr>
        <p:blipFill>
          <a:blip r:embed="rId1"/>
          <a:srcRect l="0" t="1563" r="0" b="0"/>
          <a:stretch/>
        </p:blipFill>
        <p:spPr>
          <a:xfrm>
            <a:off x="880920" y="1627200"/>
            <a:ext cx="7772400" cy="479916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96048757-DAA9-44AB-931D-101FECBCF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Controlled Loo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savitch_c09d11_3of3"/>
          <p:cNvPicPr/>
          <p:nvPr/>
        </p:nvPicPr>
        <p:blipFill>
          <a:blip r:embed="rId1"/>
          <a:stretch/>
        </p:blipFill>
        <p:spPr>
          <a:xfrm>
            <a:off x="880920" y="1627200"/>
            <a:ext cx="7772400" cy="323064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76875260-EB71-4A78-9D4A-0744FD567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IndexOutOfBounds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rown whenever a program attempts to use an array index that is out of b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normally causes the program to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ll other descendent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untimeExcep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is an unchecked exce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is no requirement to handle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is exception is thrown, it is an indication that the program contains an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 of attempting to handle the exception, the program should simply be fix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1BF67475-B393-435E-8F40-367DC2A3D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similar to a method ca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omeString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above example, the object of class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ExceptionClass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reated using a string as its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object, which is an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, is the exception object th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calling a method,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ll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63178D14-1BC2-4AD3-A035-6CDEF73A7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n exception is thrown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begins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has on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ception object thrown is plugged in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ecution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lock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tching the 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ndling the exce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n exception is thrown, it should ultimately be handled (or caught) by som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20DE7EAD-CA1F-44C2-B790-8B857D076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 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Handling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looks like a method definition that has a parameter of typ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not really a method definition, howe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is a separate piece of code that is executed when a program encounters and execut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n the preced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is often referred to as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xception hand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have at most one param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399B0EC-5A90-47C6-B282-7FA402084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ry-throw-ca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ch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 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dentifier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abo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heading is calle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 parameter does two th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specifies the type of thrown exception object tha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 can catch (e.g.,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object abo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provides a name (for the thrown object that is caught) on which it can operate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The identifier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often used by convention, but any non-keyword identifier can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7315E06F-2823-4B3C-86D2-FEE6652B1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8:03Z</dcterms:modified>
  <cp:revision>13</cp:revision>
  <dc:subject/>
  <dc:title>Slide 1</dc:title>
</cp:coreProperties>
</file>