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495F-8D65-42C4-88B2-E97084D65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FE72-4042-478C-AB41-105A9C25C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F2EB-BB3F-45C2-B704-09AA5A0A3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5FB0-E7AF-43D3-BBC2-9FE1A1AD9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B9FC-0DE2-4FDD-A6B2-EA04E72F3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F18B-42EC-4FCE-8E57-0F5F7DBFC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8556-388C-48EC-BACF-D20A488E2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33DC-24F3-4279-B5D9-6A07986C4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1BF9-E28C-4489-B1F8-870D6E6894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7447-F77C-44CB-A78E-68F3D07C4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C2B4-A60A-41F5-93B9-BE0867F07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4616-4995-40F5-A927-51187CA45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65E4-9849-4630-8AE4-0C0B01962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4E2E-1814-465B-8EF1-240C2FF5D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0EF7-150A-4E4D-A3E3-203C44509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6833-1642-4ED4-8E58-C966833E5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08DE-FFE0-4E3D-9ECE-9F0A35C6F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0056-97E4-4DA5-BFB3-165FF156F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47F9-5791-4ECB-8E0F-3D9638929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7D9E-9B89-48B8-A3FD-868E77AE1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7A5B-318D-4D07-B224-C00782412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AA3A-B0A2-429E-A28D-2F6F406A9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4167-CD47-430E-BFBC-1C576CCC0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009B-E350-478A-9C83-362986EF5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5631-EBC8-4A88-A9CD-57278FC16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075B-A206-4D93-B4A1-502473F7D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5361-0546-424C-B31B-1490842F2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07F3-A21F-4D4B-A782-FE117A8F1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0D39-AB1E-4B7C-8955-F9B178714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6EA3-6082-4661-AA05-66D0824B9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3549-BFDF-4ED2-B1B8-3F61E1821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5E17-FF38-4B07-94AD-A2FAF39F2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A86F-B07F-498F-9F1B-91D16255F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114C-50CA-4B1B-9CF0-BEC9A15AC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B86-AE60-4FF7-9D3E-7A3A6E1E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4AB-5043-489A-BF63-58EE0A13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ED25C-3555-4DD9-8626-4C6BEBF2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95601-6709-4084-BF11-8FFED6AD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897E9-D92C-41E4-8CD9-4C4F559A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49D93-838A-4374-BEAE-B9B6F2A9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968CD-4BA5-46FA-AEA1-E90ABFBA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75ACA-8EE3-4EB2-BA0B-A5021ACD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99E73-8EF8-4695-85AF-5F080D58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41C14-3AF5-4B53-A3A8-A29D73A8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36548-5D56-4A8C-9C6C-BEDA8CE0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D2CBD-1B97-46D8-AEB1-455794E5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586-08DF-485B-9ACF-521AC913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4CB11-2E69-4183-8FCA-5C6749AB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87443-B0C7-4831-BB21-DCF8C419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22F4C-3DA1-47F1-B470-F227BC1F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99E65-BDD4-4627-834B-92A57F28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BE131-6EB3-439E-A8FB-49DD0359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7A7D2-CE16-4BA1-8E32-2CF3EBA4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4A7FF-1032-4DFB-8734-217FB7B4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CE3EF-DCB9-4A02-8699-53F54CC5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D74E3-0529-4EC1-B1C1-B8AAC486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18853-A0A3-41A4-B144-6D842B11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490-588A-4529-8551-9B936AE9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409FE-2AAB-4D48-91DF-8764B7CE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282EC-8F6F-4F6F-B3F5-85491F72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B485D-359E-44D1-94EC-1BF8A714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6C001-2C60-4F91-A7F2-BDBCB36F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5EC38-C309-4FF2-878F-451B45EF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B3A3F-9AB2-4149-B83E-DDD62326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21263-551C-4551-A925-58B571ED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D663C-BDFD-4061-9E0A-3048BCAD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11A9C-4641-4901-8AD3-FF2A9FD7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1735C-B432-4D4D-9292-B4ED7EBC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FC7F-D552-4BF8-8F58-1CA94241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C16C9-548E-4010-97B9-FFCB6A24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949F4-811D-412F-9186-B3E6855C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49883-F793-4179-96F0-FF8D2A70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0FC5F-E877-4FCC-9AC7-D83F410C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7A62E-5579-4B02-A9B7-6B754B64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0E42C-3BE4-4B2F-892A-5ACA441D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C9B92-4D6E-41CA-AADE-60D43B32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30A01-42EE-4B9E-B13C-2059365D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9DC27-8CD5-4769-A838-B980F919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76A55-394A-4BAB-90D2-97D84327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220F-AA5B-4BAA-80E3-50437AE9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75586-3F76-43FB-987C-3396A43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1E675-1E15-4068-87E8-B634A589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9E526-B9A5-4FD9-A643-312A4BFD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476ED-E26E-40E8-B49D-ED47BE58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98ABB-6BB9-43CA-A97C-30845FB8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934F-722E-4B7A-9299-56B37075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878C-3DA2-4E33-9FFA-51B18CBF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0941-1AD8-4E66-98E9-8C5B27D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42B5-6FBB-4E4A-946E-2144F321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0CA1-DA04-4A86-8B5D-3A8933BA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4C4-9178-4E6C-BE29-F2DF44FD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5C3D-C36F-4F76-A577-5BFE617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D1FC-8CDD-4AF2-BC5A-7189298A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6F32-694A-485D-94FB-0070EE09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37D5-C399-4657-961D-DA02E9A6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F409-FD33-4526-AECD-3CC4414C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30D47-48E7-47D6-9948-5A6C0793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C3959-EFE2-421D-9291-6C4DF90D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70958-8BB7-42FE-92F2-821A2DD9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965AB-1A3B-4702-9E69-510007B5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78D47-F396-4A32-8052-D7DE34E5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634-5BBA-4FAA-B370-DBBD6499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A1FEC-C821-4C45-9690-CA54BDB6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24F0F-6943-4C58-9CAA-F58B681E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DBA9F-930A-4239-AA61-B492ADFD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B8698-B941-41F8-9051-F4680188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C8B57-DABC-4780-B630-45B5E955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E519A-BF08-4E5B-8AB8-8451C6FB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87355-2D6C-4B98-9E5C-B2065D2F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628B9-6D2F-4B11-9EBB-7923B68C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52E7E-5C97-403A-8C06-F5BC513F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B7755-DF9A-47CD-ACE5-444E536C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A94-97DA-4A57-BA7A-03562168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FDD26-64C2-4B6B-844A-F529903A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BDAD6-71F5-47DE-A651-E33F2026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38A1E-D3D0-41A3-A399-185BBC56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0E748-F82E-473E-9C33-D1D7FAD5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F668F-F405-4A3B-A4EC-270BD7BF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220F-43E4-4FFD-A8FB-032F9BE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4A52-384E-4372-80BD-653316DD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BE9FE-53CF-4D00-9FD9-1E446CAD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C94E-8DC5-4900-AC6C-65DA601A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4E4EB-CFF8-4B40-95F6-747B5296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D5E-E97F-48EB-AC3A-D6D6E024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85C84-F202-4FB7-B38C-B6C61E4B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61378-EBB3-4357-A991-D3088E90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5DB81-A789-4943-B1DC-1CD0D97D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4EEE4-5CA9-49B4-8070-6FD0098C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08A1E-BD32-4581-A4A4-178A18AF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F6DE8-8A5E-41F1-8BE6-725BABA8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08B6C-51EC-4279-AA95-263FC11A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8089E-CC51-415C-BECD-29502311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90D9F-A27A-402A-AF74-CB081B96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C4BA-0B21-4CFA-A112-CCE2E29C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2A1-DBB4-45A3-9655-E56DD7AE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327E3-08CB-4974-8B13-19DE3DDB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F1C03-C361-4132-A33B-251724F2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F611A-F569-49DD-A905-F67D9D39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6997A-76EE-47F1-8B7A-423B17C8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3DC24-15F9-4055-A670-BD70EFFA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04098-D22B-44AF-916A-7F37FD75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245B9-0679-4937-A9A6-3D5EC6B8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5F838-8BAA-489F-9C3A-6F9792FE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8CD09-2774-4AE7-B1A2-321037DA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DFAC7-5637-481A-9B58-9A6E5CBF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2FD-8A4A-4CF3-9BC4-E6507413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D1222-1FE8-4B3A-9E1A-A6C27CCB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05F93-FA94-46D7-A0A0-C1E148CE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AB7C0-D4F6-458E-A78D-1278D431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835AA-1A12-415A-B9F4-CA32D0FA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8AA1F-DD62-4933-A7B2-B36ADCDF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CFC83-B540-49D5-9E8D-C049E41C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7235C-72FB-4289-90C0-27460421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CD83A-F219-48B3-82C2-16AE17DB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34CD2-A981-4818-A02E-5AB87DC5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41878-036C-45A6-BAC2-57C0E337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B0C-B744-40B1-BC6D-1177E832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BC802-1500-4439-B17B-EFD92CD4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50A6C-37F9-4C83-8D34-C1C83487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8E98F-0A3B-4EF4-A293-1A7018BC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86D16-50E7-48A9-9703-3FCEE88F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FC028-4C5C-4569-AB20-41694871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AE759-0BC2-4559-ADF7-876F0D37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8AF4A-EB81-47C0-957E-BBBFE138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5A0BB-091D-4AF2-9298-EEEA2DDF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C6C74-3853-4BC9-8B85-BBEE0234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B5FB5-6743-46D2-A937-ECE97BFF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926-5842-40EA-9F34-23F99B35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9AE5C-4C9E-416A-9E3C-48CDF972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511BA-0A7B-4841-9C54-957C41EE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35D49-2014-4216-A9C4-2AC47680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9102C-9996-4F07-A601-8B89F6A3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C0EF4-6A11-4F05-8065-0303C0A3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BF82B-9AF3-409C-8CAF-608680FF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0744C-5B4A-410C-87B6-11E08A64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41363-8376-4264-9FE4-7F66AE60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01F03-B703-49C5-AB68-C31559EC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C7D0D-0DDD-40F7-A153-7F39A624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A06F-DF24-4256-8CC3-87967228F4B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F6920EE-EC67-4217-A9D5-8EF1819ED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64BD-BCF1-4407-8439-F8F8A5F049A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52CB2C8B-201B-4CAF-9928-503C9F580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A1A5-DC57-4365-A5EB-64B53680BB4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70118C23-E728-494D-B75A-956A9AB379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482A-8F10-4B4A-91BB-361B0D98B40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EDFF0008-256D-40A6-8DDF-D2D108A93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F16E-82AF-4E62-A5FA-5A972030D3F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8A989AE0-E998-4AFE-A744-62E517FEA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BDFC-DCE3-4C8E-81BD-77EF7A9E8BD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2F675962-4120-48A7-9EF7-8BF41C9737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D264-3493-4288-B8CB-C9D44902FDD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1DC0A9DB-43C0-4AE5-9089-F7E95C784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746C-19AA-4483-A593-774FBAE8C01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5C59FEA4-C9AF-4EC3-A4FC-E84FF30A8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D980-1E4B-447F-8434-48FA5E69BB9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E81C2F1E-0D70-4B72-8454-2C1B6207CF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83BE-B52E-4619-9EA1-B2808669FC3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882D22C1-C83A-494B-8D4C-E7EBF3B70E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DF18-4255-4CEF-91B6-C04AA5A0565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C2959F82-525D-44C2-BF27-CC3F7BC78F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66AE-C5C1-4A8D-A2BF-B132DC43CB6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2-</a:t>
            </a:r>
            <a:fld id="{A13B7314-AD1A-4838-8A4F-270EDF7452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ML and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her than show just the interface of a class, class diagrams are primarily designed to show the interactions among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ML has various ways to indicate the information flow from one class object to another using different sorts of annotated arr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ML has annotations for class groupings into packages, for inheritance, and for other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 to these established annotations, UML is exten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7D70B952-23E8-440E-A8D1-FE141CF06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eritance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heritance dia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s the relationship between a base class and its derived class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, only as much of the class diagram is shown as is need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each derived class may serve as the base class of its derived class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base class is drawn above its derived class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upward pointing arrow is drawn between them to indicate the inheritance relatio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A7D3AEC6-18B0-4E5F-88F5-F4C50E581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ass Hierarchy in UML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6" descr="D12_2"/>
          <p:cNvPicPr/>
          <p:nvPr/>
        </p:nvPicPr>
        <p:blipFill>
          <a:blip r:embed="rId1"/>
          <a:stretch/>
        </p:blipFill>
        <p:spPr>
          <a:xfrm>
            <a:off x="952560" y="685800"/>
            <a:ext cx="6362640" cy="5700600"/>
          </a:xfrm>
          <a:prstGeom prst="rect">
            <a:avLst/>
          </a:prstGeom>
          <a:ln w="0">
            <a:noFill/>
          </a:ln>
        </p:spPr>
      </p:pic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5830BB04-BE64-48FD-B9AF-77DB80487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eritance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rrows also help in locating method defin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look for a method definition for a clas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ine the class definition firs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method is not found, the path of connecting arrows will show the order and direction in which to 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ine the parent class indicated by the connecting arr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method is still not found, then examine this parent's parent class indicated by the connecting arr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inue until the method is found, or until the top base class is reach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CE2BA084-4690-467B-A1F9-334A3A0E4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Details of a UML Class Hier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6" descr="D12_3"/>
          <p:cNvPicPr/>
          <p:nvPr/>
        </p:nvPicPr>
        <p:blipFill>
          <a:blip r:embed="rId1"/>
          <a:stretch/>
        </p:blipFill>
        <p:spPr>
          <a:xfrm>
            <a:off x="966960" y="762120"/>
            <a:ext cx="6805440" cy="5657760"/>
          </a:xfrm>
          <a:prstGeom prst="rect">
            <a:avLst/>
          </a:prstGeom>
          <a:ln w="0">
            <a:noFill/>
          </a:ln>
        </p:spPr>
      </p:pic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4D891066-AD03-4C58-8C4C-FB39D3596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tter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design outlines that apply across a variety of software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useful, a pattern must apply across a variety of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substantive, a pattern must make some assumptions about the domain of applications to which it app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72806C6E-9E98-429B-9FAE-88C3B0E34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ainer-Iterato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class or other construct whose objects hold multiple pieces of da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rray is a contai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ctors and linked lists are contai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ing value can be viewed as a container that contains the characters in the st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construct that can be used to cycle through all the items in a container is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t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rray index is an iterator for an arr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ontainer-Itera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ttern describes how an iterator is used on a contai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D7FA9514-F4DD-445D-9D3F-8E64B3F59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apto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daptor pattern transforms one class into a different class without changing the underlying class, but by merely adding a new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one way to create a stack data structure is to start with an array, then add the stack inte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1B0405DB-2174-4425-8B2C-7444CD8EA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del-View-Controlle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del-View-Controll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ttern is a way of separating the I/O task of an application from the rest of the ap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del part of the pattern performs the heart of the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ew part displays (outputs) a picture of the Model's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troller is the input part:  It relays commands from the user to the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EDF2D876-FE32-4DA5-941B-15415E7E2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del-View-Controlle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of the three interacting parts is normally realized as an object with responsibilities for its own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el-View-Controller pattern is an example of a divide-and-conquer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big task is divided into three smaller tasks with well-defined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6845801A-6B97-4DA5-9133-989A79883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UML and Patt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L and patterns are two software design tools that can be used within the context of any OOP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ML is a graphical language used for designing and documenting OOP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tern in programming is a kind of template or outline of a software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attern can be realized as different code in different, but similar,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DE5B07A7-83DF-4054-BAE2-15481069C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del-View-Controlle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an example, the Model might be a container class, such as an arr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ew might display one element of th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ntroller would give commands to display the element at a specified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el would notify the View to display a new element whenever the array contents changed or a different index location was gi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CCB98649-AA15-4806-9D77-FF47CE890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odel-View-Controlle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application can be made to fit the Model-View-Controller pattern, but it is particularly well suited to GUI (Graphical User Interface) design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ew can then be a visualization of the state of th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E2D3EF05-70C9-4A27-8BA5-69A4575F8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-View-Controller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6" descr="D12_4"/>
          <p:cNvPicPr/>
          <p:nvPr/>
        </p:nvPicPr>
        <p:blipFill>
          <a:blip r:embed="rId1"/>
          <a:stretch/>
        </p:blipFill>
        <p:spPr>
          <a:xfrm>
            <a:off x="961920" y="1295280"/>
            <a:ext cx="7496280" cy="4067280"/>
          </a:xfrm>
          <a:prstGeom prst="rect">
            <a:avLst/>
          </a:prstGeom>
          <a:ln w="0">
            <a:noFill/>
          </a:ln>
        </p:spPr>
      </p:pic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0839278E-83D5-4099-987E-0D6A62947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orting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efficient sorting algorithms all seem to follow a divide-and-conquer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an array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using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, these sorting algorith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ide the list of elements to be sorted into two smaller list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ursively sort the two smaller list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recombine the two sorted lists (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to obtain the final sorted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781D9116-AB63-4D7E-922C-EF0E20171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Sorting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arranges the elements in the interva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begin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roug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end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divides the rearranged interval a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plit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wo smaller intervals are then sorted by a recursive call to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he two smaller intervals are sorted,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bines them to obtain the final sorted version of the entire larger interval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pattern does not say exactly how the method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definitions of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ll yield different sorting algorith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86FBCE05-7FF3-40DD-B8A2-C580E25F0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vide-and-Conquer Sorting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Picture 5" descr="D12_5"/>
          <p:cNvPicPr/>
          <p:nvPr/>
        </p:nvPicPr>
        <p:blipFill>
          <a:blip r:embed="rId1"/>
          <a:stretch/>
        </p:blipFill>
        <p:spPr>
          <a:xfrm>
            <a:off x="990720" y="1295280"/>
            <a:ext cx="7515000" cy="4029120"/>
          </a:xfrm>
          <a:prstGeom prst="rect">
            <a:avLst/>
          </a:prstGeom>
          <a:ln w="0">
            <a:noFill/>
          </a:ln>
        </p:spPr>
      </p:pic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8EB66921-3AB6-4E0B-BB8A-0531C9443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ge 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implest realization of this sorting pattern i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rge s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fini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very 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ivides the array into two intervals without rearranging the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fini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more compl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 There is a trade-off between the complexity of the method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ither one can be made simpler at the expense of making the other more complic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7BD0B798-F986-4C33-A8BD-15BD98CF8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rge Sort: 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joi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rging starts by comparing the smallest elements in each smaller sorted 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maller of these two elements is the smallest of all the elements in either subinter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kes use of a temporary array, and it is to this array that the smaller element is mo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cess is repeated with the remaining elements in the two smaller sorted intervals to find the next smallest element, and so f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9CB928D5-BDDB-425E-A7CC-E193FACFC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uick s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lization of the sorting pattern, the defini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quite sophisticated, whil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tterly 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, an arbitrary value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plitting 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ho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lements in the array are rearranged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elements less than or equal to the splitting value are placed at the front of the arr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elements greater than the splitting value are placed at the back of the arr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plitting value is placed in between the t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149E3215-EC7C-4E45-9038-C38581052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that the smaller elements are not sorted, and the larger elements are not so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all the elements before the splitting value are smaller than any of the elements after the splitting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maller elements are then sorted by a recursive call, as are the larger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these two sorted segments are  comb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actually does no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C5053C22-08C4-4B6D-8755-C01F8F5B7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eudocode is a way of representing a program in a linear and algebraic man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implifies design by eliminating the details of programming language synt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al representation systems for program design have also been 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lowchar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ructure diagra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ex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ified Modeling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M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yet another graphical representation form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ML is designed to reflect and be used with the OOP philos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CA3349A3-7689-4109-A925-390D0490C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trictions on the Sorting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all patterns, the sorting pattern has some restrictions on where it a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applies only to types for which 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perator is def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applies only to sorting into increasing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ttern can be made more general, how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perator can be replaced with a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lued method called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mp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ethod would take two arguments of the base type of the array, and return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ased on the comparison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5808BA2A-263E-4F03-A7BC-46C0B6652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the Sorting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efficient implementations of the sorting pattern are those for which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divides the array into two substantial size chu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rge sor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vides the array into two roughly equal parts, and is very 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quick sor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pl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y or may not divide the array into two roughly equal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it does not, its worst-case running time is not as fast as that of merge s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209F633D-FF77-4AD1-B474-866C1F5BE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the Sorting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lection sort algorithm (from Chapter 5) divides the array into two pieces:  one with a single element, and one with the rest of the array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of this uneven division, selection sort has a poor runn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t is 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B17B8168-5C0E-4104-B7E4-25C9CBE5E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gmatics and Patt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terns are guides, not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not necessary to follow all the fine deta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 quick sort was described by following the sorting pattern exa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ice that, despite the fact that method calls incur overhead, the quick sor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 does not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ractice calls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ould be elimin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optimizations can also be done once the general pattern of an algorithm is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32A305C2-9ACB-455A-94F3-9C0FD4988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of UM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OOP has developed, different groups have developed graphical or other representations for OOP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1996, Brady Booch, Ivar Jacobson, and James Rumbaugh released an early version of U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s purpose was to produce a standardized graphical representation language for object-oriented design and document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n, UML has been developed and revised in response to feedback from the OOP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day, the UML standard is maintained and certified by the Object Management Group (OM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FA3DDF01-99E9-4517-B169-B3A76E911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are central to OOP, an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 dia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easiest of the UML graphical representations to understand and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diagram is divided up into three s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op section contains the class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iddle section contains the data specification for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ottom section contains the actions or methods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80796EF0-353F-426D-BFE5-AB8D2B5B1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specification for each piece of data in a UML diagram consists of its name,  followed by a colon, followed by it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name is preceded by a character that specifies its access typ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inus sign (-) indicates private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lus sign (+) indicates public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harp (#) indicates protected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ilde (~) indicates package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33308FD1-BF7B-4AA1-B747-AD9B142D2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method in a UML diagram is indicated by the name of the method, followed by its parenthesized parameter list, a colon, and its return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ccess type of each method is indicated in the same way as for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296559FC-52DB-48BF-B8B8-87C94B1C9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lass diagram need not give a complete description of th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given analysis does not require that all the class members be represented, then those members are not listed in the class dia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sing members are indicated with an ellipsis (three do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FAC1E924-90ED-4C24-BB59-AD2B52B59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UML Class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6" descr="D12_1"/>
          <p:cNvPicPr/>
          <p:nvPr/>
        </p:nvPicPr>
        <p:blipFill>
          <a:blip r:embed="rId1"/>
          <a:stretch/>
        </p:blipFill>
        <p:spPr>
          <a:xfrm>
            <a:off x="942840" y="1819440"/>
            <a:ext cx="7515360" cy="3219120"/>
          </a:xfrm>
          <a:prstGeom prst="rect">
            <a:avLst/>
          </a:prstGeom>
          <a:ln w="0">
            <a:noFill/>
          </a:ln>
        </p:spPr>
      </p:pic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2-</a:t>
            </a:r>
            <a:fld id="{B12696A8-B5A8-4ABF-AC3E-00103235B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9:05Z</dcterms:modified>
  <cp:revision>13</cp:revision>
  <dc:subject/>
  <dc:title>Slide 1</dc:title>
</cp:coreProperties>
</file>