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2846-6169-4974-8354-F6058B8B9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2FC6-A598-45B3-ACB0-8EEB223FE5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E798-7DF8-4F3D-8E80-8B0BEFF744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B3F9-B68D-469D-B993-F48BBBE833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904A-1184-4F54-9399-E4A0538222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C2B8-DF4D-45A8-8633-5B63ADC445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BB95-2439-43DA-9EF6-2A4EF89238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EDA3-428C-4E07-81B0-9CC1B8B7C7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07D6-9D15-450D-9376-73D0F9047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F653-84D0-4238-97F3-03BCFF35B8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4BC2-0371-4205-B3D4-6303684FEC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63F9-D629-4026-8668-10B47F6F4C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F320-7224-4376-8C4D-DEA33B55D3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4ADC-5C6C-4FF4-B3EB-AA56E93149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B698-4799-4D8B-8AAF-68329097A6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CC3E-EDF5-4048-8BA3-554D34AE84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BEB1-6C6F-4526-850F-410A6B1644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A307-DB87-4887-AD76-77627F0CB2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A655-8DD9-46A2-99BE-BB2938D828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6AF3-3BDC-47CA-876F-19FCBB53FE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BE12-20B1-4A12-B35C-4C5C00E93B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AD1E-DB4A-462D-A84D-C2E77A925C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9208-A23D-4BAA-AF91-AEEED6E6C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295E-C1E2-4462-839F-2FC08FDE9F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FC6E-9B30-4CF6-AE7E-D63E2F85CD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B02E-1B45-45AD-AE3D-50BD7B321F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5AE0-40FB-466D-B38B-B58DE9A602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A79E-5354-452D-B45F-847094C5C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A652-F6BF-42EA-9B3C-E54EDFD2C8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D9CE-3AF7-462E-A84A-0FF93781DD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68F5-D4A8-4210-A76D-C01D421A3C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D0FA-BFFF-455B-96CC-1C26925E89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1D5E-FD56-49EE-9C03-FDCCF59ED1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DEB0-3D4B-4A46-8AC0-0A08FFF66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CA05-03E9-48E8-8C38-7BBD746C0F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4C89-9848-469F-8164-C391E7E789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186C-7C05-4B3D-B5F3-2579B03AE8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541B-88CA-4CDA-9A12-2E8D41DD7E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CB4F-E071-4B5B-9A63-7FA97F6AC2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9DFC-E078-4954-B3EC-270EC31A0F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0C41-9B95-4FC8-B19B-6B14CC83AF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594C-D47E-4EB0-A8AA-1353E5E9BD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76AB-CD41-4FB2-B5BD-20B5324A16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3CAD-5E99-40C2-83EA-9E46E04412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3E8E-64E9-43B7-8357-A21A719230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A6F5-DE1F-435F-B235-BA6B53F7A0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AD4C-CA73-4E58-8CB4-7F1E1F4568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EC36-2458-45A8-AC6E-DE2E19AADA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0533-E1E1-4CDB-98AC-2EFBFFCC64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ADA3-85F0-4E0B-8689-5502D5A440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5773-AFA8-440C-831A-C0FA28D7B8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042F-7EDE-42B6-8A2E-6A50970B2F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FDE2-ABB0-4DAE-AE76-5A27613BE5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4365-0F1F-4247-B932-B98AFB5541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7B9D-346E-49CC-8BCF-9ADCF93EC3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227A-6859-41B5-9B61-9EA27A5DDC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4CF5-DD1F-4CA0-AD0D-67FD318EDA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4881-70F6-43E5-9177-90E7376AFD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84D0-4BC1-4091-ACA1-D3553C67CD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5310-AE5C-4E6B-A615-9BE24A72E6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8519-34B3-484A-932C-EE32C2836F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21EB-8586-45E1-AF91-5938B94E4B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0227-AAC9-4ECC-AA9D-381EE418B4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9146-D4A5-467D-9757-7307E3A2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2F47-180F-4731-B66A-ED3B9104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F3C03-5867-4A82-9834-BEBBFB14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8751A-2E77-4C49-A575-480160D2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92C27-8B30-47FA-885A-ED3B2947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77503-FF40-49B0-9853-5FB88E65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951AA-E977-406F-9E0E-043903E4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4CD21-5E28-4156-821A-84EE87FD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5E258-57FE-4E59-90A7-790C64C2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D97FE-E328-4F6F-B8A5-533278C1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62CD7-E528-46FE-AF46-8887BE74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458322-7BAD-4211-BB60-81E1DECC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CA1C-FC1F-49F3-99FD-AA6FDC00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FD349-AB3E-42CC-A6E1-7F6A0404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EE9D9-12FE-4F51-9024-BE17D6D2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33F1A6-4DB4-412A-9A95-7720F8A7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AAD8C-5A5E-41E4-97A2-41787414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191B3-916F-4A81-A8EB-46B0C1E3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F285F-FB52-448E-8887-CC951BFE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52D78-17CE-4D4B-8ABB-BD2045A6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394F0-0774-440E-9C26-7349B56A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BBB56-2F7F-4753-8DC2-B57908AD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E4013-25F5-422E-BD43-B5C7721C9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08FC-2EF6-4105-B887-7CD5C5D78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03163-062E-4A1A-89FC-DDBAFF2B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86DD9-251C-45B7-840B-1E5DDA985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61389-17F7-45E2-9F25-E7F31C77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B2340-EFF3-4EB3-9C97-88EFC09A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9ABFB-6583-40AA-9361-3FB329E2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F229E-B3E2-40E7-A7E1-D1600476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C3AE5-E26E-49CD-B915-9AD2AD5E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5E577-4812-49AD-8D8F-3FFC622C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96EAF-8BF2-45CD-8AA8-0F157911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08CE9-7D1A-4454-9F6C-DCFC4202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C341-7F05-4EB5-A1BA-277ACBEA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E06D0-542D-44E0-8326-08D34172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7CF8F-5457-4A1E-B3A2-53B3D52E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FC145-8282-45FB-9B04-EFF159088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D361D5-AFAC-415F-AFBA-B9C836F46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2DF99-C791-40B5-8881-319DA368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8E0BAA-6534-4710-AE53-AAA40B3C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CACEE-6B46-40D9-906C-AE851941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E10CB-2C84-47F8-892A-F20FD255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94459A-13EE-4FF9-B0BE-2007C85E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FECB8C-6BD9-4B09-B5E2-4AC07BE5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9D87-EA9E-4831-8F98-CFF290B1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F3A8B-BEC0-45E8-82DD-1A15E677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A471F-7694-4B35-85EA-E25C8448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86370E-0EF8-45CE-BC9F-895F8540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76B043-8C8E-4A36-88A4-E74A0A3B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CB8492-89C6-4189-9E17-78294EF6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E28F-7FE6-497C-B245-12BBF647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5B8F-2B47-4038-8ED7-09FF4EC2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52D3-DBF4-4BEA-B5A4-63DE8098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A570-88AE-4E42-8AD5-F8892F37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2E10-6EA9-469B-A72B-00F989FB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631D-F340-4BF1-86AA-BAFAE5F5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533B-4147-418A-841B-9F008E2E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7DBA-3ACC-42D4-9B07-B15F1A76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CE84-86E4-4C03-B476-9EFB9E9D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CC9B-A745-42F4-A2C4-59D1AAFC9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BA8D-E77B-445C-88B1-64BD0876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5C4E1B-00C9-47FC-BD5F-80ACA3D1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2EB774-6EEC-452D-8703-F485B6E4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1DB02E-8CEE-415A-9FF0-89C6E344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A86F1B-10D6-400C-9B9C-910559BA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932CE9-2A29-4FC2-8999-ADD68BCD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52F6-3241-4398-A66A-D777A3CF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261AD9-9F03-464F-89C7-BB032DAB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A354A0-9B89-4539-A3A1-982BAAF9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FC464E-107F-4C3F-A726-B15743C8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4910EC-80A6-44EA-9BF1-74282C48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58C922-B89E-4CDA-962F-C588EF03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F665D5-685E-455A-ABF4-663DA45C8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832AB4-C7B6-4318-A3A1-25AD5079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6994B-FBCC-4DA2-8571-24FD50CC7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1B191-F836-47F5-9F06-C802A2FD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A4DDD-A96B-4F0E-99A2-2EE37837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1A9A-7864-49F5-95D0-DD549114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1F5FE-E03A-4D23-83BD-DC376B60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CC5BB-1B30-46AD-AAB9-002E8CA9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46D9D-6F69-4D37-BCBF-46D2C0CC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8453D-B6EC-4A9B-88F9-4E743CDA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4AC34-014E-4BC0-817C-C3269EC1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26310-5196-46BA-AE99-DD3C96B8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8FF0F-1252-4784-87A3-C534E97B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97504-ED26-48D7-88F6-E7449E20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9C6B8-2583-450B-858B-3E954DDF6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02FF1-706E-4D19-A0DA-D1AA480E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BF77-9A53-4A6C-BBFA-DAD6E4C7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5725B-E754-4C60-A57D-545EE1FE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94768-3F81-45A2-980B-A3D8AF5C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8068F-7C4C-454F-AF25-C5F2BF52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983B6-7E01-409D-B49E-EDE14D55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65464-6235-4E48-A609-A1F82F43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FAB0E-6C44-4A90-908D-E1DBEB27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DBEF1-AD96-4E03-8EDB-8164D585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07AD6-4F7A-4225-BA36-A8CBE514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3509C-1DE6-4D3A-86BE-52BBDF32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14AE1-4553-47AC-9EDC-454E94C5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B9DC-236A-4A01-97E7-B14E0F6D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296C8-EB52-490C-BD11-3951806A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71497-194D-4414-B77F-0DB0BBEF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A6549-F0E7-43C5-A43D-0E191892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058B9-DB5C-450C-8CE3-776218FD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0DB0A-0DAA-4FD1-A242-45B72361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CA82C-2AB6-445E-ABA7-20CE40BD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5F22E-B27E-4B7A-81F3-432961C5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70D2D-7C7D-4D88-B9C2-2023EE30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E164E-3C23-4A81-883E-C0D7B04E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24294-BAF2-4CC2-B8AA-CD14F6E2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110E-FB67-4318-BA80-54B89B45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EB3A8-546D-41AD-A708-2990482F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D4C95-0F2E-4287-B31A-4B0A96E5B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0EB96-A63D-4CE2-8F59-0763FE61D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5ED8A-C9AF-4582-8AF4-9425FB57C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7B21D-F7FD-4A85-8610-EAA5686A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BCB32-1019-4B5B-A988-0B7A249D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DD15B-03A7-4C9D-8DA6-5CF6D6FC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D3A52-9D68-43A7-8B4F-0554C915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73447-F7AB-45D9-A119-B10CD1A4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63325-B422-49E8-8D53-B2413F99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25C9-E3C2-4B3B-93CB-6D089306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FAFD3-B9FE-402C-A55A-CD0F1091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EFE21-3E1A-4CDC-B221-0ED74091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E1C5A-8272-47E0-B5B9-38470688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8C091-C70F-45C0-9853-A4E0B0D40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05E4F-5BB8-4E6E-A6FB-AB1B494E2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EF2CD-3A17-42A2-8ADB-3FA0E529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3EA92-3E72-4652-B2C9-557172FE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44F3D-0E93-46DA-837B-5DC1B586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FBC5C-6B27-4909-992F-B362493E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D8A34-5A48-410E-B2C3-D39859EE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6B29-E3D5-4CE6-9796-A047B87E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7F3E7-27A2-4B34-868E-46A751CD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EC296-AA60-4A7D-8732-2EE23394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1CF4D-AAA5-4439-BE69-21446BBD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F7187-F6D0-488B-9A2F-8B592365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9BF24-D948-42DE-A383-73A8CDDA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2E9E5-F2C8-4B7F-89EC-F2A8F45BA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BDC18-1015-4F16-9244-BF2494F4E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175B1-9DC3-4A8A-8540-3DD044D92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94DA4-734B-422F-BD05-127ECCEA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C5CB3-D9CD-4EF4-A7D8-44113E0C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8197-8782-4B89-B8B0-45BBA21F882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559E249-54C7-444C-84F4-76C605080B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E103-F652-4F31-A03F-ACACE906CA0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6361B2A2-9BA4-4722-BED8-3DDE2EC921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10D8-1ACB-48C6-B8B7-14487283A29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3DDA2953-0A4B-4EBF-91C6-3182979FA7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CC15-A9B5-4D42-84CD-90DB316C79A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1C13DFD5-0C14-4313-9643-3314F871F9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2D7C-0E3A-42E8-8463-9E346D99E19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981C6FF5-82CB-46F6-8159-FCBEE65F8E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876920" y="632412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2BAF-EDF4-4C9F-82CC-17BB52C2D08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DB863990-5A74-4D6B-9A62-11C86FF7D7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456840" y="6339960"/>
            <a:ext cx="4343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276C-662B-40FC-9ECE-A8D8BB700E9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AD0F1C67-B36E-4B3C-B0CB-36C02B749E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58F5-13AC-4E39-9AEA-DF8E2D3D126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84CFE7A2-53B7-44F0-AA65-53CBCF78FA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9033-F621-4CF4-AEF8-1D02B81301A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37D106E2-6EBF-44FF-A1F4-902D77FE90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061F-9124-4705-A279-4881CB603BA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54C897A5-D247-4B8D-9229-6DA9A4E024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86A9-A048-4C2D-8C33-C776EB9ED56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A6B44C13-6F1E-4085-B051-7BB8164297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319B-92BD-4D70-8D87-BAEF1A09E4C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0709830E-81BF-46F1-8402-C74AF81B9E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638680" y="456840"/>
            <a:ext cx="327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5638680" y="1905120"/>
            <a:ext cx="3353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fining Classes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152280" y="0"/>
            <a:ext cx="553572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Rectangle 4" descr=""/>
          <p:cNvPicPr/>
          <p:nvPr/>
        </p:nvPicPr>
        <p:blipFill>
          <a:blip r:embed="rId2"/>
          <a:stretch/>
        </p:blipFill>
        <p:spPr>
          <a:xfrm>
            <a:off x="5937120" y="4943520"/>
            <a:ext cx="3054600" cy="53640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5"/>
          <p:cNvSpPr/>
          <p:nvPr/>
        </p:nvSpPr>
        <p:spPr>
          <a:xfrm>
            <a:off x="5715000" y="6427800"/>
            <a:ext cx="2819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pyright © 2008 Pearson Addison-Wesley. All rights reserv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Picture 6" descr=""/>
          <p:cNvPicPr/>
          <p:nvPr/>
        </p:nvPicPr>
        <p:blipFill>
          <a:blip r:embed="rId3"/>
          <a:stretch/>
        </p:blipFill>
        <p:spPr>
          <a:xfrm>
            <a:off x="8458200" y="6324480"/>
            <a:ext cx="685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le Names and Lo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inder:  a Java file must be given the same name as the class it contains with an added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.jav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t the 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, a class name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MyCla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ust be in a file name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MyClass.ja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now, your program and all the classes it uses should be in the same directory or fol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15BB1267-CEE3-4E2D-B090-1AEB8B93D9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About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two kinds of method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s that compute and return a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s that perform an 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type of method does not return a value, and is called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type of method differs slightly in how it is defined as well as how it is (usually) invok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905EF93B-CA16-43BA-8BDF-CD825DC88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About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ethod that returns a value must specify the type of that value in its head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034ca1"/>
                </a:solidFill>
                <a:latin typeface="Courier New"/>
              </a:rPr>
              <a:t>public typeReturned methodName(paramLis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vo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hod uses the keyword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vo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its heading to show that it does not return a valu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200" spc="-1" strike="noStrike">
                <a:solidFill>
                  <a:srgbClr val="034ca1"/>
                </a:solidFill>
                <a:latin typeface="Courier New"/>
              </a:rPr>
              <a:t>public void methodName(paramLis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08A45E63-B3CC-4FA5-80AE-03FABCBB4E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is a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rogram in Java is just a class that has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you give a command to run a Java program, the run-time system invokes the metho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 that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, as indicated by its head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static void main(String[] arg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94B498D4-B99F-45BD-9053-9D4D27CB2F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at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ody of both types of methods contains a list of declarations and statements enclosed in a pair of bra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34ca1"/>
                </a:solidFill>
                <a:latin typeface="Courier New"/>
              </a:rPr>
              <a:t>public &lt;void or typeReturned&gt; myMethod(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larations                               Body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ements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AutoShape 5"/>
          <p:cNvSpPr/>
          <p:nvPr/>
        </p:nvSpPr>
        <p:spPr>
          <a:xfrm>
            <a:off x="6172200" y="3581280"/>
            <a:ext cx="152280" cy="129564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C649D451-9EDA-40B5-A079-06B71CFDD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Footer Placeholder 7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at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ody of a method that returns a value must also contain one or mor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tat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 specifies the value returned and ends the method invoc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return Express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34ca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Expres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be any expression that evaluates to something of the type returned listed in the method hea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547B78F2-F4A4-4CEF-8D5B-9AD96A0E5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at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vo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hod need not contain a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tatement, unless there is a situation that requires the method to end before all its code is execu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is context, since it does not return a value, a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tatement is used without an express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retur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5484C29F-1371-48BF-BBE4-D413215B5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 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nvocation of a method that returns a value can be used as an expression anyplace that a value of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typeReturn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be us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ypeReturned tRVariabl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Variable = objectName.methodName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nvocation of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is simply a state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bjectName.methodName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129E4EC9-204B-404F-9AD8-A89AF3B59F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 Method Can Be Used As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ethod that returns a value can also perform an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want the action performed, but do not need the returned value, you can invoke the method as if it were a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vo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hod, and the returned value will be discard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objectName.returnedValueMethod(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F93F904B-40DA-4106-BB43-8B7BA82EBE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cal 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ariable declared within a method definition is called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ocal 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variables declared in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are local 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method parameters are local 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wo methods each have a local variable of the same name, they are still two entirely different vari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FD4A4364-2388-4156-BDC3-23BAECFDC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es are the most important language feature that mak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bject-oriented programm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O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ing in Java consists of defining a number of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 program is a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helping software consists of 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programmer-defined types are 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es are central to Ja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EA74A15A-86F4-4BBF-9392-F26663EA8F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obal 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rogramming languages include another kind of variable called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lob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Java language doe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global vari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7291DEE4-8F78-4BD1-89C3-C213CF18B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loc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nother name for a compound statement, that is, a set of Java statements enclosed in braces,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{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ariable declared within a block is local to that block, and cannot be used outside the blo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a variable has been declared within a block, its name cannot be used for anything else within the same method defi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6CFDED60-BBD6-4AA4-97F1-E89A2590BB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laring Variables in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declare one or more variables within the initialization portion of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ariable so declared will be local to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oop, and cannot be used outside of the lo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need to use such a variable outside of a loop, then declare it outside the lo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8B5352D9-7D84-4AAA-B8A1-96C67D4B7B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meters of a Primitive 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thods seen so far have had no parameters, indicated by an empty set of parentheses in the method h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ethods need to receive additional data via a list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order to perform their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aramet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also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ormal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A31C299D-B672-4687-8389-F639DBB45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meters of a Primitive 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arameter list provides a description of the data required by a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ndicates the number and types of data pieces needed, the order in which they must be given, and the local name for these pieces as used in th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double myMethod(int p1, int p2, double p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6B8F7ECE-45EC-442C-B4F1-6610306101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meters of a Primitive 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a method is invoked, the appropriate values must be passed to the method in the form o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rgu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guments are also calle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ctual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umber and order of the arguments must exactly match that of the parameter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ype of each argument must be compatible with the type of the corresponding para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t a=1,b=2,c=3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 result = myMethod(a,b,c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CF390B75-B54E-4892-9BDB-34DB4A6A9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meters of a Primitive 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preceding example, the value of each argument (not the variable name) is plugged into the corresponding method parame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method of plugging in arguments for formal parameters is known as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all-by-value mechan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88FC1EBC-CBDA-410B-9207-C18F48780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meters of a Primitive 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rgument and parameter types do not match exactly, Java will attempt to make an automatic type conver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preceding example,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alue of argument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ould be cast to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imitive argument can be automatically type cast from any of the following types, to any of the types that appear to its righ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yte</a:t>
            </a:r>
            <a:r>
              <a:rPr b="1" lang="en-US" sz="2400" spc="-1" strike="noStrike">
                <a:solidFill>
                  <a:srgbClr val="034ca1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hort</a:t>
            </a:r>
            <a:r>
              <a:rPr b="1" lang="en-US" sz="2400" spc="-1" strike="noStrike">
                <a:solidFill>
                  <a:srgbClr val="034ca1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34ca1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long</a:t>
            </a:r>
            <a:r>
              <a:rPr b="1" lang="en-US" sz="2400" spc="-1" strike="noStrike">
                <a:solidFill>
                  <a:srgbClr val="034ca1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034ca1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h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2" name="Group 6"/>
          <p:cNvGrpSpPr/>
          <p:nvPr/>
        </p:nvGrpSpPr>
        <p:grpSpPr>
          <a:xfrm>
            <a:off x="2666880" y="5105160"/>
            <a:ext cx="1523880" cy="228960"/>
            <a:chOff x="2666880" y="5105160"/>
            <a:chExt cx="1523880" cy="228960"/>
          </a:xfrm>
        </p:grpSpPr>
        <p:sp>
          <p:nvSpPr>
            <p:cNvPr id="623" name="Line 4"/>
            <p:cNvSpPr/>
            <p:nvPr/>
          </p:nvSpPr>
          <p:spPr>
            <a:xfrm>
              <a:off x="2666880" y="5334120"/>
              <a:ext cx="1523880" cy="0"/>
            </a:xfrm>
            <a:prstGeom prst="line">
              <a:avLst/>
            </a:prstGeom>
            <a:ln w="9360">
              <a:solidFill>
                <a:srgbClr val="034c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Line 5"/>
            <p:cNvSpPr/>
            <p:nvPr/>
          </p:nvSpPr>
          <p:spPr>
            <a:xfrm flipV="1">
              <a:off x="4190760" y="5105160"/>
              <a:ext cx="0" cy="228600"/>
            </a:xfrm>
            <a:prstGeom prst="line">
              <a:avLst/>
            </a:prstGeom>
            <a:ln w="9360">
              <a:solidFill>
                <a:srgbClr val="034ca1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5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10704DDD-4BE8-4D6B-B2D1-8B6CFB25B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Footer Placeholder 9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meters of a Primitive 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arameters is often thought of as a blank or placeholder that is filled in by the value of its corresponding arg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a parameter is more than that:  it is actually a local vari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a method is invoked, the value of its argument is computed, and the corresponding parameter (i.e., local variable) is initialized to this va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n if the value of a formal parameter is changed within a method (i.e., it is used as a local variable) the value of the argument cannot be chang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4826C6FF-61B2-4ADE-9026-CEC4960C5B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al Parameter Used as a Local Variable (Part 1 of 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2" name="Picture 6" descr="savitch_c04d06_1of5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2595600"/>
          </a:xfrm>
          <a:prstGeom prst="rect">
            <a:avLst/>
          </a:prstGeom>
          <a:ln w="0">
            <a:noFill/>
          </a:ln>
        </p:spPr>
      </p:pic>
      <p:sp>
        <p:nvSpPr>
          <p:cNvPr id="6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FC4536CB-3F2D-4035-90CF-6053B37C90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 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already know how to use classes and the objects created from them, and how to invoke their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, you have already been using the predefine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canne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you will learn how to define your own classes and their methods, and how to create your own objects from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2BF6CE24-888F-4A90-B760-C41C4E2B02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al Parameter Used as a Local Variable (Part 2 of 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6" name="Picture 4" descr="savitch_c04d06_2of5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457880"/>
          </a:xfrm>
          <a:prstGeom prst="rect">
            <a:avLst/>
          </a:prstGeom>
          <a:ln w="0">
            <a:noFill/>
          </a:ln>
        </p:spPr>
      </p:pic>
      <p:sp>
        <p:nvSpPr>
          <p:cNvPr id="6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DE69E45F-1BD4-4136-94DA-EE14D449C4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al Parameter Used as a Local Variable (Part 3 of 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0" name="Picture 3" descr="savitch_c04d06_3of5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2416320"/>
          </a:xfrm>
          <a:prstGeom prst="rect">
            <a:avLst/>
          </a:prstGeom>
          <a:ln w="0">
            <a:noFill/>
          </a:ln>
        </p:spPr>
      </p:pic>
      <p:sp>
        <p:nvSpPr>
          <p:cNvPr id="6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A2CFD040-480E-4E8A-9DD8-047127ECF1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al Parameter Used as a Local Variable (Part 4 of 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4" name="Picture 3" descr="savitch_c04d06_4of5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556080"/>
          </a:xfrm>
          <a:prstGeom prst="rect">
            <a:avLst/>
          </a:prstGeom>
          <a:ln w="0">
            <a:noFill/>
          </a:ln>
        </p:spPr>
      </p:pic>
      <p:sp>
        <p:nvSpPr>
          <p:cNvPr id="6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1BF56126-9FBA-47B9-827A-F3F7A352F6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ormal Parameter Used as a Local Variable (Part 5 of 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Picture 3" descr="savitch_c04d06_5of5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206880"/>
          </a:xfrm>
          <a:prstGeom prst="rect">
            <a:avLst/>
          </a:prstGeom>
          <a:ln w="0">
            <a:noFill/>
          </a:ln>
        </p:spPr>
      </p:pic>
      <p:sp>
        <p:nvSpPr>
          <p:cNvPr id="6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DCB1615F-F88C-4A50-AB11-2B2798319C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Use of the Terms "Parameter" and "Argument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be surprised to find that people often use the terms parameter and argument interchangeab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you see these terms, you may have to determine their exact meaning from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C6912B62-6487-46CE-A964-CE1D1F4E1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Parame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instance variables are understood to hav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&lt;the calling object&gt;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front of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n explicit name for the calling object is needed, the keywor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be u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34ca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myInstanceVariable</a:t>
            </a: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ways means and is always interchangeable with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is.myInstanceVari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C89210BF-E26D-4B66-9C31-6447171007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Parame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34c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used if a parameter or other local variable with the same name is used in the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wise, all instances of the variable name will be interpreted as lo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nt someVariable = this.someVari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 Box 4"/>
          <p:cNvSpPr/>
          <p:nvPr/>
        </p:nvSpPr>
        <p:spPr>
          <a:xfrm>
            <a:off x="2935080" y="4876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 Box 5"/>
          <p:cNvSpPr/>
          <p:nvPr/>
        </p:nvSpPr>
        <p:spPr>
          <a:xfrm>
            <a:off x="6468120" y="487692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Line 7"/>
          <p:cNvSpPr/>
          <p:nvPr/>
        </p:nvSpPr>
        <p:spPr>
          <a:xfrm flipV="1">
            <a:off x="3200400" y="4647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Line 8"/>
          <p:cNvSpPr/>
          <p:nvPr/>
        </p:nvSpPr>
        <p:spPr>
          <a:xfrm flipV="1">
            <a:off x="6858000" y="4647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19E331CF-9648-4A53-9F60-64592313A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Footer Placeholder 10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Parame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arameter is a kind of hidden parame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 though it does not appear on the parameter list of a method, it is still a parame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a method is invoked, the calling object is automatically plugged in for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th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BE8897DF-8902-4169-BC51-D02CCA4A5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ods That Return a Boolean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vocation of a method that returns a value of typ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boole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turns either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fore, it is common practice to use an invocation of such a method to control statements and loops where a Boolean expression is exp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34ca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if-el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s,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oop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77202D98-E806-48E5-85C1-A69D5BF4D3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thod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oSt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va expects certain methods, such a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qual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o be in all, or almost all, 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urpose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alued method, is to compare two objects of the class to see if they satisfy the notion of "being equal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:  You cannot us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==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compare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boolean equals(ClassName objectNam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urpose o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is to return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alue that represents the data in the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String toString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E13924F6-FB32-4182-94DD-BBF16455B4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lass Is a 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lass is a special kind of programmer-defined type, and variables can be declared of a class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alue of a class type is called an object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n instance of the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A is a class, then the phrases "bla is of type A," "bla is an object of the class A," and "bla is an instance of the class A" mean the same t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lass determines the types of data that an object can contain, as well as the actions it can perf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9B2ACE85-BB89-4853-9259-AE4D71BD9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ing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method should be tested in a program in which it is the only untested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rogram whose only purpose is to test a method is called 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river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method often invokes other methods, so one way to do this is to first test all the methods invoked by that method, and then test the method itsel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is calle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bottom-up tes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times it is necessary to test a method before another method it depends on is finished or tes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is case, use a simplified version of the method, called 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tub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return a value for tes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A72A67DB-FC86-44AB-BD89-076636EDA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undamental Rule for Testing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Every method should be tested in a program in which every other method in the testing program has already been fully tested and debugg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CA49A508-DC6B-4D92-9F14-D3743C7FD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tion Hiding and Encaps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formation hid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the practice of separating how to use a class from the details of its 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bstrac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another term used to express the concept of discarding details in order to avoid information overl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ncapsul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ns that the data and methods of a class are combined into a single unit (i.e., a class object), which hides the implementation detai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ing the details is unnecessary because interaction with the object occurs via a well-defined and simple interf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Java, hiding details is done by marking them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2B145F95-FC2F-4902-B013-0A7E27650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ouple of Important Acronyms: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I and AD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PI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pplication programming interfa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a class is a description of how to use the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rogrammer need only read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I in order to use a well designed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DT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bstract data typ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 data type that is written using good information-hiding techn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A2753C13-63BC-46CA-A4C6-140FD08D0B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odif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odifie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ans that there are no restrictions on where an instance variable or method can be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odifie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ans that an instance variable or method cannot be accessed by name outside of th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considered good programming practice to mak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stance variable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methods ar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thus provide  controlled access to the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ually, methods ar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nly if used as helping methods for other methods in th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C3F286FD-59CC-4EE7-A29E-CD8EAEEA1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cessor and Mutator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ccess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s allow the programmer to obtain the value of an object's instance vari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data can be accessed but not chang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name of an accessor method typically starts with the wor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utat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s allow the programmer to change the value of an object's instance variables in a controlled man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oming data is typically tested and/or filte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name of a mutator method typically starts with the wor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8D7CFA5D-6989-44B7-98DD-42AFC39A46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caps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10" descr="savitch_c04d10"/>
          <p:cNvPicPr/>
          <p:nvPr/>
        </p:nvPicPr>
        <p:blipFill>
          <a:blip r:embed="rId1"/>
          <a:stretch/>
        </p:blipFill>
        <p:spPr>
          <a:xfrm>
            <a:off x="838080" y="914400"/>
            <a:ext cx="7772400" cy="5500800"/>
          </a:xfrm>
          <a:prstGeom prst="rect">
            <a:avLst/>
          </a:prstGeom>
          <a:ln w="0">
            <a:noFill/>
          </a:ln>
        </p:spPr>
      </p:pic>
      <p:sp>
        <p:nvSpPr>
          <p:cNvPr id="7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B2841767-12F6-4E2A-BC38-AE9B07B27F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lass Has Access to Private Members of All Objects of the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in the definition of a class, private members o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bject of the class can be accessed, not just private members of the calling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19F9C714-6892-4080-9640-072F703086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tator Methods Can Return a Boolean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mutator methods issue an error message and end the program whenever they are given values that aren't sen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lternative approach is to have the mutator test the values, but to never have it end the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ead, have it return a boolean value, and have the calling program handle the cases where the changes do not make sen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5794299F-EF17-495B-9320-550329F0A2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conditions and Postcond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recondi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a method states what is assumed to be true when the method is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ostcondi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a method states what will be true after the method is executed, as long as the precondition hol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a good practice to always think in terms of preconditions and postconditions when designing a method, and when writing the method com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42E2FAC0-D489-413E-87CB-4A1E81197F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itive Type Values vs. Class Typ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rimitive type value is a single piece of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lass type value or object can have multiple pieces of data, as well as action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objects of a class have the same 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objects of a class have the same pieces of data (i.e., name, type, and numb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a given object, each piece of data can hold a different valu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9AEFC510-C42A-485B-BE29-2C476CB44D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lo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verload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when two or more method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 the same cla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ave the same method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be valid, any two definitions of the method name must have differen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igna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ignature consists of the name of a method together with its parameter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ing signatures must have different numbers and/or types of parame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3E2777A9-F4C2-4838-874A-D371D288E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loading and Automatic Type Conve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Java cannot find a method signature that exactly matches a method invocation, it will try to use automatic type conver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teraction of overloading and automatic type conversion can have unintended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some cases of overloading, because of automatic type conversion, a single method invocation can be resolved in multiple 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biguous method invocations will produce an error in Ja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3C5C12FF-A569-425D-8115-BEBE5DFE19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You Can Not Overload Based on the Type Retur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ignature of a method only includes the method name and its parameter ty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ignature doe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clude the type retur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va does not permit methods with the same name and different return types  in the same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862C4F39-221B-4619-9437-AD5BC17A5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Not Overload Operators in J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though many programming languages, such as C++, allow you to overload operators (+, -, etc.), Java does not permit th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may only use a method name and ordinary method syntax to carry out the operations you desi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A172ADFA-6683-42DA-89D0-86FD5E8656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tru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nstruct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special kind of method that is designed to initialize the instance variables for an objec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ublic ClassName(anyParameters){code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nstructor must have the same name as th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nstructor has no type returned, not eve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vo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tructors are typically overloa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692FF0B9-6EE2-48DF-B7AB-B63D0F27A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tru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nstructor is called when an object of the class is created using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lassName objectName = new ClassName(anyArgs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name of the constructor and its parenthesized list of arguments (if any) must follow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perato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is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valid way to invoke a constructor:  a constructor cannot be invoked like an ordinary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a constructor is invoked again (using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the first object is discarded and an entirely new object is cre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you need to change the values of instance variables of the object, use mutator methods inste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CE7D37BE-221D-41FF-9AC8-7D4E8D8C1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Invoke Another Method in a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irst action taken by a constructor is to create an object with instance 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fore, it is legal to invoke another method within the definition of a constructor, since it has the newly created object as its calling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, mutator methods can be used to set the values of the instance vari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even possible for one constructor to invoke an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77304B9A-CEC7-4175-B633-EA6197C7F1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onstructor Has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arame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ke any ordinary method, every constructor has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ara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arameter can be used explicitly, but is more often understood to be there than written d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irst action taken by a constructor is to automatically create an object with instance vari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n within the definition of a constructor,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arameter refers to the object created by the constru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46325E66-6BA4-4E3F-86FB-66C72A26D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clude a No-Argument Construct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do not include any constructors in your class, Java will automatically create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o-argum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structor that takes no arguments, performs no initializations, but allows the object to be cre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include even one constructor in your class, Java will not provide this default constru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include any constructors in your class, be sure to provide your own no-argument constructor as 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5D36EF4E-2910-4CB5-B86C-3E4D443634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ault Variable Initializ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ance variables are automatically initialized in Ja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34ca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ypes are initialized to fal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primitives are initialized to the zero of their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 types are initialized to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it is a better practice to explicitly initialize instance variables in a constru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:  Local variables are not automatically initializ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E83DBA26-B17D-450A-8C06-5F5F3786F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ontents of a Class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lass definition specifies the data items and methods that all of its objects will h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data items and methods are sometime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emb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items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ield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stance 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ance variable declarations and method definitions can be placed in any order within the class defi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FE52B5BE-0A5C-4DA2-AFB1-8FC9A6EAE2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tringTokeniz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 is used to recover the words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oke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a multi-wor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 use whitespace characters to separate each token, or you can specify the characters you wish to use as separ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order to use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ringTokeniz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, be sure to include the following at the start of the fi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mport java.util.StringTokenize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A7140CD3-D588-4F48-9E32-8032D2941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ethods in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 (Part 1 of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4" name="Picture 8" descr="savitch_c04d17_1of2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241880"/>
          </a:xfrm>
          <a:prstGeom prst="rect">
            <a:avLst/>
          </a:prstGeom>
          <a:ln w="0">
            <a:noFill/>
          </a:ln>
        </p:spPr>
      </p:pic>
      <p:sp>
        <p:nvSpPr>
          <p:cNvPr id="7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0B661E15-625E-4CBC-9CD4-0A57EDB29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ethods in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ringTokeniz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 (Part 2 of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8" name="Picture 3" descr="savitch_c04d17_2of2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817800"/>
          </a:xfrm>
          <a:prstGeom prst="rect">
            <a:avLst/>
          </a:prstGeom>
          <a:ln w="0">
            <a:noFill/>
          </a:ln>
        </p:spPr>
      </p:pic>
      <p:sp>
        <p:nvSpPr>
          <p:cNvPr id="7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249AF683-0E18-4D60-B49B-01B4750D9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Oper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object of a class is named or declared by a variable of the class typ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lassName  classVar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perator must then be used to create the object and associate it with its variable nam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lassVar = new ClassName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can be combined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lassName classVar = new ClassName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643F182A-294B-4928-BC9C-9185365979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tance Variables and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ance variables can be defined as in the following two exam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odifier (for now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ublic String  instanceVar1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ublic int  instanceVar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order to refer to a particular instance variable, preface it with its object name as follow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bjectName.instanceVar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bjectName.instanceVar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FE5AB74E-D52B-4344-84A8-F4AB0BC21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hod definitions are divided into two parts: 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ead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ethod bod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void myMethod()</a:t>
            </a: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a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de  to perform some action                  Bo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/or compute a value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hods are invoked using the name of the calling object and the method name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lassVar.myMethod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oking a method is equivalent to executing the method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tance Variables and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Line 5"/>
          <p:cNvSpPr/>
          <p:nvPr/>
        </p:nvSpPr>
        <p:spPr>
          <a:xfrm flipH="1">
            <a:off x="5714640" y="2514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AutoShape 7"/>
          <p:cNvSpPr/>
          <p:nvPr/>
        </p:nvSpPr>
        <p:spPr>
          <a:xfrm>
            <a:off x="5791320" y="2743200"/>
            <a:ext cx="75960" cy="990720"/>
          </a:xfrm>
          <a:custGeom>
            <a:avLst/>
            <a:gdLst>
              <a:gd name="textAreaLeft" fmla="*/ 0 w 75960"/>
              <a:gd name="textAreaRight" fmla="*/ 27360 w 7596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-</a:t>
            </a:r>
            <a:fld id="{13713EF6-8076-40D7-9738-485606330A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Footer Placeholder 8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Kenrick</cp:lastModifiedBy>
  <dcterms:modified xsi:type="dcterms:W3CDTF">2007-05-28T06:36:18Z</dcterms:modified>
  <cp:revision>13</cp:revision>
  <dc:subject/>
  <dc:title>Slide 1</dc:title>
</cp:coreProperties>
</file>