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B68-52BC-4E15-8BEC-8E3906D1B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C102-0C27-4310-B61C-BE9CF6E69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3EA-8F05-4F80-A5F0-EBA635114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EB03-C932-49AD-A79C-76C6DD088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24A5-9AC5-4D33-97D1-4DE606161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0D02-AB33-4296-B4B5-7E3EE3340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935-254D-47E3-9E0B-3C675E941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E606-F216-40EB-93E8-7A7634EA9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85A-F356-4A9D-A137-480283E4D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E48-5DE2-48AC-A410-BD1B597CE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CDE4-1715-4DEC-B334-A3166C65B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576-4A8A-4B70-9F68-968953ADD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086A-FFE6-4FE4-8CB6-B6F3FE9CF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972B-7234-40DA-B58C-10FDFDE3A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5973-3C38-4A3D-BA0D-2633A9DCB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447B-C7EA-4D79-909D-75815C880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E2D1-EF66-4559-ABB2-C9D9D5780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4708-C481-4C5C-9682-EAE5CCEAB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844-288C-4D89-979D-D9CC62123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C25C-EA9E-4D6A-B5F9-3282DBEC4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6B9-1973-4725-866F-56248ADFF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595-243A-4978-88DC-2644412C8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A34C-A3C5-434D-8639-2B3D535FE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A6E-6AAE-42E2-9D49-51D32DF11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5E2-C31B-40F3-915D-8B643FA02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7BEE-62E5-4ABE-8EFE-0877657B5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A0EB-6D2E-4186-B0C7-C7A4720A2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01B2-DD54-4D80-9155-5FEA32726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9455-120E-4717-B92A-13D3745A5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431-1013-4CC6-8FF8-5CA691B87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5021-4F23-4ECE-8C9A-0186AE0E0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1C7C-82A3-43CE-8C56-DBDA8052E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3EB9-7D72-4D28-9376-553C6F915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444-3CFE-4765-947E-7F76AB223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71DA-0BE4-44AD-9394-1109008E8E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ED2-EA1D-40AC-8186-2596A535E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1AB-41B4-48DE-8DF1-ABF9056DC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B4D7-177F-4CFA-B8FF-7CFA7CFA2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95E5-23C7-489C-87EC-6C30914B9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F8B-5DC2-4FBF-A98F-3CA4B9EE7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925-592A-4309-8216-E0F25D22B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1B64-7BFE-42D2-8F29-6E27C1467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5471-8260-457D-9AB8-9A1CDB13C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38C1-3B82-4009-BF0B-1AA88608C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2B70-6C05-4337-BCB4-E31F23258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506E-0C08-4784-AEBA-7EB43B366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943B-12E3-4737-AF48-87A8302B4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FB4E-E44A-4E69-BC1E-545CCA960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C7C1-FE65-4442-B2B3-F2659E12F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3593-9D40-4996-9B7C-D89A42784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FD3-E0C1-42F3-A727-767574A3A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CC5-824F-4A59-A936-0D376FB75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1E43-9F97-41B3-9A4E-A8B9328E0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C93-477D-48EA-BE9F-61F47E913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F154-0E30-4CB7-9910-29E6E6563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88E4-099D-422E-974A-13520D460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6414-9F47-4BE1-95DE-910A89675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46DA-F28B-4ADD-A0F7-790D303FF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F508-6F1B-407C-8B98-0F9CAE26E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47BE-BF94-4225-8134-B8C8DD9AC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4D7-DB17-400D-8A1B-DB89EEF21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F00-CC23-4D21-A2D8-80A038F1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F1D-C469-4E80-ADAE-594F9EB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787CC-8BF1-4DB2-8BD7-94D027F4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1505-1540-4EFF-97D5-225CE3AC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73FA-C5EA-487C-82DF-0599771E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4D67E-9A5F-4C42-84C9-7CF262D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F894F-F088-45FA-B148-E373C27E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9B1DF-332C-4E78-BB9A-4728EC8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70181-280E-4F94-B458-3B515FC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78ACF-75AD-4256-890B-EE34F018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D725F-14D6-4174-94AB-01EDD11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12DD-34FF-4640-A370-BE16052F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B61-0B39-4BCB-9D73-FB20F0BF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FFF80-2607-450F-8F16-E2C3B88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C8ED5-2B51-417F-8D0B-9EE9CE08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F626-9530-4E9E-8DD7-81D53BDF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5880C-30C1-467D-B905-90972D89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0BCE1-02FD-4972-9F18-91E5D2D1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CA5F1-6ED5-4F18-914E-F115376B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F3A38-EBC2-4C22-9D09-E8290E53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A4EC9-6D9F-42D3-A567-B21B7687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89064-751E-4766-B721-BD397122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7DBD5-8DF3-45C1-9EAF-2BD928E5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049-1AF5-4D16-ABD8-778FB6A9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C1E2A-9DEF-45F4-B666-F71B4633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39DD0-5F09-4C65-BE55-A7A28DAB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847B4-145E-46A4-8BA5-A026E771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CFFCD-5A01-43D2-BAE1-84DE3B1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5CAA0-EE0B-4E3B-BA3B-F1F86E28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3C5F1-0B28-41C9-A3EA-3633070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14942-DE3D-4E9A-9118-F669A7D1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6A3D-6590-40FB-803F-79F8E3B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1D445-B9F8-43E8-82D4-1A4B8A6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C2C96-11F4-4234-B73A-C0B8A68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7359-1BBF-4B12-91A4-9EBBDD83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1E29E-921A-4E28-8B1C-A1AF6BA3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29179-B495-4CF1-AC04-43E670D4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9D71F-804E-4C2D-80A3-D81452C9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CEC26-D252-4F66-A866-C2EDE073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2BE20-151E-4B3E-A5EC-5676534C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B1F23-53E5-4ED8-9AA8-D3D5419E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567E0-016B-4C51-BDE3-C6A0BCC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FEE9B-A5E2-45C4-9F7F-611BD349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2CB98-5FFC-49EA-A244-77781BDD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2E02A-8EAF-4244-9ED1-4129586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B4C1-5E3B-479A-B343-70EDECA8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646F4-9EAA-47F2-B63B-1E96FD4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CF0C5-AD38-44FC-AF86-B9174C98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D2DB6-6431-491B-9819-01527CB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69EF1-BAD8-4130-AB68-3C282103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C6416-8248-4C80-A949-4C4C3729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FA90-C6B7-4456-AE6E-3D1F2C7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7213-DBDF-4E36-8631-9FCD4F20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06A-72FD-4746-A046-8E36603B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D44D-7016-4319-A3D9-D511CB5F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FA97-3589-4F99-A081-BA17CAC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AAE-BAB8-40F5-8659-248AE9ED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6A5B-84F0-47ED-8E2C-D23DE1D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8074-A2DB-4351-84F7-D023879B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1F07-81D7-4930-A762-E7D1CA0A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380C-26CB-48F0-9232-02A8648D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41C5-22D5-4B78-B10F-19941B7C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0DEC5-474D-4379-8FBD-646C540F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C2C26-C886-4B33-AC53-8A8D62DA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6CB30-630D-40A3-BFE1-659DB2A0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57590-9CA4-4568-8078-99C954B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0A17C-566C-4BB3-A4F5-8FE5AD8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7A6-243C-4719-A31C-ECC240E3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83B8F-B8AC-4590-8038-275AF964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38FAF-7709-4AD4-AA35-AD99729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8EC9A-3268-443A-9DD6-809BCCE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F200E-10CB-4BB3-8673-423A72B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1380C-4064-494B-9682-72068553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1A197-6C66-4332-A7C5-6387A864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6BBEE-4C4D-4598-B753-0EB81694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BD45-FF8F-4F38-88D4-00C62B5F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54768-5FD1-4230-9427-F0C9F5D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CE74-F2CC-4DAC-9954-6A8334C3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545-BD64-4136-87F1-98C326FD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EC338-24F0-4A7D-B8D9-F6BD64E9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2B71C-FF00-4950-A775-A98DFBD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A30A-6393-46C2-B5E3-84CD7359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0650-7603-4517-B3CF-A2980BD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40F2C-B658-42A3-AC3A-BF32ED4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29DD-1CAE-49EC-AAF8-CE49721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7C46-72D2-442F-B228-1ED50BF0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AAE65-BB10-4A8F-8032-6C245E09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B380-84B7-43B1-A99F-C860BDC1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3E82F-D138-456E-9504-DFDA9994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1F5-3B44-4DA2-BCC1-AE03CBB3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ACA4-D09E-4751-A150-90F5A31A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4F8F-03D8-4C0B-AAFB-E8F7E96B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F0390-B958-46ED-85D1-39C3E68A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69BE9-8E77-455C-968E-BA8EB507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921C-A1DE-4C16-B428-9E15BC6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5481-E32F-4BEA-882E-AC4FA8A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A5235-2731-4C63-BC9D-34230842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FA40-9EBD-4B7B-A90E-261778FC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0431-3FD2-4394-B7DD-21A139C5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D8636-4DC7-4E99-9C7A-95D1F10A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CA2-9213-4770-9C7F-3D5E5C7A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ADC96-0F8F-493F-A266-EE94F967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55EF-2D98-4E18-B526-2B744C95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424CE-BC66-443F-9D0D-DC7485E6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17A4-78EB-4046-8190-D98CBD17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723E-6F3F-41A5-8D34-0FBF632D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97E0-93FC-4303-B0C7-7C363A1F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501A-73CA-4EB6-A94C-5ACFB738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9E8F-9918-43AA-92BA-7D3847E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E566A-91B3-482B-8CD3-76F614EC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CFBC-F0A3-4220-AF4D-1975174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86A-3803-4022-A0F7-4FD019C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C01A-E242-4F1C-ADE4-E34B820E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632C-6716-4D52-A1E9-BB97125F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B198-30BC-446E-9581-707ABA6A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B7BE3-49FD-4281-9EF6-B315518A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B7F2F-1E85-49AD-B47B-44FE13B9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206B0-1C50-47B1-A513-0F9CEF7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23B1-15EA-4F14-8AE8-5A30FDD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1309E-F374-4E15-BB80-1904ED91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EE06E-25FC-47C8-933A-15BC1C06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12D9F-BB9E-4AA9-B6A6-D19929D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89FC-8C6A-4329-9F42-33C8361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9828-53F8-42B3-B0F5-8E86F4B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73565-9BC9-403B-8E16-46501F0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6A161-F0E0-445F-924A-3FAE492D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2A0C1-F7E4-4F04-829F-643B035E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1D104-01DC-4EDB-91AC-B718FE80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A99BA-22F5-4292-87F4-1AD76480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0688-D8DD-4688-B49F-CF81AEE8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A2959-C94D-45D2-BB11-3B9AE756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8E232-E2DC-4AF1-8E43-A3CCB84F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6FA9B-2AB7-42DF-AA80-500B306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CD2-2993-47CC-94E1-03BAFCA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E7DDF-0231-43A0-B88F-64157A05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B7781-CCF6-408B-8F5B-7985FD9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470D-C3FE-4F2D-933F-E678E4DB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2896-DD04-4F8F-AF02-B6076BC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A35A-61AD-4987-A320-318FB017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449F5-BF35-45F1-8613-95A8B885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ABA0E-C2A8-407C-B7EB-1B2E9C65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FAAFF-1D41-4D17-AECD-48271D67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EAE13-C192-4B33-8CC5-24513BA9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9C56A-1ABD-4436-AE97-04B803B6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E2E7-7A60-4ED3-BFC7-CDA928137F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-</a:t>
            </a:r>
            <a:fld id="{0F338400-176C-4F80-ADE1-33F77F44F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99AF-8FC4-4895-BB72-9D006C82E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F540C43-0B32-4D53-9273-8718765F4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33EF-B9AA-4F1D-9545-9A03B25DD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E6EADD1-A4ED-46F0-BA56-A61BABB7B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E5D5-D1AA-4AD2-9742-45996DA90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56FEB22-6F31-4699-8CBF-D19B261C6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DE85-4223-4EB3-B39C-40FFEB6B57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EE2D0AE-8E08-4AE6-8CFA-F298C1D43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F608-B0E8-4D28-A63B-D6495E3257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60E1CAE-F54A-4CF2-803B-E3CFA35D4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DCBD-2D19-432C-9486-28438E4E57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17197D0-A37A-4117-A941-569488755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215C-2C4C-4BAD-BCB9-AE0AC8BC39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7D42A6E-BC7A-47F8-9ED4-3C37AD282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D74E-0227-4EF0-A901-31269A552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E5CDEE5-CC40-4F66-A4E9-5E2C59CE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FDE-887B-416F-AC8B-4871D382AD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067ACB9-FA99-4A11-873E-A35ACD0D6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47CF-5959-428C-AA1C-89E68125EB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401625B-80E9-46BC-B226-DF11880D7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DF9E-DC78-4FF0-BA23-6F39AF4C8F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98B8A91-4E5A-4675-98CE-70A1372F5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low of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11826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the only other kind of Java statement that imple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ultiw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ran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evaluated, one of a number of different branches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of which branch to execute is determined by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rolling expre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closed in parentheses after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ntrolling expression must evaluate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25B8FA6-4A3C-4187-94A5-5B215CB24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ranch statemen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starts with the reserved 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llowed by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se lab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llowed by a colon, and then a sequence of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ase label must be of the same type as the controlling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labels need not be listed in order or span a complete interval, but each one may appear only o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sequence of statements may be followed by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(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05AB19D-9EC4-4AA4-B0F6-070191964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can also be a section label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tion is optional, and is usually l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 if the case labels cover all possible outcomes in a giv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,  it is still a good practice to include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used to output an error message, for 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controlling expression is evaluated, the code for the case label whose value matches the controlling expression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no case label matches, then the only statements executed are those follow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abel (if there is o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DC6EEC5-634E-4E3F-BEE1-FC86E1341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ends when it execute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 or when the end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rea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computer executes the statements after a case label, it continues until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rea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omitted, then after executing the code for one case, the computer will go on to execute the code for the nex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omitted inadvertently, the compiler will not issue an error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79C49B3-F8AA-4DAA-B93D-5B47B0EA3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witch (Controlling_Expre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se Case_Label_1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tement_Sequence_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se Case_Label_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tement_Sequence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ase Case_Label_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atement_Sequence_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efaul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efault_Statement Seq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4"/>
          <p:cNvSpPr/>
          <p:nvPr/>
        </p:nvSpPr>
        <p:spPr>
          <a:xfrm rot="16200000">
            <a:off x="2431800" y="3663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5C8211D-67C3-48B5-85A6-D3323969A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1752480" y="2743200"/>
            <a:ext cx="342900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752480" y="3753000"/>
            <a:ext cx="34290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ditional operat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notational variant on certain forms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o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ernary operat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ithmetic 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ollowing examples are equivale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if (n1 &gt; n2)   max = n1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else           max = n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max = (n1 &gt; n2) ? n1 : n2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xpression to the right of the assignment operator is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ditional operator exp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Boolean expression is true, then the expression evaluates to the value of the first expression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, otherwise it evaluates to the value of the second expression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nditional Op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57AA943-7007-4528-B94B-FD0DEF7C0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lean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olean expression is an expression that is eith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implest Boolean expressions compare the value of two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ime &lt;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yourScore == mySc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Java uses two equal signs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to perform equality testing:  A single equal sign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s used only for ass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oolean expression does not need to be enclosed in parentheses, unless it is used in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2B3835A-0224-4104-B054-6DE110139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va Comparison 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5" descr="D3_3"/>
          <p:cNvPicPr/>
          <p:nvPr/>
        </p:nvPicPr>
        <p:blipFill>
          <a:blip r:embed="rId1"/>
          <a:stretch/>
        </p:blipFill>
        <p:spPr>
          <a:xfrm>
            <a:off x="1000080" y="1828800"/>
            <a:ext cx="7515360" cy="366696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5FEFDF4-0928-4679-8925-679465D61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Using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Str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quality comparison operator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can correctly test two values of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itiv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when applied to tw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objects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to see if they are stored in the same memory location, not whether or not they have the sam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test two strings to see if they have equal values, use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Ignore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1.equals(string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1.equalsIgnoreCase(string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1F080EE-B024-4CD2-BB11-F3A673EB2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xicographic and Alphabetical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xicographic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dering is the same a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dering, and includes letters, numbers, and other charac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uppercase letters are in alphabetic order, and all lowercase letters are in alphabetic order, but all uppercase letters come before lowercase let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two variables of typ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have been given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alues, then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.compareTo(s2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returns a negative number 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lexicographic ordering, returns zero if the two strings are equal, and returns a positive number if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performing an alphabetic comparison of strings (rather than a lexicographic comparison) that consist of a mix of lowercase and uppercase letters,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eToIgnoreC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inst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E2CE2EA-2FFA-4078-9CE4-E59158135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of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n most programming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low of contro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Java refers to i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ranch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op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has several branching mechanisms: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has three types of loop statements: 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branching and looping statements are controlled by Boolean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oolean expression evaluates to eith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imitiv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y only take the valu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F1555E3-B254-4C19-9C3A-3E888C04E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oolean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wo Boolean expressions are combined using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and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perator, the entire expression is true provided both expressions are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wise the expression is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wo Boolean expressions are combined using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"or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perator, the entire expression is true as long as one of the expressions is 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xpression is false only if both expressions are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Boolean expression can be negated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the expression in parentheses and place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perator in front of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mathematical notation, strings of inequalities must be join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(min &lt; result) &amp;&amp; (result &lt; max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ather than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min &lt; result &lt; 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48906B2-9382-4E56-A4B6-7BBC7F50B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Boolean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though Boolean expressions are used to control branch and loop statements,  Boolean expressions can exist independently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oolean variable can be given the value of a Boolean expression by using an assignment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olean expression can be evaluated in the same way that an arithmetic expression is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ly difference is that arithmetic expressions produce a number as a result, while Boolean expressions produce eith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ir 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boolean madeIt = (time &lt; limit) &amp;&amp; (limit &lt; max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09ABC99-6220-46FD-8111-DD6F48008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th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7" descr="D3_5"/>
          <p:cNvPicPr/>
          <p:nvPr/>
        </p:nvPicPr>
        <p:blipFill>
          <a:blip r:embed="rId1"/>
          <a:stretch/>
        </p:blipFill>
        <p:spPr>
          <a:xfrm>
            <a:off x="1314360" y="795240"/>
            <a:ext cx="6829560" cy="558648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745DCE3-F82A-46BD-BED1-9766EB3FE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-Circuit and Complet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can take a shortcut when the evaluation of the first part of a  Boolean expression produces a result that evaluation of the second part cannot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ort-circuit evalu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azy eval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when evaluating two Boolean subexpressions join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f the first subexpression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e entire expression will evaluate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o matter the value of the second sub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ike manner, when evaluating two Boolean subexpressions joined b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f the first subexpression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e entire expression will evaluate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039E2F8-6AA0-4312-9C2C-F194FCA1D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-Circuit and Complete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times when using short-circuit evaluation can prevent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untim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following example, if the number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ki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qual to zero, then the second subexpression will not be evaluated, thus preventing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vide by zero err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reversing the order of the subexpressions will not prevent th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f ((kids !=0) &amp;&amp; ((toys/kids) &gt;=2)) . 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 it is preferable to always evaluate both expressions, i.e., request complete eval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is case,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s instead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amp;&am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73EA639-6AB7-4A3E-BCA9-FF3CBA480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edence and Associativit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and arithmetic expressions need not be fully parenthes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me or all of the parentheses are omitted, Java will follow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ules (summarized in the following table) to determine the order of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one operator occurs higher in the table than another, it ha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igher preced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is grouped with its operands before the operator of lower precede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wo operators have the same precedence, the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ociativity ru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etermine which is grouped f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C18876D-ECF5-44E2-A021-B00CD8DA3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14240" y="152280"/>
            <a:ext cx="236232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edence and Associativity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6" descr="D3_6"/>
          <p:cNvPicPr/>
          <p:nvPr/>
        </p:nvPicPr>
        <p:blipFill>
          <a:blip r:embed="rId1"/>
          <a:stretch/>
        </p:blipFill>
        <p:spPr>
          <a:xfrm>
            <a:off x="2973240" y="100080"/>
            <a:ext cx="6085080" cy="6329160"/>
          </a:xfrm>
          <a:prstGeom prst="rect">
            <a:avLst/>
          </a:prstGeom>
          <a:ln w="0">
            <a:noFill/>
          </a:ln>
        </p:spPr>
      </p:pic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CC8E004-E3AC-4B16-B314-7199834BF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general, parentheses in an expression help to document the programmer's i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of relying on precedence and associativity rules, it is best to include most parentheses, except where the intended meaning is obv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i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The association of operands with their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fully parenthesized expression accomplishes binding for all the operators in an exp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de Effe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When, in addition to returning a value, an expression changes something, such as the value of a var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ssign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crem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re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all produce side eff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C39F32A-1DB6-4576-BDFA-D255CAD1D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s for Evaluating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 bi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the equivalent fully parenthesized expression using the precedence and associativity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eding left to right, evaluate whatever subexpressions can be immediately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ubexpressions will be operands or method arguments, e.g., numeric constants or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each outer operation and method invocation as soon as all of its operands (i.e., arguments) have been evalu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3825F1C-1BE9-4B6E-AD30-4C6DCE9E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o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Java are similar to those in other high-level langu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has three types of loop statements: 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de that is repeated in a loop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epetition of the loop body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e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D182EE8-489F-4F89-93B9-FD683755D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ing with a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chooses between two alternative statements based on the value of a Boolean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Yes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No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enclosed in parenthe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Yes_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false, t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o_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52FF6E0-55FC-4D09-96F2-AD201A532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used to repeat a portion of code (i.e., the loop body) based on the evaluation of a Boolean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oolean expression is checke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loop body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false, the loop body is not executed at 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the execution of each following iteration of the loop body, the Boolean expression is checked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rue, the loop body is executed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false, the loop statement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op body can consist of a single statement,  or multiple statements enclosed in a pair of brac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 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04958758-8BC0-40BC-8C8F-390F4AC18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4"/>
          <p:cNvSpPr/>
          <p:nvPr/>
        </p:nvSpPr>
        <p:spPr>
          <a:xfrm>
            <a:off x="1955880" y="1407960"/>
            <a:ext cx="5618160" cy="107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84320" y="2851200"/>
            <a:ext cx="5618160" cy="297504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028960" y="1676520"/>
            <a:ext cx="566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6"/>
          <p:cNvSpPr/>
          <p:nvPr/>
        </p:nvSpPr>
        <p:spPr>
          <a:xfrm rot="16200000">
            <a:off x="3190680" y="43257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583D5D7-4087-4FBD-8149-93345041A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9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used to execute a portion of code (i.e., the loop body), and then repeat it based on the evaluation of a Boolean expr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op body is executed at least o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oolean expression is checked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loop body is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oolean expression is checked after each iteration of the loop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rue, the loop body is executed ag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false, the loop statement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't forget to put a semicolon after the Boolean expre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the while statement, the loop body can consist of a single statement,  or multiple statements enclosed in a pair of braces (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41351DC-7C2E-4418-9DF2-D9F414E91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5"/>
          <p:cNvSpPr/>
          <p:nvPr/>
        </p:nvSpPr>
        <p:spPr>
          <a:xfrm>
            <a:off x="1662120" y="1544760"/>
            <a:ext cx="5850000" cy="123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1670040" y="3078000"/>
            <a:ext cx="5850000" cy="2698920"/>
          </a:xfrm>
          <a:prstGeom prst="rect">
            <a:avLst/>
          </a:prstGeom>
          <a:solidFill>
            <a:srgbClr val="ffffcc"/>
          </a:solidFill>
          <a:ln w="9360">
            <a:solidFill>
              <a:srgbClr val="034c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771200" y="1676520"/>
            <a:ext cx="5946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hile (Boolean_Express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L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  while (Boolean_Express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o-whi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6"/>
          <p:cNvSpPr/>
          <p:nvPr/>
        </p:nvSpPr>
        <p:spPr>
          <a:xfrm rot="16200000">
            <a:off x="2738160" y="4422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7266277-1947-4CD0-95D3-A1C5730B8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9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s and Pseudo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hard part of solving a problem with a computer program is not dealing with the syntax rules of a programming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ther, coming up with the underlying solution method is the most difficult p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set of precise instructions that lead to a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lgorithm is normally written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seudoc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is a mixture of programming language and a human language, like Engl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eudocode must be precise and clear enough so that a good programmer can convert it to syntactically correct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, pseudocode is much less rigid than code:  One needn't worry about the fine points of syntax or declaring variables, for 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878C924-DA03-4AC4-8872-6073C70A1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most commonly used to step through an integer variable in equal inc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egins with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followed by three expressions in parentheses that describe what to do with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rolling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expression tells how the control variable or variables a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cla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fore the first it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econd expression determines when the loop shoul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ased on the evaluation of a Boolean expressio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ch it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rd expression tells how the control variable or variables a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pda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ch iteration of the loop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8FE8866-C64A-44A0-9270-AB2851CB5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Initializing; Boolean_Expression; Upd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y consist of a single statement or a list of statements enclosed in a pair of brace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three control expressions are separated by two, not three, semicol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re is no semicolon after the closing parenthesis at the beginning of the loo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ED6628C-5ACD-4757-A0C7-46F95CB09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mantics of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6" descr="D3_9"/>
          <p:cNvPicPr/>
          <p:nvPr/>
        </p:nvPicPr>
        <p:blipFill>
          <a:blip r:embed="rId1"/>
          <a:stretch/>
        </p:blipFill>
        <p:spPr>
          <a:xfrm>
            <a:off x="1728720" y="781200"/>
            <a:ext cx="6319800" cy="561960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446A0ED-E9D8-4268-8C57-F57C63FB7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ment Syntax and Alternat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6" descr="D3_10_1"/>
          <p:cNvPicPr/>
          <p:nvPr/>
        </p:nvPicPr>
        <p:blipFill>
          <a:blip r:embed="rId1"/>
          <a:stretch/>
        </p:blipFill>
        <p:spPr>
          <a:xfrm>
            <a:off x="1000080" y="1886040"/>
            <a:ext cx="7505640" cy="3085920"/>
          </a:xfrm>
          <a:prstGeom prst="rect">
            <a:avLst/>
          </a:prstGeom>
          <a:ln w="0">
            <a:noFill/>
          </a:ln>
        </p:spPr>
      </p:pic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E43F545-8B65-493D-953A-ED2D49171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12800" y="-152640"/>
            <a:ext cx="843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ement Syntax and Alternate Semant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4" descr="D3_10_2"/>
          <p:cNvPicPr/>
          <p:nvPr/>
        </p:nvPicPr>
        <p:blipFill>
          <a:blip r:embed="rId1"/>
          <a:stretch/>
        </p:blipFill>
        <p:spPr>
          <a:xfrm>
            <a:off x="1681200" y="668160"/>
            <a:ext cx="6046920" cy="577548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1DB74BB-12B1-44CC-A474-9FB650768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Yes_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o_Statemen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nch of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 made up of a single statement or many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ound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A branch statement that is made up of a list of stat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pound statement must always be enclosed in a pair of brace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{ 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pound statement can be used anywhere that a single statement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930CB7F-00E2-45AB-AE02-BD91238D0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ma i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 contain multiple initialization actions separated with com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ution must be used when combining a declaration with multiple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illegal to combine multiple type declarations with multiple actions, 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void possible problems, it is best to declare all variables outsi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 contain multiple update actions, separated with commas, al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even possible to eliminate the loop body in this 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op can contain only one Boolean expression to test for ending th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35F7010-6786-4B47-9FC4-FE79D6982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inite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90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-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should be designed so that the value tested in the Boolean expression is changed in a way that eventually makes it false, and terminates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Boolean expression remains true, then the loop will run forever, resulting in an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s that check for equality or inequality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re especially prone to this error and should be avoided if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6487970-5EDD-4D34-9A56-FBB5E78C7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ops can b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es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just like other Java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sted, the inner loop iterates from beginning to end for each single iteration of the outer lo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rowNum, columnNu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rowNum = 1; rowNum &lt;=3; rowNum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 (columnNum = 1; columnNum &lt;=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umnNum+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(" row " + rowNum 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 column " + columnNum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163265D7-94CA-469B-90A7-668C7F721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consists of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llowed by a semic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execute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ends the nearest enclosing switch or loop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consists of the keywor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llowed by a semic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executed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ends the current loop body iteration of the nearest enclosing loop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in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,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in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 transfers control to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loop statements are nested, remember that an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400" spc="-1" strike="noStrike">
                <a:solidFill>
                  <a:srgbClr val="034ca1"/>
                </a:solidFill>
                <a:latin typeface="Calibri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applies to the innermost, containing loop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433BCA3-F238-428E-8E59-C8ED52454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abele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typ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that, when used in nested loops, can end any containing loop, not just the innermost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enclosing loop statement is labeled with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ntifie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following version of the break statement will exit the labeled loop, even if it is not the innermost enclosing loo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reak someIdentifier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abel a loop, simply precede it with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a col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Identifi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0A78496-000F-4688-A216-3C5CBC038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will end a loop or switch statement, but will not end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will immediately end the program as soon as it is invok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takes one integer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tradition, a zero argument is used to indicate a normal ending of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5F0B76D7-A3D6-4804-9723-929FFD497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p B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 most common kinds of loop errors are unintend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e loo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f-by-one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ff-by-one error is when a loop repeats the loop body one too many or one too few ti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usually results from a carelessly designed Boolean test exp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controlling Boolean expression can lead to an infinite loop or an off-by-one er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ort of testing works only for characters and integers, and should never be used for floating-po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A82EEDE7-8053-4934-9F45-915622523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racing variab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watching one or more variables change value while a program 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make it easier to discover errors in a program and debug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grated Development Environm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ave a built-in utility that allows variables to be traced without making any changes to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ay to trace variables is to simply insert temporary output statements in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n = " + n);  // Tracing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error is found and corrected, the trace statements can simply be commented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49F54EFB-FF65-493E-AB31-BB353F8A9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l Debugg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ine the system as a whole – don’t assume the bug occurs in one particular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different test cases and check the input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 out blocks of code to narrow down the offending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common pit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a break and come back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make random changes just hoping that the change will fix the problem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CF4E0B77-F448-4DF1-A494-C247A0D5E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1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code is supposed to present a menu and get user input until either ‘a’ or ‘b’ is ent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054F41C-E2CB-4AAA-B7C5-399C0E562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"/>
          <p:cNvSpPr/>
          <p:nvPr/>
        </p:nvSpPr>
        <p:spPr>
          <a:xfrm>
            <a:off x="1093320" y="2971800"/>
            <a:ext cx="743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keyboard = new Scann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substring(0,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myScore &gt; your Scor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I win!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ager = wager + 1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"I wish these were golf scores.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ager = 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8BD5BD56-BB60-4C7F-9E55-9C5E21227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2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30477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“random change” debugging technique we might try to change the data type o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o make the types m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results in more errors since the rest of the code trea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ike 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79CCACA-D98F-4C17-985D-EF1E39838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7"/>
          <p:cNvSpPr/>
          <p:nvPr/>
        </p:nvSpPr>
        <p:spPr>
          <a:xfrm>
            <a:off x="475560" y="1523880"/>
            <a:ext cx="5109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  Syntax err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substring(0,1);    : incompatible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:  java.lang.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quired: c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3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problem:  substring returns a String, use charAt to get the first charac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9BEB809-D275-450B-A0A3-C2234C436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1017000" y="2666880"/>
            <a:ext cx="743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 '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keyboard = new Scanner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6"/>
          <p:cNvSpPr/>
          <p:nvPr/>
        </p:nvSpPr>
        <p:spPr>
          <a:xfrm>
            <a:off x="697680" y="5715000"/>
            <a:ext cx="79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program compiles, but it is stuck in an infinite loop.   Employ trac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4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22EBFAB-8B86-4DAD-984B-06440FD44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5"/>
          <p:cNvSpPr/>
          <p:nvPr/>
        </p:nvSpPr>
        <p:spPr>
          <a:xfrm>
            <a:off x="712080" y="1371600"/>
            <a:ext cx="75416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tring s = " +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Lowercase s = " +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 = " +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'A' for option A or 'B' for option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case s =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'A' for option A or 'B' for option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726120" y="5715000"/>
            <a:ext cx="73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racing we can see that the string is never changed to lower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sign the lowercase string back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5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code is supposed to present a menu and get user input until either ‘a’ or ‘b’ is ente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44C57B8-C786-4F89-B8E0-2BC0124CB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5"/>
          <p:cNvSpPr/>
          <p:nvPr/>
        </p:nvSpPr>
        <p:spPr>
          <a:xfrm>
            <a:off x="1093320" y="2971800"/>
            <a:ext cx="743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786960" y="5486400"/>
            <a:ext cx="61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it’s still stuck in an infinite loop.  What to try n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6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try the following “patch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8643624-1BA1-4747-BC66-8C26863B4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64360" y="2133720"/>
            <a:ext cx="7541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c == 'a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 == 'b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6"/>
          <p:cNvSpPr/>
          <p:nvPr/>
        </p:nvSpPr>
        <p:spPr>
          <a:xfrm>
            <a:off x="804960" y="5029200"/>
            <a:ext cx="75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rks, but it is ugly!  Considered a coding atrocity, it doesn’t fix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ying problem.   The boolean condition after the while loop has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meaningless.  Try more trac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7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E7476E85-7A2F-4A51-964A-AD7C1FFB6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5"/>
          <p:cNvSpPr/>
          <p:nvPr/>
        </p:nvSpPr>
        <p:spPr>
          <a:xfrm>
            <a:off x="712080" y="1295280"/>
            <a:ext cx="754164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 != 'a' is " + (c != 'a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c != 'b' is " +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(c != 'a') || (c != 'b')) is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((c != 'a') || (c != 'b'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||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ample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'A' for option A or 'B' for option 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!= 'a' is fa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!= 'b' is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 != 'a') || (c != 'b')) is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653040" y="5638680"/>
            <a:ext cx="82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trace we can see that the loop’s boolean expression is true beca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 not equal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a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t equal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b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the sam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8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:  We use &amp;&amp; instead of ||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E6631CC-3541-4928-A563-EF587C52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"/>
          <p:cNvSpPr/>
          <p:nvPr/>
        </p:nvSpPr>
        <p:spPr>
          <a:xfrm>
            <a:off x="864720" y="2133720"/>
            <a:ext cx="743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c != 'a'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 != 'b'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ugging Example (9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better:  Declare a boolean variable to control the do-while loop.  This makes it clear when the loop exits if we pick a meaningful variable na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30CE141C-EC7F-43C0-B74D-793CA3954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"/>
          <p:cNvSpPr/>
          <p:nvPr/>
        </p:nvSpPr>
        <p:spPr>
          <a:xfrm>
            <a:off x="838080" y="2819520"/>
            <a:ext cx="7848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nvalidKe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Enter 'A' for option A or 'B' for option 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keyboard.n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 == 'a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Key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c == 'b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Key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Key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nvalidKe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rtion Che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sentence that says (asserts) something about the state of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ssertion must be either true or false, and should be true if a program is working proper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rtions can be placed in a program as com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has a statement that can check if an assertion is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ssert Boolean_Express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ssertion checking is turned on a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 program ends, and outputs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ertion failed error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wise, the program finishes execution norm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E17782D-3C6F-4111-A815-2CA84A046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ertion Che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or other class containing assertions is compiled in the usual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ilation, a program can run with assertion checking turned on or turned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a program runs with assertion checking turned o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run a program with assertion checking turned on, use the following command (using the actua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ogramN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 –enableassertions Program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DA7971B8-8F4D-4026-8F97-E163C2D18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mitt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 may be omitted to obtain what is often called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Boolean_Expres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rue, the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_Stat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_Statement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a single or compound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wise, nothing happens, and the program goes on to the next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weight &gt; ide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alorieIntake = calorieIntake – 50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F68017FE-1058-49F0-B53B-91AB66DEB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ve Co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a little bit of code at a time and test it before moving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d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others look at your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Program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n a team, one typing while the other watches, and periodically switch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976812CA-0915-4A11-B9C1-684786888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both contain smaller statements within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single or compound 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act, any statement at all can be used as a subpart of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 including anoth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level of a nest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hould be indented further than the previous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ltiw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B6D6F9EB-8747-4EE6-9949-8A617C5FB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way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ultiwa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is simply a norm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that nests anoth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at ever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ra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indented differently from other nested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s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aligned with one another, and their corresponding actions are also aligned with one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_Expr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evaluated in order until one that evaluates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f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na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op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603E4369-EDA0-409C-85AD-E100520E8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way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 if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 if (Boolean_Expression_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atement_For_All_Other_Pos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"/>
          <p:cNvSpPr/>
          <p:nvPr/>
        </p:nvSpPr>
        <p:spPr>
          <a:xfrm rot="16200000">
            <a:off x="1822320" y="3130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ca1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-</a:t>
            </a:r>
            <a:fld id="{7E40D00C-3C03-47CF-BE86-874D05F52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9T07:39:05Z</dcterms:modified>
  <cp:revision>19</cp:revision>
  <dc:subject/>
  <dc:title>Slide 1</dc:title>
</cp:coreProperties>
</file>