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47E1-71EB-4CE8-9C46-14EAD2F66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ED70-46A6-4D81-AAA3-2BDBEE133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0666-9DFA-4A49-AF38-EB870F7EB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9EAA-D778-4276-A3D6-90045B70D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4C0C-2472-4931-93C6-656F68A66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3C62-BD2B-4B3B-A15B-A16C78239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FC60-A50A-46B1-A59C-DCD8CBC57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4C49-9950-4A33-8687-A4D8902AF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3744-73D8-46AA-8EF6-D8D113E5B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9082-3F89-44A1-B1DD-50EEF20BF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A031-149C-42B5-A25C-A44DA4DA3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156D-0B95-4309-A3C0-A90470A00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DC1B-FB48-42A2-BF1B-5840947EC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EB29-10AA-4EBD-B088-B5B1734C8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B84F-BB17-4CC6-874A-589257F53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788B-C977-4264-A2B0-CF4C886E2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9F0D-4EFF-497A-A9CF-4D07CE6B1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E49B-62FB-417F-B315-DA071AF3E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E7BB-E5CF-4F89-8D2B-A4F50C534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65C0-C1CF-453F-B13D-50A2DB849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5E92-A756-435B-B0A2-6FB634D2C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5FEC-6403-4636-B634-53793010B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BA35-2CDE-41EF-9C8F-FEEA59CF2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F636-B59D-49AD-8FB0-A768C5E84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2FC2-7516-4617-8D72-D602ABABD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F43F-52B1-498B-9FAD-646FB42E3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9E3C-6623-46C0-B1C1-F2219F9CB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7451-9706-4BB4-A104-9B9DFD9DA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95F0-F4CC-4600-98AD-3E802A0EC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BB5D-C568-4BB8-B9C8-556F0B672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8CCA-18E9-428B-8185-2CF381AFE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DF46-024F-4EBA-9E48-749603109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0698-A16F-4400-99F8-153FD8FEF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83C1-D743-4D7A-8A67-49964E251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89DA-D63B-4D5C-83C9-1973D3503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10CB-2E64-45BC-AE27-BA35FD17B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90D0-A16B-4F68-A913-63A0AB910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6BB8-498F-4782-8040-5C1ECAA48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11CB-8433-4010-8470-1CB706251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5D2C-3E83-4E47-99B8-2D3E35292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E98C-323E-48C2-88C9-2CD00C644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880B-BB2B-4518-9B6C-244997B5F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5967-B3EB-4D57-924E-FB9BFF6AA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8B23-34B2-471E-A3A6-644E5B8DF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8A3D-79F0-47DA-A2ED-01AB1B94B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5880-D49F-4B6B-B860-B989BE29C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931A-873F-4B80-A4DE-641D552CF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7968-5472-49D0-A569-C07E5FE7D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6934-85BD-481B-AE20-6E95B9A27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CCEE-4DAA-4B16-89A6-83B5F7834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2CCF-22DB-4163-85A0-CEF8F2CCF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9118-B784-41C8-B196-2779ED837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9D7B-B757-4118-B682-E54C60AC3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0424-28CD-470E-9FD3-1BE9B0EF4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03F9-8DF7-4968-AD9F-568D80E49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688A-7778-4032-A0B1-FD7A39D46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0D4B-9A48-4005-B33D-C5BB3151F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802A-1B11-419C-B751-078D71994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A012-0DB8-4556-8E7B-C31A89926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F0C6-2730-4D54-8DB3-82CF20EA9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FFCD-9189-458E-9BC5-2B88D0B1C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8DF1-133F-4201-9FFB-C37DB722A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66B5-B154-469D-8512-AD69C55D9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F1BD-FDC8-4561-8FBC-8F0C6166B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C6C8-C27B-4FE1-8EB4-F0B7C9DF2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1F1E-BA8C-4682-9A29-60AFB030E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62DB-8538-4831-9417-35357BE67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0C14-F0A1-42FF-9BBF-11791CFB6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5410-ED0E-4518-B7ED-16FCA889B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89BA-9D4E-4272-9925-BB9D5F1B2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2BB2-AE28-4664-88E3-DA844C47C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810A-B846-4A8C-AFF1-DAE1CB201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96F4-9724-456E-B8B0-E8695752F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03EB-0F23-4A7F-A0A0-3254F8DF8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2FDF-BD6B-4200-AD2E-96C2FFF24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73E7-076E-4DCC-91B2-15D53BD11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56F9-34FC-458B-9BF8-CCC6745A0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1869-429D-48AA-8DB1-0705D9C3C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A6D1-A22F-4875-B1AB-AEAFE9971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3DB3-1FCA-4566-8412-92893F732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36FD-24EA-48E5-952A-BA72C2B3F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9F06-4D09-43DE-89A7-4C87C9626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4EB2-56E7-4E76-8854-6CE0B7981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6269-45D1-4B5E-B00C-F82F7A662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57FC-4283-4D20-8DB0-E73D7D938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E909-ACB9-490C-8A3D-70C6960EA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A576-7ED9-40BA-A559-8478B0C61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9715-EA5C-46F1-A1F0-DF711DB80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95A0-1459-4853-9931-505C3D564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4BC6-95D8-4A38-A3A1-6F6EB6FD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941-39C4-4FED-8B9D-1F3EC26E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AA7ED-D2D1-4B8B-9FD4-2AEDA728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DC40E-0D84-4E45-B4BB-AB734286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13C59-6644-4645-B248-C087CD81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357EA-1006-42BC-8680-B7B55CDD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460C3-FDD4-4E7E-B551-FA0AB63E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C10B3-7AF6-460D-B5BB-13A36267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83B03-31E6-45FE-B40B-E46FC012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C6D3F-4F08-4B39-849F-F4DB94DF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A627F-A22C-4E1C-904B-BBD777FE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6B649-CB97-41BE-848E-3C6822AF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214-7A61-4F22-A399-AF935C6E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8663B-EEE9-4754-A176-1E4BA77E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C3A6D-9C18-40E1-8E1F-671CC48B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48D84-D160-43D0-A507-B8DA022B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24181-C138-4B8F-8E79-BDE80255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6F927-5110-40F1-9D08-8EAA6FEF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16454-E767-45C2-8B82-93A6F854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248AE-F90A-492F-AECD-E3AB9108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C4D66-790D-461E-AAB3-2575972E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15025-D0C9-4B96-90CD-3315632B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CF344-8295-4227-8163-42E6A6A0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869-A1A5-42E2-80B8-A80F3B9E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0B856-FC92-4175-BFF6-DEB48E4C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3AC94-F9FD-4DCE-8E7F-D9E47D31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87AC1-281E-473D-AFC6-D86186F7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A4426-B9AB-41A3-99C9-6AF26B2D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3C623-3377-4934-A916-A46E25B6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C1CA1-B752-4174-926D-96285445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FD670-EFCB-4A0F-A8EE-39B9E6AB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263BC-FA87-4B42-A268-6C892259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D1094-144C-4FA6-8B95-B87B425B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B5C85-995B-4A75-95DA-146626F9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D593-0BF7-445F-9E9F-48C97472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0DEA7-560C-4BAC-8118-A4F89261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C3767-F949-4AC1-92CD-18112374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708D0-1705-42C8-ADE3-5332800B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B4D7D-D7FE-4CFB-97C9-5647577C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76C49-D952-422D-BAB4-10DA2E59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B4479-7310-4AD0-A9AF-B2491EB1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7CBCC-5607-454A-A13C-50454DFE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BAA67-294B-4A42-84A8-B775B6CB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8AF81-90E0-497A-87EF-E11995BB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A1548-AFC6-4940-8E50-D9A08AF7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780B-716E-4873-B425-CE2398D8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70029-3050-46B5-9C18-B2B0E4AD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6802E-77B0-4B0F-9A1E-D4DF9F97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F028F-2258-4760-A6DB-86CAEF85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E1FB3-71EE-43B8-8DD1-F92E72AF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976A3-50C5-4A5F-BC10-5C05F649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9660-4F1E-46B1-8D2D-3F58AFA7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584B-857D-4AE2-90DC-ADB16BE7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2320-9FFC-498B-9BD3-EBC4E6DF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418A-E341-40AE-82A0-2F91D7E6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813B-ABBB-4014-84C7-CE02E54B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221-A447-4E2B-B03B-33DB1740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3280-ECE9-40F0-AE3B-F399AC94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A3FD-B26A-4D0F-BEE5-EBF90EAC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A518-E295-4B86-B7F2-FB29204A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D393-00AB-4197-A318-49755649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B76E-B168-467B-A282-9331FD12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C9B97-FCCF-4E3A-BE3E-1AD77D7A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46DFA-973C-47B7-A8C6-4DB83680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B945A-2C49-4E64-8E4E-E23CDCEB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77257-B594-4EFE-8786-1FB694F7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49441-155F-4B08-97F9-F05DB687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24E-BF31-4DD0-80B0-274192C5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A2333-96D6-497D-A17E-10532E5D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63F01-CA97-400A-9A6C-131E8F67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BB21B-1BA8-4074-9A96-87013945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53B5A-0156-4842-9F19-ADB43A13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1FABB-B0F0-47A4-830A-C8BECAD4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86F37-444B-49F7-B2F4-DCCBD133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5D49D-6A6C-4088-AB8B-920F4FC6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4DD87-6C74-4E46-B52E-913A1038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B7CA2-460D-42F6-A008-C354CA82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AAC40-EE42-4C1E-94C4-351428D8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238E-30D3-4008-8EC0-62169357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3C8E-78FC-48C7-90B4-931B1DEB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6213C-F0E7-43F2-A168-B52368C7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545A1-AFB8-41B6-BB80-CC161BBB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88842-6A12-46F9-87C6-DBB6E097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21E64-E1CD-4881-8528-879E3DFE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EF3EE-B98E-49EC-AC93-4F2AFF97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66F1E-B637-440D-8CC2-ACF7104A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555E5-3D48-4956-B596-8CFB15D3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975BD-A128-4923-BC13-2C9F335A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E1F13-6AA3-4BBD-AAEC-CED28CDE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BBE-D81D-477A-ACCB-87386041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BEF73-BEE7-4DCC-A1E8-9D240EBA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F2E37-A6FF-4BDC-BB3F-086B0CC7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31231-C1DA-4513-BE59-09B03CBB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66166-45FE-4D8B-B724-73AF7E7B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83D12-6998-4EEA-867D-D82BB1A7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3709C-A231-41C0-A7C7-2ACC1AD5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F5594-EE5E-4A4E-BD4C-B4B973A1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065FB-0F81-4C16-A41C-50B495B2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BF534-DDA7-4E27-B08A-74951135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25244-AA49-4957-B758-2A9FDF41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249-5A5B-4E57-995D-7BD1F879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C6F83-C3E4-4F54-8664-E2F8C23B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EA819-ACBA-4D7D-8EBA-F9677D52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2B0EF-D621-40BB-BE39-EDF683CA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A70B4-6AA5-4F85-BA27-63F21591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DA387-FA72-48A2-A70A-E8804443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9B7FA-A3CB-46EE-98C5-6226D7EA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044E6-81DB-4879-A42A-249587E6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6FFC8-5B57-4419-A789-F2F90C09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4742F-F8E4-4893-93E8-EF948AF2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AEEE2-7CAC-4CA6-86B6-A672AF9A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B09C-6176-461D-A796-9BC35EC4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9D498-6309-4107-8B50-10F4B0F2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A1C0D-9A0F-4195-A4EC-C65085F6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E3A11-64E0-4134-80F3-5E77C329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9A2B7-D674-4ACA-9C4D-EA867ECA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F68C1-C1C0-4F8A-BAC6-6DF1C520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B3E7F-1048-48AE-BB99-43E6C2C9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ECBAD-8512-4422-B8F9-50F7923E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25AA1-8FFB-4487-89F2-9548C25F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C0559-8D4A-4B50-8CB1-02528750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9AE3F-5573-4BF7-9616-C2CB641D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E5A-7F98-43BA-AC9C-4E99F43C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57E29-2EC3-460D-9F3F-3750C1A0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95A4F-CBC0-4C94-80CA-AC0566D7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62525-FDBF-4FD3-9F64-2260C25C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2BB54-E7F9-41B6-9B99-1C973F45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F31E2-D023-4A56-9420-C5B23728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53D40-BB51-413B-8416-217F5074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27CA0-761C-4991-A007-36F90C22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34573-4BBC-40AB-B766-802A8ADB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1C4AC-954A-439B-BBEE-A57A4DA6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7ECCC-2B09-4C95-BB3E-E7C9A936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259-C4CC-46FE-9AA1-E453D95E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524E2-8193-4D4B-ACCB-38829D16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ABC21-B6AA-4C98-A599-D6A8F2FE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7E8E1-2D5C-4F36-948F-6D138B2D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96A18-3FB2-4B04-A284-601D19F1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41D18-6686-41A1-9CDD-AB341DBE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27B0C-6DEA-4F10-B155-F9C14798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269D4-B9A6-4A3A-B785-8F3E620E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3E0C0-14A3-4273-B1AB-F7B9E4F1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65B43-33B5-485C-AEE0-59C36790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FE58C-7662-4B97-9B01-DBC65A66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1297-3478-4CF1-A932-A3F7CFD4047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E6A53D7-35C7-4151-B8D4-C4B6F6B8FA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239C-C16E-43D3-8AB4-F7BF1138C32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214A152-FFCE-42AA-89FC-69079C8F02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4B37-1C97-44C4-82BE-C8C4B5CA26A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9A73B394-8CBE-41B0-A4D0-58F219D6AD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21B3-BBF6-4F44-8E5A-E709FA0CA0F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344D3DE7-CB89-4833-A3E2-9DBE4548B3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A63E-8648-436B-93B1-77897BD05A3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486B790-E7B4-4707-ACAA-9F3B102BBF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EA5F-E25E-49F3-AC38-AC6AEA466FA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CF0B00E-090B-4F78-925C-B2052B4D14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057C-35D5-408A-B4CD-7383F4B01EB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B9F7A27-1D72-4D14-B603-66F58930C6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1EFC-CDD6-45DB-B07A-172BBA3CB92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75434B0F-FC9A-4A12-8625-E1DF4EA283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C1F9-180D-45E7-B418-9253F3D782A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E989F0B-71FA-4902-97D4-1545FFA0ED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0352-FDC2-42D7-A7F8-F6CDA31CBBD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86D1813-0D53-4ED1-93EC-6A3214277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BBE6-9F00-4E52-B3C5-696621DDE9D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2CD7D9E-5A09-4262-B19F-68C340A9CF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6F06-6DB3-4F33-8612-9CEB667BF8F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C8732B3-A086-4FEB-B856-6328A8F23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Ways to Use Square Bracket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th an Arra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quare brackets can be used to create a type na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[] scor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quare brackets can be used with an integer value as part of the special syntax Java uses to create a new arra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ore = new double[5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quare brackets can be used to name an indexed variable of an arra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max = score[0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69313B14-880A-4CEB-A13C-033F16D60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stance Vari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rray is considered to be an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other objects can have instance variables, so can arr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array has exactly one instance variable named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an array is created, the instance variabl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utomatically set equal to its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value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annot be changed (other than by creating an entirely new array with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score = new double[5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ve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.leng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as a value of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5BCCDDB5-1012-4356-A3C0-C36D5C7D9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Array Index Out of B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ray indices always start wit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always end with the integer that is one less than the size of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ost common programming error made when using arrays is attempting to use a nonexistent array ind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n index expression evaluates to some value other than those allowed by the array declaration, the index is said to b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ut of b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ut of bounds index will cause a program to terminate with a run-time error mes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ray indices get out of bounds most commonly at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teration of a loop that processes the array:  Be sure to test for thi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7689AAB3-0758-4D15-8FE9-460295103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izing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ray can be initialized when it is decl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for the indexed variables are enclosed in braces, and separated by  com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rray size is automatically set to the number of values in the br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[] age = {2, 12, 1}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ve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ge.leng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a value of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61999619-B15D-425F-8304-BB5EE553B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itializing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way of initializing an array is by using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reading = new double[10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ndex = 0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dex &lt; reading.length; index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ading[index] = 42.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elements of an array are not initialized explicitly, they will automatically be initialized to the default value for their base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A59D8C77-8648-441D-9F5D-F2A1EAB8C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n Array of Characters Is Not a 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ray of characters is conceptually a list of characters, and so is conceptually like a st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an array of characters is not an object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har[] a = {'A', 'B', 'C'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tring s = a; //Illega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ray of characters can be converted to an object of typ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how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190A5E85-D30E-4AB1-89C4-F58B02B8B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n Array of Characters Is Not a 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a constructor that has a single parameter of typ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har[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 s = new String(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bjec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have the same sequence of characters as the entire arra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ABC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ut is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oth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structor uses a subrange of a character array inst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 s2 = new String(a,0,2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 before, the new string object i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AB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C8D84CEA-A2E9-45A1-859C-7323EAC58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n Array of Characters Is Not a 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ray of characters does have some things in common with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an array of characters can be output using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rintl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ystem.out.println(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before, this would produce the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3ACA5A82-FBB4-46AF-BA9D-7ABDD2BFE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s and 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class types, a variable of an array type holds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ays ar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of an array type holds the address of where the array object is stored in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ay types are (usually) considered to be class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35A81638-2B4B-4486-AD1B-E7693ECF2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s ar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rray can be viewed as a collection of indexed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rray can also be viewed as a single item whose value is a collection of values of a base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rray variable names the array as a single i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pression creates an array object and stores the object in mem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1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ssignment statement places a reference to the memory address of an array object in the array vari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 = new double[1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57513B70-E78D-4582-8F18-E1D5CFB35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rr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data structure used to process a collection of data that is all of the same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rray behaves like a numbered list of variables with a uniform naming mech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has a part that does not change:  the name of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has a part that can change:  an integer in square brac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given five sco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[0], score[1], score[2], score[3], score[4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B5CF9162-2375-470A-B893-AEDED5CA7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s Ar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vious steps can be combined into one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a = new double[1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xpression that creates an array invokes a constructor that uses a nonstandard synta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also that as a result of the assignment statement above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s a single value:  a memory address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an array is a reference type, the behavior of arrays with respect to assignment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equality testing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and parameter passing are the same as that described for clas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4336F444-D13C-4887-85DB-3F71B282A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rrays with a Class Base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e type of an array can be a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ate[]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olidayList = new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ate[20]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ove example creates 20 indexed variables of typ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oes not create 20 objects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of these indexed variables are automatically initialized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attempt to reference any them at this point would result in a "null pointer exception" error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C20406F9-DB28-4514-BBDC-8300B651E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rrays with a Class Base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any other object, each of the indexed variables requires a separate invocation of a constructor us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ingly, or perhaps using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) to create an object to re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olidayList[0]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at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olidayList[19]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at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int i = 0; i &lt; holidayList.length; i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holidayList[i] = new Dat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of the indexed variables can now be referenced since each holds the memory  address of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B836102-0F68-4EA0-B998-58374AAC6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array indexed variables and entire arrays can be used as arguments to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dexed variable can be an argument to a method in exactly the same way that any variable of the array base type can be an arg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A621625E-A605-401E-8795-B42A266E6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 n = 0.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a = new double[10];//all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are initialized to 0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 = 3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myMeth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takes one argument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n all of the following are leg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myMethod(n);//n evaluates to 0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myMethod(a[3]);//a[3] evaluates to 0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myMethod(a[i]);//i evaluates to 3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a[3] evaluates to 0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BEEFEBD3-B2FF-46D1-8334-B9CFF008E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gument to a method may be an entire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ay arguments behave like objects of a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a method can change the values stored in the indexed variables of an array argu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hod with an array parameter must specify the base type of the array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BaseType[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oes not specify the length of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E31D66F8-9B78-4D62-82E2-2D6B0FB0D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ethod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Elem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specifies an array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 its single argu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class Sample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void doubleElements(double[] 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 = 0; i &lt; a.length; i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i] = a[i]*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E2B33696-65AA-4C01-9B1E-5BB9DF42A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ray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rays of double may be defin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a = new double[1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b = new double[3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arrays above,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Elem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mple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invok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mpleClass.doubleElements(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ampleClass.doubleElements(b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no square brackets are used when an entire array is given as an arg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also that a method that specifies an array for a parameter can take an array of any length as an arg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3E41EA8C-B760-4984-9A9D-8EBFA80BE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tfall:  Use of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an array variable contains the memory address of the array it names, the assignment operator (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nly copies this memory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oes not copy the values of each indexed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he assignment operator will make two array variables be different names for the sam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 = 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mory address i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now the same as the memory address i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They reference the sam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E8468813-9DC7-4FA3-948B-13F434848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tfall:  Use of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 is usually used to make two different arrays have the same values in each indexed posi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 = 0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i &lt; a.length)  &amp;&amp; (i &lt; b.length); i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[i] = a[i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above code will not mak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 exact copy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unle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ve the same leng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A057CC84-B29B-4C68-97E1-2DFEF0827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nd Accessing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rray that behaves like this collection of variables, all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an be created using one statement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score = new double[5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using two statem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scor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 = new double[5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statement declares the variabl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be of the array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cond statement creates an array with five numbered variables of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makes the variabl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name for the arr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E245F278-2D3D-43EE-AC24-98E249F10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tfall:  Use of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the same reason, the equality operator </a:t>
            </a:r>
            <a:r>
              <a:rPr b="1" lang="en-US" sz="2800" spc="-1" strike="noStrike">
                <a:solidFill>
                  <a:srgbClr val="034ca1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1" lang="en-US" sz="2800" spc="-1" strike="noStrike">
                <a:solidFill>
                  <a:srgbClr val="034ca1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y tests two arrays to see if they are stored in the same location in the computer's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oes not test two arrays to see if they contain the same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a == 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ult of the abov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xpression will b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hare the same memory address (and, therefore, reference the same array)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therw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E0ADB20A-F61C-492C-8131-9D5417FA4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tfall:  Use of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same way that an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can be defined for a class, an  </a:t>
            </a:r>
            <a:r>
              <a:rPr b="1" i="1" lang="en-US" sz="3200" spc="-1" strike="noStrike">
                <a:solidFill>
                  <a:srgbClr val="034ca1"/>
                </a:solidFill>
                <a:latin typeface="Courier New"/>
              </a:rPr>
              <a:t>equalsArray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 can be defined for a type of ar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how two arrays must be tested to see if they contain the same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llowing method tests two integer arrays to see if they contain the same integer val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423DD4CF-1DE7-4548-A4DD-7B470C538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itfall:  Use of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Arr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boolean equalsArray(int[] a, int[] 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a.length != b.length)  return fal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hile (i &lt; a.lengt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a[i] != b[i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++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F058888D-22B2-4FBF-A14A-B2B02789B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uments for the Metho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eading for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of a program has a parameter for an array 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usually called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ar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con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void main(String[]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args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sinc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ar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parameter, it could be replaced by any other non-keyword ident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Java program is run without giving an argument to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a default empty array of strings is automatically provi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3CE74C0-56E7-4BC2-A198-8E4142E77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uments for the Metho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is a program that expects three string argum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class Some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args[0] + " "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gs[2] + args[1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if it needed numbers, it would have to convert them from strings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372EDE6A-8EB4-489C-9570-FB6976FD0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uments for the Metho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program requires that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be provided an array of strings argument, each element must be provided from the command line when the program is ru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ava SomeProgram Hi ! there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ill se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gs[0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"Hi"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gs[1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"!"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gs[2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"there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ill also se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gs.leng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omePro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run as shown, its output will b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i ther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D27C1F3B-F555-44F0-8462-D0A67FB3D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That Return an Arr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Java, a method may also return an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turn type is specified in the same way that an array parameter is specif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int[]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crementArray(int[] a, int incre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[] temp = new int[a.length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 = 0; i &lt; a.length; i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emp[i] = a[i] + incremen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te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E85AAD88-8998-4B80-A5AA-0FD0FF5C1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ially Filled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act size needed for an array is not always known when a program is written, or it may vary from one run of the program to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on way to handle this is to declare the array to be of the largest size that the program could possibly ne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e must then be taken to keep track of how much of the array is actually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dexed variable that has not been given a meaningful value must never be refere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4119ED4C-EB03-4C92-8472-D9B154ACB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ially Filled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can be used to keep track of how many elements are currently stored in an arr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given the variabl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elements of the arra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omeArr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range from position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omeArray[0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roug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omeArray[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count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variabl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be used to process the partially filled array instead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omeArray.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also that this variable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must be an argument to any method that manipulates the partially filled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781CCD9-4B55-472E-BDEE-674EFDA81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or Methods Need Not Simply Return Instance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an instance variable names an array, it is not always necessary to provide an accessor method that returns the contents of the entire ar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ead, other accessor methods that return a variety of information about the array and its elements may be su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B0629F48-7874-4F51-A68D-9C5670721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nd Accessing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dividual variables that together make up the array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dexed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can also be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ubscripted variab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umber in square brackets is called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ubscri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Java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dices must be numbered starting with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, and nothing e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[0], score[1], score[2], score[3], score[4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CF75896D-501D-4F73-8A06-F81CDAF47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"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or ea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" 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andard Java libraries include a number of collection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es whose objects store a collection of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inar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s cannot cycle through the elements in a collection obj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like array elements, collection object elements are not normally associated with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re is a new kind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, first available in Java 5.0, called a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-each loo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hanced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kind of loop can cycle through each element in a collection even though the elements are not index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E3C037C6-4399-418E-B58B-4FAB2BFC7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"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or ea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" 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hough an ordinar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 cannot cycle through the elements of a collection class, an enhance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ycle through the elements of an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al syntax for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each loop statement used with an array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ArrayBaseType VariableName : ArrayNam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bov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each line should be read as "for eac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Variable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N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 the following: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VariableN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declared with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each loop, not bef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also that a colon (not a semicolon) is used aft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Variable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F2B9EE49-05BB-4C2D-AD02-BEAD63FE1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"For-Each" 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034ca1"/>
                </a:solidFill>
                <a:latin typeface="Calibri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each loop</a:t>
            </a:r>
            <a:r>
              <a:rPr b="0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make code cleaner and less error pr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indexed variable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 is used only as a way to cycle through the elements, then it would be preferable to change it to a </a:t>
            </a:r>
            <a:r>
              <a:rPr b="0" lang="en-US" sz="2400" spc="-1" strike="noStrike">
                <a:solidFill>
                  <a:srgbClr val="034ca1"/>
                </a:solidFill>
                <a:latin typeface="Calibri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each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or (int i = 0; i &lt; a.length; i++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a[i] = 0.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chang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or (double element : 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lement = 0.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</a:t>
            </a:r>
            <a:r>
              <a:rPr b="0" lang="en-US" sz="2400" spc="-1" strike="noStrike">
                <a:solidFill>
                  <a:srgbClr val="034ca1"/>
                </a:solidFill>
                <a:latin typeface="Calibri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each syntax is  simpler and quite easy to underst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39AD41C4-96F2-4680-9D26-D74A031A7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s with a Variable Number of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ing with Java 5.0, methods can be defined that take any number of arg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ly, it is implemented by taking in an array as argument, but the job of placing values in the array is done automat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lues for the array are given as argu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 automatically creates an array and places the arguments in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arguments corresponding to regular parameters are handled in the usual 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67292BB3-7595-4EA5-A063-E2BFEFF44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s with a Variable Number of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 a method has as the last item on its parameter list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rarg specifi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for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ype... Array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e three dots called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llip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must be included as part of the vararg specification synta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ing the arguments for regular parameters are any number of arguments of the type given in the vararg spec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arguments are automatically placed in an arr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array can be used in the metho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a vararg specification allows any number of arguments, including z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2268AC8F-E292-45FC-ABD4-B60C39D67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 with a Variable Number of Parameters 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Picture 5" descr="savitch_c06d07_1of2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4840200"/>
          </a:xfrm>
          <a:prstGeom prst="rect">
            <a:avLst/>
          </a:prstGeom>
          <a:ln w="0">
            <a:noFill/>
          </a:ln>
        </p:spPr>
      </p:pic>
      <p:sp>
        <p:nvSpPr>
          <p:cNvPr id="6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E4CB530B-81AC-4C59-813D-0E966F9A6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 with a Variable Number of Parameters (Part 2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3" descr="savitch_c06d07_1of2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4840200"/>
          </a:xfrm>
          <a:prstGeom prst="rect">
            <a:avLst/>
          </a:prstGeom>
          <a:ln w="0">
            <a:noFill/>
          </a:ln>
        </p:spPr>
      </p:pic>
      <p:sp>
        <p:nvSpPr>
          <p:cNvPr id="6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D5B4A53-40E3-4468-B0F9-937BF36D6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cy Leaks with Array Instance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n accessor method does return the contents of an array, special care must be ta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 as when an accessor returns a reference to any private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ublic double[] getArray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return anArray;//BA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xample above will result in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ivacy l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3D245742-24B9-419E-A9A2-36C727C74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cy Leaks with Array Instance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vious accessor method would simply return a reference to the arra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nArr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t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ead, an accessor method should return a reference to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ep co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private array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low, both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instance variables of the class contain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Arr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double[] getArray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temp = new double[count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nt i = 0; i &lt; count; i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emp[i] = a[i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tem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25694292-4C13-44F3-82F4-992E012B6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cy Leaks with Array Instance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private instance variable is an array that has a class as its base type, then copies must be made of each class object in the array when the array is copi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lassType[]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getArray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lassType[]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temp = new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lassTyp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[count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nt i = 0; i &lt; count; i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emp[i] = new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ClassTyp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someArray[i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te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6BC9F66D-0E9C-455D-9BD5-8F213FF62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nd Accessing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indexed variables in an array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n array is created, the length of the array is given in square brackets after the array typ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dexed variables are then numbered starting wit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ending with the integer that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ne less than the length of the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[0], score[1], score[2], score[3], score[4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C38A7FAD-424F-4CAA-AD7E-C15253260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ting an Arr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ort method takes in an array paramet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rearranges the elements i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 that after the method call is finished, the elements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sorted in ascending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lection s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ccomplishes this by using the following algorith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nt index = 0; index &lt; count; index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lace the indexth smallest element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index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5264449E-3399-4A64-9AAB-7BDF2B14E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ion Sort (Part 1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8" descr="savitch_c06d10_1of2"/>
          <p:cNvPicPr/>
          <p:nvPr/>
        </p:nvPicPr>
        <p:blipFill>
          <a:blip r:embed="rId1"/>
          <a:stretch/>
        </p:blipFill>
        <p:spPr>
          <a:xfrm>
            <a:off x="857160" y="1265400"/>
            <a:ext cx="7772400" cy="4451040"/>
          </a:xfrm>
          <a:prstGeom prst="rect">
            <a:avLst/>
          </a:prstGeom>
          <a:ln w="0">
            <a:noFill/>
          </a:ln>
        </p:spPr>
      </p:pic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4488DF9D-77CC-4174-96DC-A9B5838AE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ion Sort (Part 2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Picture 4" descr="savitch_c06d10_2of2"/>
          <p:cNvPicPr/>
          <p:nvPr/>
        </p:nvPicPr>
        <p:blipFill>
          <a:blip r:embed="rId1"/>
          <a:stretch/>
        </p:blipFill>
        <p:spPr>
          <a:xfrm>
            <a:off x="857160" y="1278000"/>
            <a:ext cx="7772400" cy="4216320"/>
          </a:xfrm>
          <a:prstGeom prst="rect">
            <a:avLst/>
          </a:prstGeom>
          <a:ln w="0">
            <a:noFill/>
          </a:ln>
        </p:spPr>
      </p:pic>
      <p:sp>
        <p:nvSpPr>
          <p:cNvPr id="7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7BDB25D5-AD2F-4859-BFEE-839314ACC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ion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(Part 1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class SelectionS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econdition: count &lt;= a.length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e first count indexed variables h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val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: Sorts a so that a[0] &lt;= a[1] &lt;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.. &lt;= a[count - 1]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0355169-300B-46BC-B925-5DD773BF6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ion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(Part 2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void sort(double[] a, int cou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ndex, indexOfNextSmalles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ndex = 0; index &lt; count - 1; index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//Place the correct value in a[index]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dexOfNextSmallest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dexOfSmallest(index, a, count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erchange(index,indexOfNextSmallest, 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a[0]&lt;=a[1]&lt;=...&lt;=a[index] and these 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the smallest of the original arr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elements. The remaining positions cont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the rest of the original array ele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6D57B925-4C2E-4568-B3FC-EF2556821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ion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(Part 3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s the index of the smallest value amo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startIndex], a[startIndex+1],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numberUsed - 1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vate static int indexOfSmallest(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artIndex, double[] a, int cou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 min = a[startIndex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ndexOfMin = start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AA65CE0F-5174-4BE4-85A0-73CE75042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ion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(Part 4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ndex = startIndex + 1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dex &lt; count; index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a[index] &lt; mi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min = a[index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dexOfMin =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min is smallest of a[startIndex] throu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/a[index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return indexOfMi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D71F42A7-9610-47ED-906F-5093CCF22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ion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(Part 5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econdition: i and j are legal indices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e array 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ostcondition: Values of a[i] and a[j] h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een interchang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vate static void interchange(int i, int 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   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 te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emp = a[i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j] = temp; //original value of a[i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C29253C6-95BB-4B4C-ACE4-8F887AC16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umerated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ing with version 5.0, Java permits enumerated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numerated type is a type in which all the values are given in a (typically) short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finition of an enumerated type is normally placed outside of all methods in the same place that named constants are defin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enum TypeName {VALUE_1, VALUE_2, …, VALUE_N}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a value of an enumerated type is a kind of named constant and so, by convention, is spelled with all uppercase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with any other type, variables can be declared of an enumerated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DABDD531-9A38-45EB-BC5D-1368C0777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umerated Type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the following definition of an enumerated typ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num WorkDay {MONDAY, TUESDAY, WEDNESDAY, THURSDAY, FRIDAY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of this type can be declared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orkDay meetingDay, availableDa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a variable of this type can be set to one of the values listed in the definition of the type, or else to the special valu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meetingDay = WorkDay.THURSDA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vailableDay = nul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61DC191E-E115-4F44-AC2A-608271F01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nd Accessing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score = new double[5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ariable may be used in place of the integer (i.e., in place of the integer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value of this variable can then be read from the keybo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enables the size of the array to be determined when the program is ru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score = new double[count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rray can have indexed variables of any type, including any class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indexed variables in a single array must be of the same type,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ase typ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E6C02004-B221-4DD2-831C-B7A14E6B5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umerated Types 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 like other types, variable of this type can be declared and initialized at the same tim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orkDay meetingDay = WorkDay.THURSDA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the value of an enumerated type must be prefaced with the name of the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lue of a variable or constant of an enumerated type can be output us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l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eetingDay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produce the following outpu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THURS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will the co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WorkDay.THURSDAY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the type name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orkD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not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D6CC9C20-CC58-45EE-9C94-3E509CDDF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umerated Types 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hough they may look lik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s, values of an enumerated type are no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y can be used for tasks which could be done b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s and, in some cases, work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ariable allows the possibility of setting the variable to a nonsense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an enumerated type variable constrains the possible values for that vari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rror message will result if an attempt is made to give an enumerated type variable a value that is not defined for its typ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CFACD643-7EEC-497F-B84F-83EE7C198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umerated Types 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variables or constants of an enumerated type can be compared us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or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 has a nicer 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 (meetingDay == availableDa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ystem.out.println("Meeting will be on schedule.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 (meetingDay == WorkDay.THURSDA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ystem.out.println("Long weekend!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31F4FBD4-7F22-42CC-BF31-3DB4FC1E2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Enumerated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3" name="Picture 6" descr="savitch_c06d13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4780080"/>
          </a:xfrm>
          <a:prstGeom prst="rect">
            <a:avLst/>
          </a:prstGeom>
          <a:ln w="0">
            <a:noFill/>
          </a:ln>
        </p:spPr>
      </p:pic>
      <p:sp>
        <p:nvSpPr>
          <p:cNvPr id="7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6AADC6C1-280B-42D8-A255-E6CB5AC54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cluded with Every Enumerated Type 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Picture 6" descr="savitch_c06d14_1of3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47372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4511633D-90E7-4F9B-ABA5-A5726A2B6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cluded with Every Enumerated Type 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Picture 3" descr="savitch_c06d14_2of3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4822920"/>
          </a:xfrm>
          <a:prstGeom prst="rect">
            <a:avLst/>
          </a:prstGeom>
          <a:ln w="0">
            <a:noFill/>
          </a:ln>
        </p:spPr>
      </p:pic>
      <p:sp>
        <p:nvSpPr>
          <p:cNvPr id="7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CA0DE1B2-5F64-490F-A458-A124C89B7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cluded with Every Enumerated Type 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5" name="Picture 3" descr="savitch_c06d14_3of3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3381480"/>
          </a:xfrm>
          <a:prstGeom prst="rect">
            <a:avLst/>
          </a:prstGeom>
          <a:ln w="0">
            <a:noFill/>
          </a:ln>
        </p:spPr>
      </p:pic>
      <p:sp>
        <p:nvSpPr>
          <p:cNvPr id="7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09AA15AD-4089-40DF-A8EA-64FD61FAC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get the full potential from an enumerated type, it is often necessary to cycle through all the values of the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enumerated type is automatically provided with the static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values(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provides this 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returns an array whose elements are the values of the enumerated type given in the order in which the elements are listed in the definition of the enumerated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ase type of the array that is returned is the enumerated typ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C3B38D3B-364B-4F22-A054-2ADBB026E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Part 1 of 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3" name="Picture 6" descr="savitch_c06d15_1of2"/>
          <p:cNvPicPr/>
          <p:nvPr/>
        </p:nvPicPr>
        <p:blipFill>
          <a:blip r:embed="rId1"/>
          <a:srcRect l="0" t="1964" r="0" b="2219"/>
          <a:stretch/>
        </p:blipFill>
        <p:spPr>
          <a:xfrm>
            <a:off x="857160" y="1389240"/>
            <a:ext cx="6783480" cy="4976640"/>
          </a:xfrm>
          <a:prstGeom prst="rect">
            <a:avLst/>
          </a:prstGeom>
          <a:ln w="0">
            <a:noFill/>
          </a:ln>
        </p:spPr>
      </p:pic>
      <p:sp>
        <p:nvSpPr>
          <p:cNvPr id="7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3AFF599-AC60-4C87-9494-77B9D5A31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Part 2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7" name="Picture 4" descr="savitch_c06d15_2of2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320508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2F81556B-A7B1-4241-8211-8C74041E0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laring and Creating an Arr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ray is declared and created in almost the same way that objects are declared and crea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BaseTyp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[]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ArrayNam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= new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BaseTyp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siz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be given as an expression that evaluates to a nonnegative integer, for example,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har[] line = new char[8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 reading = new double[count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erson[] specimen = new Person[10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C02D011E-7893-4BCF-B696-23AB21624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ming Tip:  Enumerated Types i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umerated types can be used to control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rol expression uses a variable of an enumerated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labels are the unqualified values of the same enumerated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umerated type control variable is set by using the static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value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convert an input string to a value of the enumerated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put string must contain all upper case letters, or be converted to all upper case letters 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oUpperCa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B21F69D3-B496-488E-A421-C9CC0CD33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umerated Type in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 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Picture 6" descr="savitch_c06d16_1of3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2782800"/>
          </a:xfrm>
          <a:prstGeom prst="rect">
            <a:avLst/>
          </a:prstGeom>
          <a:ln w="0">
            <a:noFill/>
          </a:ln>
        </p:spPr>
      </p:pic>
      <p:sp>
        <p:nvSpPr>
          <p:cNvPr id="7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2E05740-E4E4-45F7-97D2-1E1903BCF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umerated Type in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 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9" name="Picture 3" descr="savitch_c06d16_2of3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467676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A96196AE-8974-4393-92E3-BDD6B6873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umerated Type in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 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Picture 3" descr="savitch_c06d16_3of3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3692520"/>
          </a:xfrm>
          <a:prstGeom prst="rect">
            <a:avLst/>
          </a:prstGeom>
          <a:ln w="0">
            <a:noFill/>
          </a:ln>
        </p:spPr>
      </p:pic>
      <p:sp>
        <p:nvSpPr>
          <p:cNvPr id="8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18F10474-F559-456D-98E2-DCEB499F1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dimensional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sometimes useful to have an array with more than one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dimensional arrays are declared and created in basically the same way as one-dimensional ar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simply use as many square brackets as there are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index must be enclosed in its own brac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[]table = new double[100][1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[][][] figure = new int[10][20][3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erson[][] = new Person[10][10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E7BF1052-F819-418D-ADFE-5183FB90B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dimensional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dimensional arrays may have any number of indices, but perhaps the most common number is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-dimensional array can be visualized as a two-dimensional display with the first index giving the row, and the second index giving the colum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har[][] a = new char[5][12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, like a one-dimensional array, each element of a multidimensional array is just a variable of the base type (in this case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0DF5135C-3A94-43D8-AE48-FE9208155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dimensional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Java, a two-dimensional array, such a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s actually an array of ar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rra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tains a reference to a one-dimensional array of size 5 with a base typ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har[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indexed variable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0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1]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tc.) contains a reference to a one-dimensional array of size 12, also with a base typ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har[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hree-dimensional array is an array of arrays of arrays, and so forth for higher dimen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A7168D7E-09DD-4361-90D6-FFA2DBB98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-Dimensional Array as an Array of Arrays (Part 1 of 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7" descr="savitch_c06d17_1of2"/>
          <p:cNvPicPr/>
          <p:nvPr/>
        </p:nvPicPr>
        <p:blipFill>
          <a:blip r:embed="rId1"/>
          <a:srcRect l="0" t="1301" r="0" b="1787"/>
          <a:stretch/>
        </p:blipFill>
        <p:spPr>
          <a:xfrm>
            <a:off x="857160" y="1365120"/>
            <a:ext cx="6416640" cy="5002200"/>
          </a:xfrm>
          <a:prstGeom prst="rect">
            <a:avLst/>
          </a:prstGeom>
          <a:ln w="0">
            <a:noFill/>
          </a:ln>
        </p:spPr>
      </p:pic>
      <p:sp>
        <p:nvSpPr>
          <p:cNvPr id="8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B1D9551D-5A7A-4A54-A7F0-0F207638E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-Dimensional Array as an Array of Arrays (Part 2 of 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3" descr="savitch_c06d17_2of2"/>
          <p:cNvPicPr/>
          <p:nvPr/>
        </p:nvPicPr>
        <p:blipFill>
          <a:blip r:embed="rId1"/>
          <a:stretch/>
        </p:blipFill>
        <p:spPr>
          <a:xfrm>
            <a:off x="857160" y="1608120"/>
            <a:ext cx="7772400" cy="3517920"/>
          </a:xfrm>
          <a:prstGeom prst="rect">
            <a:avLst/>
          </a:prstGeom>
          <a:ln w="0">
            <a:noFill/>
          </a:ln>
        </p:spPr>
      </p:pic>
      <p:sp>
        <p:nvSpPr>
          <p:cNvPr id="8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223CCE32-4839-4E06-8320-7E885F78D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stance 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har[][] page = new char[30][100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stance variabl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 not give the total number of indexed variables in a two-dimensional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cause a two-dimensional array is actually an array of arrays, the instance variabl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ives the number of first indices (or "rows") in the arr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age.leng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equal to 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the same reason, the number of second indices (or "columns") for a given "row" is given by referenc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a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"row" vari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age[0].leng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equal to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B1503ACD-1CF8-4BF9-A009-297B798BE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ring to Arrays and Array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array element can be used just like any other single variable by referring to it using an indexed expression: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ore[0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rray itself (i.e., the entire collection of indexed variables) can be referred to using the array name (without any square brackets):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rray index can be computed when a program is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may be represented by a variable: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[index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may be represented by an expression that evaluates to a suitable integer: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ore[next + 1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7889B8F5-8099-46BD-8AB1-F9CEE95D8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stance 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llowing program demonstrates how a nest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 can be used to process a two-dimensional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how eac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tance variable i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row, colum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row = 0; row &lt; page.length; row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column = 0; column &lt; page[row].length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     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umn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age[row][column] = 'Z'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395857BC-BDF8-4CA2-AEBB-75B6CCB82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gged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row in a two-dimensional array need not have the same number of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rows can have different numbers of colum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rray that has a different number of elements per row it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agged arr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184CB6E-F953-4F04-B6EF-A1BF9FF67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gged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[][] a = new double[3][5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bove line is equivalent to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 [][] 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 = new double[3][]; //Note be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0] = new double[5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1] = new double[5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[2] = new double[5]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the second line make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name of an array with room for 3 entries, each of which can be an array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at can be of any leng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ext 3 lines each create an array of doubles of size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1F852CF3-087F-4CE1-BB7E-860911244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gged Arr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 [][] 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 = new double[3][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the above line does not specify the size of 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[0]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[1]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[2]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ch could be made a different size instea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0] = new double[5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1] = new double[10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2] = new double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281152BE-178F-45AE-BE20-81471458F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dimensional Array Parameters and Returned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s may have multidimensional array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specified in a way similar to  one-dimensional arr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use the same number of sets of square brackets as they have dimen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myMethod(int[][] 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amet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two-dimensional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9209A6BF-55EE-424A-8627-18F3023C3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dimensional Array Parameters and Returned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s may have a multidimensional array type as their return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use the same kind of type specification as for a multidimensional array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double[][] aMethod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{ . . . 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Meth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turns an array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BF61A374-3F8A-4871-92B0-89CBD96D3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rade Book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an example of using arrays in a program, a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radeBoo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to process quiz sc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of this class have three instance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a two-dimensional array that records the grade of each student on each qui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udentAver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an array used to record the average quiz score for each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quizAver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an array used to record the average score for each qui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152DA13F-AC9D-4497-AA7A-52A5D5394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rade Book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core that student 1 received on quiz number 3 is recorded i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rade[0][2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verage quiz grade for student 2 is recorded i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udentAverage[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verage score for quiz 3 is recorded i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quizAverage[2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e relationship between the three ar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C72E8D23-C931-4DC4-910A-B8707D957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wo-Dimensional Array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g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3" name="Picture 7" descr="savitch_c06d19"/>
          <p:cNvPicPr/>
          <p:nvPr/>
        </p:nvPicPr>
        <p:blipFill>
          <a:blip r:embed="rId1"/>
          <a:stretch/>
        </p:blipFill>
        <p:spPr>
          <a:xfrm>
            <a:off x="857160" y="1258920"/>
            <a:ext cx="7221600" cy="5002200"/>
          </a:xfrm>
          <a:prstGeom prst="rect">
            <a:avLst/>
          </a:prstGeom>
          <a:ln w="0">
            <a:noFill/>
          </a:ln>
        </p:spPr>
      </p:pic>
      <p:sp>
        <p:nvSpPr>
          <p:cNvPr id="8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815B4D5E-5B1B-4778-AE3A-B7E47D6A8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06_01"/>
          <p:cNvPicPr/>
          <p:nvPr/>
        </p:nvPicPr>
        <p:blipFill>
          <a:blip r:embed="rId1"/>
          <a:stretch/>
        </p:blipFill>
        <p:spPr>
          <a:xfrm>
            <a:off x="3048120" y="3733920"/>
            <a:ext cx="4881600" cy="20206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ray in 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 is ideally suited for performing array manipul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index = 0; index &lt; 5; index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score[index]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 differs from max by " 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max-score[index]) 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-</a:t>
            </a:r>
            <a:fld id="{364DF860-1075-48B3-9601-DEDA6C9F7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7:01Z</dcterms:modified>
  <cp:revision>13</cp:revision>
  <dc:subject/>
  <dc:title>Slide 1</dc:title>
</cp:coreProperties>
</file>