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704-0D55-4C95-9C92-76F2E926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F9A3-5D0D-4D8B-80F0-75E7976BC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489-D2E3-4001-9B1A-8728E4C85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2B10-EF3F-44C6-B62C-295C31301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3474-DE9E-4CD5-B099-F9B0DAC9E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5BD7-6848-45CE-AB6A-900FB2CB1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6C4F-4364-4DAE-BC81-F3D328EB7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AD18-DB69-497C-8998-2BB6AE040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046A-AB59-4A2D-BA44-A737DA729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292-9092-43A8-A5B3-D6E74F4BE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850-75F1-4002-A9C6-6B3FB92BC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1F0D-D58A-4AA0-87CF-687D14B19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E75-E9A1-49D7-8BC5-19C19712E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CE4-E572-4AFF-BE02-6C6EA9C91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97DA-ABAA-48B6-86AF-92DBE34E6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D688-4CC7-4F6E-9D8C-38AA11C4D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410A-2A4F-471C-B259-441D6B1D0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8AB-8899-43FC-8EAC-7F4E6F760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AAA2-16D1-4F67-9FC5-3EC67DE24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057C-B765-4943-B21F-BEB80FA8C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59D-2A14-4C53-B632-F4B76E65C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18EA-5A23-408B-938E-83E008393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6B2E-1488-4798-90EE-EEEBA0A26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B8DE-7EB2-49CD-BE5F-4F4256AA3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58F-F5C1-4678-9EBF-286FC067C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CC29-DBCC-4922-9D48-BEBB64199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CE4F-935D-4EE6-988F-622444324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0DB-91CC-4DAE-B161-E737B9D98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EADA-3CEB-4120-9962-E1758D41C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E79-E14E-42FD-9160-9093902B6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787-0CAF-45E9-B402-0174862EA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655-D31E-4B08-8CEA-443889C7A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DF1-B81E-4DEB-8C10-210AD4F9D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FA0E-562D-445E-8285-FB0DD3D04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263A-6F06-4A05-AA5B-5EEE3BC5D5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A4B7-0186-4F23-B56C-BBB7E70A2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917E-48C3-4214-AE37-DC0ADF625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4EC5-3766-4D11-8F58-68C8C720A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373-3FB0-4D82-A7C8-E69874679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9859-4B82-4825-9475-2B8740A9B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DCC9-A488-4175-B49F-347E702D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790B-00FE-4662-A941-90D7D281A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8B7E-6B06-4682-B654-CA455AA9B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79F-1038-48DA-B8BE-A79455593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8F3-9910-40BF-9501-08567E318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0548-C2B2-4FCB-BB82-F40F55695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30D8-11EF-4E71-8B47-CA1A60A95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A9F7-0322-41F8-9ADB-89DD66D60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3AA-91D6-4213-B8FB-FCE250677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DF4-842A-4A04-84BC-681E22DD4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1A72-89E6-4A27-9C24-B64CAA6C8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70B-A77D-45A1-8B61-D2136CFE1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3C9-B48B-49E2-8039-973CF6B1B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397F-7D86-4C68-BFEE-FFA6FC521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2196-DD3B-4F65-AED0-39D8EE5B9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C74-1405-43D9-B8C8-FD7AEA6A8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4626-52D8-4D27-9237-0C6DDEBDB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601E-ED3A-454C-B5D3-2FB72DC08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7C27-CC86-4839-AED9-FAEA30196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439-BE16-4505-9D7F-1E55A5208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8009-96FA-4566-A7E0-95F3D59AD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5941-1B20-48A1-9932-9404B077F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9A1-B6AF-49DD-B990-3EB03405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D4C-9543-46A6-AF55-05FC728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96132-0F33-401C-AE62-9E5058B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7EDAC-B8DC-4439-832F-F0786994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1E324-6728-4F48-BC4B-D23864C3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AF60-74DF-43C0-81BE-29EE7B3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D8819-9B2C-4A33-A011-F2A2F38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0E84B-07E6-4858-AF1E-363D1A6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F0BE2-210D-49D6-9F66-7378FF89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23753-B2F5-4279-AE8F-B1E10C1D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A5B87-9FEF-42B5-8C28-36DBA313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30AB-9FB1-415E-A37C-E07A7ADC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B84-63C8-4CC4-925B-072E87D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7FD72-674F-447E-AE29-98DD901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74AF2-6A94-4E1A-BEBD-3B860B7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86419-FD2D-44E3-8E1A-972E3DEA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5F42E-AD5C-419D-898C-41D3843C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F4537-39F8-43F0-A29F-F6C3A812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3ADBB-11C0-48D9-8600-3E69F842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3190-0B24-49DE-A241-83F504F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F41E1-0723-4717-893D-4221D3DE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5DDFB-7FF3-468E-A512-A00737D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A9A39-7B6D-4DA0-B91F-9548C9C2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B4E-A841-426F-902C-883CA044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4F284-058C-457D-9687-09BF12FA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7DB03-50CF-45CA-AA6D-09B51E61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B9AD1-262B-4F8E-B1C0-73D8B741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BA55-BBC2-4331-AAE9-2CC39A4D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D91E-F18E-4679-A60B-E473820D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FF562-DE17-4BE2-AA68-9B8EB519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E944B-35B4-4885-80D1-7ED64F47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320E-BEEE-4B89-8A58-7B6C7FA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0C241-CCD4-41E6-B74A-C912915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12C47-51E0-4400-B3E2-2B052C5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5604-974F-4041-AF91-2D20DFE9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AC698-DDE3-4E5C-A8B7-C675CC5D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562DD-0693-4294-BBE0-F052CC2A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442A-C7D4-4887-9739-AAB5ADB5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248A2-92A3-44E0-981A-E77893F4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F34F5-0257-418F-AB4B-A8A4D619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8BC59-545B-4763-BB1C-D0B2A86C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5D064-8778-4E53-BFDD-3C5A2F7E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6E4A3-6690-415F-9319-07B4317E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967D4-AA6E-4447-B705-3F43489D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23F33-276C-44F9-B32A-E98A4E1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0CA-B715-47F9-8688-7357B836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22221-0B36-4AE4-AD36-C9C4547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1591C-A7EA-4589-BAA4-A81B3C0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08BB3-244F-43C3-B126-BA52DBA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F5FDB-0E2F-4DCA-8D78-35E6E3A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95717-0055-414C-9174-3BFC031E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BDB5-272B-4338-AACC-379AA6AD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80AB-8789-4072-B349-04B3C9D8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434-9E08-42AF-835A-2B7FFE38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FC13-3CFD-4C2A-BA8C-74B7A60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A9A7-C1AC-4CF0-A9FA-B068FCF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3AB-97A4-44B3-8256-46009F67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31F9-2C45-44C3-9546-3A98A19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1DAD-A73E-4406-9023-79FF61E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CC6-75D1-4709-985A-A15D90F9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F4B-2149-4CAD-B565-8ED1207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DF85-2EAB-48F5-AD35-CFCEC5A6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DC063-C0F5-4A14-9190-3D296100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B9E32-B486-47F9-8EE2-CE8D536C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12790-DA1C-4327-8D2E-D01F484B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B1F71-C070-4208-BCE6-BF39DE3F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D71F7-2A38-42D3-9E9E-85A35EF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2B4-52C7-4D72-BD38-6B3BB4AF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4920D-854E-4C4F-A0E8-2A5C7BFC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CE49A-127C-47E9-8FEF-D87A7100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76A4F-27D8-4580-ADC3-C862E20A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D3F1C-FE9D-4CC5-87C4-E75FCEF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9F849-28FD-43FD-9543-BBAF669C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5033D-8BCD-46B1-9B3A-D80673A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F6D2D-6F2B-4E66-A7ED-FF2106E6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59C87-579E-442F-979A-93F36B92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FADFC-A2ED-4C09-AFB4-5551C453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6238-4DF0-4021-A09C-FA4D1FA8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425-091C-436A-B828-CFD4A07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DB85-0F87-4DDC-AA4A-BEF356F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ADC11-ADFC-49D6-802C-9BC3874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F615-1CA3-44BA-83DA-933544DB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400A-86FF-475C-BF1E-6BF232CA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0AC3-8DC0-4766-BAD2-29C31FA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BA3F-C927-44A0-BF92-16C0A62A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5EF3-AEEF-4CDF-8251-4FE737B4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A27E-8A55-4E14-A017-B2B2776D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160B5-93B2-42FC-A27B-820A45D1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EE292-C60F-4A70-92FB-3C83279F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9FF-B5B8-414B-AFA4-9800F3E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38694-F192-48FF-9865-43373566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0E0D0-ECBA-4DF0-9769-FB32ABF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86FB-5162-493B-9F61-3B792EA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33F64-8BAD-4DB1-9BCE-C9772F6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35E37-54CB-4834-AEB8-D0B7D6E5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7B43-3F48-408A-8C6C-1000FFA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91AC0-A5F2-4B27-B1BF-D8DA3F1B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31F8-673C-4E57-A339-513F833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AB68-1747-4F52-B8D0-A9590523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37E26-D0B5-4A00-BE87-61990EFD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A25-1E3B-4DF4-BB85-307883D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E6DB8-27F2-4D1A-A807-02854359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2D4A-2282-496B-895B-A0250A20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94F2-B25F-44E5-B98F-311675EE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E527-8520-46CC-94EC-6B6B0EDC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E7295-4C99-4293-B2D4-DB9426CD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8DA3-9D79-405B-827F-3065CE4F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79CB-7819-4E8D-9B81-484636B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45A6B-8BC4-4293-AD0C-745EEA0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25B7-909C-4D3A-BD32-C8765315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8E52-4605-4903-AC33-C44052BB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8C8-530F-417A-AB47-A9137955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0058B-7FDA-4CD9-9101-E870A370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E7F43-AFCF-4040-86DF-95948FE7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9124E-3473-4AE5-957D-A7C3EFF2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490B-0738-4022-8BCF-0164CFBA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19732-3D2F-4495-A974-E2BE5A1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188BD-ECAC-4EB9-82A9-2CF8C50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A130-0C71-4107-A6A1-9E852D41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E0459-4617-4B78-B6D8-7E82DB5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90B5A-9A70-4EE6-8E50-965FC9E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793B1-525A-45DD-9278-02FA0F80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A4B-3E29-49B8-8A41-2D019D83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22FE-A240-471F-802A-9F919F0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BACA7-EA3A-4BFE-94BC-D7833FD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F143C-4B26-4A42-B7F2-EC8D090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95C25-35AD-4BA9-AAB7-6309945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84B7-D5AC-4D88-9F81-1A9EB2EB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6FD76-C468-484D-AACF-74EA2AE6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4795-6512-4C9B-85B3-277AC48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C452E-BA6C-46F5-BF5F-7A2E259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05AC-D33F-4DE5-97AE-61185CB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E4CB2-CD5D-4F50-88F8-E2ED3DC6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916-63F5-46A8-9D42-72334BB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E641-4FB7-4735-85E4-65F186D8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CA476-E5B5-4285-962F-E82D59B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3D2CD-BD23-4DE3-B410-70B59E1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DED46-6B9D-44B8-B5CF-90CCBDAC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E22F-ACAC-4A84-9856-0F5379B9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BE3A1-1D64-4C52-876C-CEE32192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CFA5-3C00-4B39-970C-9444054C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6649D-8F6F-4224-92B6-200866CD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9A3AE-F5A5-477D-AEFD-5211147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F5B53-5078-4E28-B197-7A6C167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7EB-3FE1-4C47-8D37-B604DBFC0D5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4E6B885-821F-4B79-B4E4-5B73049B8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5290-723C-41FF-ABEA-9D381E88CB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50AFC39D-B384-4641-B903-5A1B57C6B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53C1-5DE9-44DB-8DFC-D8C2666FBA4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BD2CC478-D3C7-4022-8468-81D2935D33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4CA1-20E1-46BC-8D71-ECEC2D0349A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0200E8EB-BDC1-4D73-A1FF-67428044E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EDB1-8D22-48CB-B140-EF9B50C3E7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F845D1A5-648E-4E91-812D-75BC7AE77E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876920" y="632412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26BA-3C4A-44FB-968B-30C8C64FCC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E0F5FF99-5586-4A62-8623-5FC8A7617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456840" y="6339960"/>
            <a:ext cx="43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DEF2-8774-49D7-B246-D4B80F0AF96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14E0D9D3-66FB-422B-BDC5-380D6A8A3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BA0E-B42A-4A0F-B1ED-7129F3271A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BD4241DC-273E-449E-BB1B-8BBF510B23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7CE5-76D2-4739-AF47-297F1B7759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E7167C9A-6A9B-4481-88F2-1225AA302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CD6-0714-4A82-9741-435352D9237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E85C593D-622D-496F-8978-BB6F04EAE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F2A-CD4C-42E3-B01B-F95441D0F24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7FCCCC60-8478-4D18-9A41-AC473D40B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522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648320" y="6339960"/>
            <a:ext cx="914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A46-3571-4423-9756-F7A16E1C3B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572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-</a:t>
            </a:r>
            <a:fld id="{DD00DF30-2DFB-4C13-AB00-D89BF1988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638680" y="456840"/>
            <a:ext cx="32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5638680" y="19051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cu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52280" y="0"/>
            <a:ext cx="553572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Rectangle 4" descr=""/>
          <p:cNvPicPr/>
          <p:nvPr/>
        </p:nvPicPr>
        <p:blipFill>
          <a:blip r:embed="rId2"/>
          <a:stretch/>
        </p:blipFill>
        <p:spPr>
          <a:xfrm>
            <a:off x="5937120" y="4943520"/>
            <a:ext cx="3054600" cy="5364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5715000" y="6427800"/>
            <a:ext cx="281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pyright © 2008 Pearson Addison-Wesley. All rights reserv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Picture 6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lse part begins with the method cal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qual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du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123/1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evaluates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 this point, the current method computation is placed on hold, and the recursive call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executed with the parameter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recursive call is finished, the execution of the suspended computation will return and continue from the point ab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21F57CE-AEAF-41D2-BD5F-201B49BC2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6" descr="P582"/>
          <p:cNvPicPr/>
          <p:nvPr/>
        </p:nvPicPr>
        <p:blipFill>
          <a:blip r:embed="rId1"/>
          <a:stretch/>
        </p:blipFill>
        <p:spPr>
          <a:xfrm>
            <a:off x="1143000" y="2233440"/>
            <a:ext cx="6781680" cy="2724480"/>
          </a:xfrm>
          <a:prstGeom prst="rect">
            <a:avLst/>
          </a:prstGeom>
          <a:ln w="0">
            <a:noFill/>
          </a:ln>
        </p:spPr>
      </p:pic>
      <p:sp>
        <p:nvSpPr>
          <p:cNvPr id="5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FF2F912F-EC3E-4D70-8FDA-FD8E5830E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(12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not less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lse part begins with the method cal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n/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stitut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qual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(12/1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evaluates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625A1CF-D8A2-40C8-AB18-E52C1A5FF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is second computation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uspended, leaving two computations waiting to resume , as the computer begins to execute another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recursive call is finished, the execution of the second suspended computation will return and continue from the point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9D0C667-D5DE-48FA-931B-62DBCE165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6" descr="P583a"/>
          <p:cNvPicPr/>
          <p:nvPr/>
        </p:nvPicPr>
        <p:blipFill>
          <a:blip r:embed="rId1"/>
          <a:stretch/>
        </p:blipFill>
        <p:spPr>
          <a:xfrm>
            <a:off x="1143000" y="1832040"/>
            <a:ext cx="7086600" cy="322884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788E8FE-0157-4E06-B0DC-C7655BF21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 Vertical(1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ess tha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f-else</a:t>
            </a:r>
            <a:r>
              <a:rPr b="1" lang="en-US" sz="24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ement Boolean expression is finally tr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put statement writes the argumen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the screen, and the method ends without making another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is is the stopping c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2DD1E9B4-B69E-4BC7-A4EF-0F426E247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ecution of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riteVertical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6" descr="P583b"/>
          <p:cNvPicPr/>
          <p:nvPr/>
        </p:nvPicPr>
        <p:blipFill>
          <a:blip r:embed="rId1"/>
          <a:stretch/>
        </p:blipFill>
        <p:spPr>
          <a:xfrm>
            <a:off x="990720" y="1668600"/>
            <a:ext cx="7315200" cy="359568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8BF5CF0D-F064-4AA4-95D9-0CE5525F6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, the suspended computation that was waiting for it to end (the one that was initiated by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resumes execution where it lef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outputs the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%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ends th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the first suspended computation can resume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13EBB65-A16E-44BF-946F-D8598012D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6" descr="P584a"/>
          <p:cNvPicPr/>
          <p:nvPr/>
        </p:nvPicPr>
        <p:blipFill>
          <a:blip r:embed="rId1"/>
          <a:stretch/>
        </p:blipFill>
        <p:spPr>
          <a:xfrm>
            <a:off x="1066680" y="1776240"/>
            <a:ext cx="7239240" cy="3413160"/>
          </a:xfrm>
          <a:prstGeom prst="rect">
            <a:avLst/>
          </a:prstGeom>
          <a:ln w="0">
            <a:noFill/>
          </a:ln>
        </p:spPr>
      </p:pic>
      <p:sp>
        <p:nvSpPr>
          <p:cNvPr id="5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2755C079-1C04-4924-BCA1-96324036F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suspended method was the one that was initiated by th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sumes execution where it lef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outputs the valu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%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ecution of the original method call 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a result, the digits 1,2, and 3 have been written to the screen one per line, in that 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97F0A4F-5D30-485C-9473-15A07C737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cur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is a method that includes a call to it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on is based on the general problem solving technique of breaking down a task into sub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recursion can be used whenever one subtask is a smaller version of the original tas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7A7FCCC-7492-4AFE-8D42-2C73105F5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ion o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(12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6" descr="P584b"/>
          <p:cNvPicPr/>
          <p:nvPr/>
        </p:nvPicPr>
        <p:blipFill>
          <a:blip r:embed="rId1"/>
          <a:stretch/>
        </p:blipFill>
        <p:spPr>
          <a:xfrm>
            <a:off x="1143000" y="1981080"/>
            <a:ext cx="6610320" cy="2732040"/>
          </a:xfrm>
          <a:prstGeom prst="rect">
            <a:avLst/>
          </a:prstGeom>
          <a:ln w="0">
            <a:noFill/>
          </a:ln>
        </p:spPr>
      </p:pic>
      <p:sp>
        <p:nvSpPr>
          <p:cNvPr id="5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98A5701-1DA6-4FBD-A73D-346FD6437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er keeps track of recursive call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a method is called, the computer plugs in the arguments for the parameter(s), and starts executing the 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t encounters a recursive call, it temporarily stops its com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recursive call is completed, the computer returns to finish the outer compu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F5DB65A7-0F61-48AB-996E-27AE0EA6E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 at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encounters a recursive call, it must temporarily suspend its execution of a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does this becaus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 must know the result of the recursive call before it can proce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aves all the information it needs to continue the computation later on, when it returns from the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timately, this entire process terminates when one of the recursive calls does not depend upon recursion to retu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AADF01B-BD42-46C3-8A71-5BE9D0729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Form of a Recursive Method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eneral outline of a successful recursive method definition is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r more cases that include one or more recursive calls to the method being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recursive calls should solve "smaller" versions of the task performed by the method being def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r more cases that include no recursive calls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opping c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B2D5A36-97E6-44B5-B09D-54F2E8F3B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ample, the series of recursive calls eventually reached a call of the method that did not involve recursion (a stopping ca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, instead, every recursive call had produced another recursive call, then a call to that method would, in theory, run for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inite recu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ractice, such a method runs until the computer runs out of resources, and the program terminates abnorm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7CBC24A-87F9-48E2-A30A-92B0C1D27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lternative version of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No stopping ca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ublic static vo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WriteVertical(int 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newWriteVertical(n/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ystem.out.println(n%1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2F0E3D7-2EF1-4F2A-9626-AB2A303E6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with this method will compile and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2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2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1/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38619F6-3DB7-4425-951E-134D94449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Infinite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ing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uses that execution to stop to execute the recursive call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(0/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is equivalent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ewWriteVertical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so on, forev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definition of</a:t>
            </a:r>
            <a:r>
              <a:rPr b="0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ewWriteVertical</a:t>
            </a:r>
            <a:r>
              <a:rPr b="1" lang="en-US" sz="2800" spc="-1" strike="noStrike">
                <a:solidFill>
                  <a:srgbClr val="034ca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no stopping case, the process will proce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re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or until the computer runs out of re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6AA4D7F-8337-4C29-B1AA-A296CD5B9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rack of recursion (and other things), most computer systems use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ack is a very specialized kind of memory structure analogous to a stack of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n analogy, there is also an inexhaustible supply of extra blank sheets of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is placed on the stack by writing on one of these sheets, and placing it on top of the stack (becoming the new top of the sta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information is placed on the stack by  writing on another one of these sheets, placing it  on top of the stack, and so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BB79FAA-1B46-4358-8E42-F6CA8DBBA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information out of the stack, the top paper can be read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ut only the top pap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get more information, the top paper can be thrown away, and then the new top paper can be read, and so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the last sheet put on the stack is the first sheet taken off the stack, a stack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st-in/first-ou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structur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(LIF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D63281B-FEB5-4951-8719-B7D3C22D1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tic recursive meth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akes one (nonnegative)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gument, and writes that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digits going down the screen one per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:  Recursive methods need not be st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task may be broken down into the following two subta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case:  If n&lt;10, then write the number n to the scre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ursive Case:  If n&gt;=10, then do two subtask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all the digits except the last dig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 the last dig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2B2A592-F8A6-48A6-A21A-BD22AF3D9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keep track of recursion, whenever a method is called, a new "sheet of paper" is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definition is copied onto this sheet, and the arguments are plugged in for the method para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mputer starts to execute the method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t encounters a recursive call, it stops the computation in order to make the recursiv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rites information about the current method on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places it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2C8AB9F-967E-439D-B986-1378D0752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ew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sed for the recursive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uter writes a second copy of the method, plugs in the arguments, and starts to execute its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copy gets to a recursive call, its information is saved on the stack also, and a new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the new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FDDB836-E898-4962-8EED-F4E79FCF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rocess continues until some recursive call to the method completes its computation without producing any more recursive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then discar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computer goes to the top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heet contains the partially completed computation that is waiting for the recursive computation that just en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w it is possible to proceed with that suspended compu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67F3AA8-2CB7-4192-B0E3-CD2138963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suspended computation ends, the computer discards its corresponding sheet of paper (the one on t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spended computation that is below it on the stack now becomes the computation on top of the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process continues until the computation on the bottom sheet is comp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60A33025-E22C-4A79-B7EC-BF8D5D7B2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s for Recur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how many recursive calls are made, and how the method definition is written, the stack may grow and shrink in any fash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ck of paper analogy has its counterpart in the compu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tents of one of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heets of pap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ck fra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ctivation rec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tack frames don't actually contain a complete copy of the method definition, but reference a single copy inst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6218A8CD-4FBA-46B6-839D-A872FD44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tfall:  Stack Over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always some limit to the size of the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is a long chain in which a method makes a call to itself, and that call makes another recursive call, . . . , and so forth, there will be many suspended computations placed on the st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re are too many, then the stack will attempt to grow beyond its limit, resulting in an error condition known as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ck over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cause of stack overflow is infinite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F49F271-1F48-4781-A6ED-D0636B3EC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on Versus It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ursion is not absolutely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y task that can be done using recursion can also be done in a nonrecursive m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onrecursive version of a method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terative ve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teratively written method will typically use loops of some sort in place of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cursively written method can be simpler, but will usually run slower and use more storage than an equivalent iterative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6C8984D-483F-44E3-A58B-31F331A0F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writeVer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4" descr="D11_2"/>
          <p:cNvPicPr/>
          <p:nvPr/>
        </p:nvPicPr>
        <p:blipFill>
          <a:blip r:embed="rId1"/>
          <a:stretch/>
        </p:blipFill>
        <p:spPr>
          <a:xfrm>
            <a:off x="990720" y="990720"/>
            <a:ext cx="7505640" cy="5076720"/>
          </a:xfrm>
          <a:prstGeom prst="rect">
            <a:avLst/>
          </a:prstGeom>
          <a:ln w="0">
            <a:noFill/>
          </a:ln>
        </p:spPr>
      </p:pic>
      <p:sp>
        <p:nvSpPr>
          <p:cNvPr id="6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76C395C-D73C-426C-BCA2-7C6B84190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Methods that Return a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ursion is not limited to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ecursive method can return a value of any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utline for a successful recursive method that returns a value is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or more cases in which the value returned is computed in terms of calls to the same met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rguments for the recursive calls should be intuitively "smaller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 or more cases in which the value returned is computed without the use of any recursive calls (the base or stopping c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6E3C5FC-2178-4EF7-B527-28E27927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Powers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the Math class computes p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takes two arguments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returns a value of type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kes two arguments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returns a value of typ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efinition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based on the following formul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x</a:t>
            </a:r>
            <a:r>
              <a:rPr b="1" lang="en-US" sz="2000" spc="-1" strike="noStrike" baseline="30000">
                <a:solidFill>
                  <a:srgbClr val="034ca1"/>
                </a:solidFill>
                <a:latin typeface="Calibri"/>
              </a:rPr>
              <a:t>n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is equal to x</a:t>
            </a:r>
            <a:r>
              <a:rPr b="1" lang="en-US" sz="2000" spc="-1" strike="noStrike" baseline="30000">
                <a:solidFill>
                  <a:srgbClr val="034ca1"/>
                </a:solidFill>
                <a:latin typeface="Calibri"/>
              </a:rPr>
              <a:t>n-1</a:t>
            </a:r>
            <a:r>
              <a:rPr b="1" lang="en-US" sz="2000" spc="-1" strike="noStrike">
                <a:solidFill>
                  <a:srgbClr val="034ca1"/>
                </a:solidFill>
                <a:latin typeface="Calibri"/>
              </a:rPr>
              <a:t> * 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5BE1196-096C-4B51-8504-18D6EB0FD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argument 1234, the output of the first subtask would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utput of the second part would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A13DCBC-4404-4141-A5C6-E05CE0637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Powers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rms of Java, the value returned by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&gt;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uld be the sam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power(x, n-1) *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n=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power(x, 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uld return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the stopping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BBF7461-3F6C-4392-80B4-5A880C9C7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5" descr="D11_3a"/>
          <p:cNvPicPr/>
          <p:nvPr/>
        </p:nvPicPr>
        <p:blipFill>
          <a:blip r:embed="rId1"/>
          <a:stretch/>
        </p:blipFill>
        <p:spPr>
          <a:xfrm>
            <a:off x="990720" y="1390680"/>
            <a:ext cx="7515000" cy="3943440"/>
          </a:xfrm>
          <a:prstGeom prst="rect">
            <a:avLst/>
          </a:prstGeom>
          <a:ln w="0">
            <a:noFill/>
          </a:ln>
        </p:spPr>
      </p:pic>
      <p:sp>
        <p:nvSpPr>
          <p:cNvPr id="6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6CA7EEF-08D5-4A80-A419-5A2F637D1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ursiv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D11_3b"/>
          <p:cNvPicPr/>
          <p:nvPr/>
        </p:nvPicPr>
        <p:blipFill>
          <a:blip r:embed="rId1"/>
          <a:stretch/>
        </p:blipFill>
        <p:spPr>
          <a:xfrm>
            <a:off x="990720" y="1380960"/>
            <a:ext cx="7515000" cy="3571920"/>
          </a:xfrm>
          <a:prstGeom prst="rect">
            <a:avLst/>
          </a:prstGeom>
          <a:ln w="0">
            <a:noFill/>
          </a:ln>
        </p:spPr>
      </p:pic>
      <p:sp>
        <p:nvSpPr>
          <p:cNvPr id="6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4A70EC8-44BD-4E1E-9878-0C0FE95C7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the Recursive Method Call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ower(2,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6" descr="D11_4"/>
          <p:cNvPicPr/>
          <p:nvPr/>
        </p:nvPicPr>
        <p:blipFill>
          <a:blip r:embed="rId1"/>
          <a:stretch/>
        </p:blipFill>
        <p:spPr>
          <a:xfrm>
            <a:off x="988920" y="1219320"/>
            <a:ext cx="6554880" cy="5229000"/>
          </a:xfrm>
          <a:prstGeom prst="rect">
            <a:avLst/>
          </a:prstGeom>
          <a:ln w="0">
            <a:noFill/>
          </a:ln>
        </p:spPr>
      </p:pic>
      <p:sp>
        <p:nvSpPr>
          <p:cNvPr id="6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228F422-8BC4-40A7-AE63-2BA3E0705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Recurs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problem lends itself to recursion, it is more important to think of it in recursive terms, rather than concentrating on the stack and the suspended compu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n)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4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power(x, n-1) *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methods that return a value, there are three properties that must be satisfied, as follow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90CC9D9A-275B-432E-82A8-1365C963C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king Recursive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chain of recursive calls must reach a stopping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stopping case returns the correct value for tha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cases that involve recursion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 recursive calls return the correct value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final value returned by the method is the correct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properties follow a technique 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athematical in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8C06DB9-B72D-4903-A63B-BEEFF6F62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Desig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ame rules can be applied to a recursive </a:t>
            </a:r>
            <a:r>
              <a:rPr b="1" lang="en-US" sz="3200" spc="-1" strike="noStrike">
                <a:solidFill>
                  <a:srgbClr val="034ca1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opping case performs the correct action for that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of the cases that involve recursion:  if all recursive calls perform their actions correctly, then the entire case performs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B0E3459-35AC-422C-85D0-2442AAC81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nary search uses a recursive method to search an array to find a specified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rray must be a sorted arra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0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1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2]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. . .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  <a:ea typeface="Courier New"/>
              </a:rPr>
              <a:t>≤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  a[finalIndex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is found, its index is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is not found, -1 is retu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 Each execution of the recursive method reduces the search space by about a h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3E449D9-77A3-4DEB-A4F4-51BB5B63B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to solve this task looks at the middle of the array or array segment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value looked for is smaller than the value in the middle of the ar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second half of the array or array segment can be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strategy is then applied to the first half of the array or array 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44FF944-7110-42A6-8A20-F0BADC826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value looked for is larger than the value in the middle of the array or array 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n the first half of the array or array segment can be igno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strategy is then applied to the second half of the array or array seg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value looked for is at the middle of the array or array segment, then it has been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entire array (or array segment) has been searched in this way without finding the value, then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C597964B-03EB-420C-AD18-F503546C5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composition of tasks into subtasks can be used to derive the method 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ask 1 is a smaller version of the original task, so it can be implemented with a recursiv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ask 2 is just the simple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F3225FE3-ABAC-47EA-A4AC-60FEEA940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udocode for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6" descr="D11_5"/>
          <p:cNvPicPr/>
          <p:nvPr/>
        </p:nvPicPr>
        <p:blipFill>
          <a:blip r:embed="rId1"/>
          <a:stretch/>
        </p:blipFill>
        <p:spPr>
          <a:xfrm>
            <a:off x="990720" y="1152360"/>
            <a:ext cx="7495920" cy="5096160"/>
          </a:xfrm>
          <a:prstGeom prst="rect">
            <a:avLst/>
          </a:prstGeom>
          <a:ln w="0">
            <a:noFill/>
          </a:ln>
        </p:spPr>
      </p:pic>
      <p:sp>
        <p:nvSpPr>
          <p:cNvPr id="7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033A19F-C699-4931-AB57-09EBE6C89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ursive Method for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4" descr="D11_6"/>
          <p:cNvPicPr/>
          <p:nvPr/>
        </p:nvPicPr>
        <p:blipFill>
          <a:blip r:embed="rId1"/>
          <a:stretch/>
        </p:blipFill>
        <p:spPr>
          <a:xfrm>
            <a:off x="990720" y="757080"/>
            <a:ext cx="7394400" cy="572004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A0E10FF7-6567-4F9F-813C-F130E7268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5" descr="D11_7a"/>
          <p:cNvPicPr/>
          <p:nvPr/>
        </p:nvPicPr>
        <p:blipFill>
          <a:blip r:embed="rId1"/>
          <a:stretch/>
        </p:blipFill>
        <p:spPr>
          <a:xfrm>
            <a:off x="990720" y="1219320"/>
            <a:ext cx="7534080" cy="4714920"/>
          </a:xfrm>
          <a:prstGeom prst="rect">
            <a:avLst/>
          </a:prstGeom>
          <a:ln w="0">
            <a:noFill/>
          </a:ln>
        </p:spPr>
      </p:pic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3E4A387B-AB66-47ED-A25C-51FD19DF3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cution of the Metho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D11_7b"/>
          <p:cNvPicPr/>
          <p:nvPr/>
        </p:nvPicPr>
        <p:blipFill>
          <a:blip r:embed="rId1"/>
          <a:stretch/>
        </p:blipFill>
        <p:spPr>
          <a:xfrm>
            <a:off x="990720" y="1219320"/>
            <a:ext cx="7515000" cy="492444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DF8C235-CCDF-48EE-B6FB-1C9065EAC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infinite recu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each recursive call, the valu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increased, or the value o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de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chain of recursive calls does not end in some other way, then eventually the method will be called with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r th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6E925EF5-E607-4032-93C7-8F29133D2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stopping case performs the correct action for that c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first &gt; l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re are no array elements betwee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first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a[last</a:t>
            </a:r>
            <a:r>
              <a:rPr b="0" lang="en-US" sz="2800" spc="-1" strike="noStrike">
                <a:solidFill>
                  <a:srgbClr val="034ca1"/>
                </a:solidFill>
                <a:latin typeface="Courier New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in this segment of the array, an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orrectly se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key == a[mid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correctly set to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m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D7C42AD5-8CE6-405C-92C1-18DD99CF0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of the cases that involve recursion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recursive calls perform their actions correctly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entire case performs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 &lt; a[mi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one of the elemen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first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mid-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should then search only those elements, which i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cursive call is correct, therefore the entire action is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0B24AD73-A5E8-4AEC-A00B-098AF1BBB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th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 &gt; a[mid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t be one of the elements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mid+1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a[last]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r it is not in the ar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ethod should then search only those elements, which it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cursive call is correct, therefore the entire action is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sear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sses all three te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it is a good recursive method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4557894F-A844-4B21-9144-A0E288A06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ary search algorithm is extremely fast compared to an algorithm that tries all array elements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half the array is eliminated from consideration right at the st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a quarter of the array, then an eighth of the array, and so fo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02507877-4AB2-444D-A739-136A96147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Binary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an array with 1,000 elements, the binary search will only need to compare about 10 array elements to the key value, as compared to an average of 500 for a serial search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inary search algorithm has a worst-case running time that is logarithmic:    O(lo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al search algorithm is linear:  O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desired, the recursive version of the metho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converted to an iterative version that will run more effici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89258B36-AB0C-47A8-8528-AE035665A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for Vertical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if (n&lt;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writeVer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(the number n with the last digit removed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System.out.println(the last digit of 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34ca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/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number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last digit removed, and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%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last digit of </a:t>
            </a:r>
            <a:r>
              <a:rPr b="1" lang="en-US" sz="2400" spc="-1" strike="noStrike">
                <a:solidFill>
                  <a:srgbClr val="034ca1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7658C6B2-F6FA-4130-98CE-96E9FD637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Binary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0" name="Picture 5" descr="D11_9a"/>
          <p:cNvPicPr/>
          <p:nvPr/>
        </p:nvPicPr>
        <p:blipFill>
          <a:blip r:embed="rId1"/>
          <a:stretch/>
        </p:blipFill>
        <p:spPr>
          <a:xfrm>
            <a:off x="914400" y="1447920"/>
            <a:ext cx="8010360" cy="4038480"/>
          </a:xfrm>
          <a:prstGeom prst="rect">
            <a:avLst/>
          </a:prstGeom>
          <a:ln w="0">
            <a:noFill/>
          </a:ln>
        </p:spPr>
      </p:pic>
      <p:sp>
        <p:nvSpPr>
          <p:cNvPr id="7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07901990-837E-4B03-8508-56E0EB5D4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erative Version of Binary Sear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Picture 4" descr="D11_9b"/>
          <p:cNvPicPr/>
          <p:nvPr/>
        </p:nvPicPr>
        <p:blipFill>
          <a:blip r:embed="rId1"/>
          <a:stretch/>
        </p:blipFill>
        <p:spPr>
          <a:xfrm>
            <a:off x="914400" y="1295280"/>
            <a:ext cx="7943760" cy="5153040"/>
          </a:xfrm>
          <a:prstGeom prst="rect">
            <a:avLst/>
          </a:prstGeom>
          <a:ln w="0">
            <a:noFill/>
          </a:ln>
        </p:spPr>
      </p:pic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BA7650AC-70A9-401C-97C0-DAFFE1295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cursi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(Part 1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5" descr="D11_1a"/>
          <p:cNvPicPr/>
          <p:nvPr/>
        </p:nvPicPr>
        <p:blipFill>
          <a:blip r:embed="rId1"/>
          <a:stretch/>
        </p:blipFill>
        <p:spPr>
          <a:xfrm>
            <a:off x="914400" y="1219320"/>
            <a:ext cx="7562880" cy="4352760"/>
          </a:xfrm>
          <a:prstGeom prst="rect">
            <a:avLst/>
          </a:prstGeom>
          <a:ln w="0">
            <a:noFill/>
          </a:ln>
        </p:spPr>
      </p:pic>
      <p:sp>
        <p:nvSpPr>
          <p:cNvPr id="5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E1CF17C6-40A3-46B9-9055-04FBD0A8D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cursiv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hod (Part 2 of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7" descr="D11_1b"/>
          <p:cNvPicPr/>
          <p:nvPr/>
        </p:nvPicPr>
        <p:blipFill>
          <a:blip r:embed="rId1"/>
          <a:stretch/>
        </p:blipFill>
        <p:spPr>
          <a:xfrm>
            <a:off x="914400" y="1123920"/>
            <a:ext cx="7534440" cy="5048280"/>
          </a:xfrm>
          <a:prstGeom prst="rect">
            <a:avLst/>
          </a:prstGeom>
          <a:ln w="0">
            <a:noFill/>
          </a:ln>
        </p:spPr>
      </p:pic>
      <p:sp>
        <p:nvSpPr>
          <p:cNvPr id="5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577A7799-A8F0-42F1-B197-FD54D43F3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ing a Recursive C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methods are processed in the same way as any method call</a:t>
            </a:r>
            <a:r>
              <a:rPr b="0" lang="en-US" sz="3200" spc="-1" strike="noStrike">
                <a:solidFill>
                  <a:srgbClr val="034ca1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writeVertical(123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is call is executed, the argument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ubstituted for the parameter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the body of the method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2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less than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34ca1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 is execu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-</a:t>
            </a:r>
            <a:fld id="{1038205C-E93C-490F-A3C7-F99338F3F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ooter Placeholder 6"/>
          <p:cNvSpPr/>
          <p:nvPr/>
        </p:nvSpPr>
        <p:spPr>
          <a:xfrm>
            <a:off x="457200" y="6340320"/>
            <a:ext cx="434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pyright © 2008 Pearson Addison-Wesley. All rights re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enrick</cp:lastModifiedBy>
  <dcterms:modified xsi:type="dcterms:W3CDTF">2007-05-28T06:38:47Z</dcterms:modified>
  <cp:revision>13</cp:revision>
  <dc:subject/>
  <dc:title>Slide 1</dc:title>
</cp:coreProperties>
</file>