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0DA-F91C-4561-BE1E-13DEC184A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1B11-2BCF-4705-998D-43C0CDFE8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D457-72B9-4416-91F7-8A627EBDF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902-A8B9-468E-B59A-0E794B8D2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D59E-9599-4A81-9046-1D0FC21C0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7349-5390-4EAF-BFFE-EC2E85D67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EEA5-50A2-418C-906B-126BAFE3D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FD8-63AB-4332-9D7C-9EBAE1F0F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7013-05A0-42BC-907E-27E6B048E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7667-F208-4223-897D-A74AE2A95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1FA-E6C1-416A-B894-3F67C91CC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DAC-91D2-44E1-8994-0EA67F35A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A6A0-E76E-4BCC-94A0-6657AEBBC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2E52-149F-432E-A206-BA764F624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C878-E2FE-4CEE-BE95-B23C0CD83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987-D772-4652-8AEC-AFFFA193D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F18C-F55D-4210-AD76-C1DE217DE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C76E-AED3-493F-89C4-F30D3F3E7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05D-CCB3-44BD-917A-61FBAA0603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6BD-31E8-4235-A3E3-CFD3594E5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969E-E838-4C57-ADF1-178E301C9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B974-8990-4B54-9866-FD5EDFCD4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4F2D-3783-4C46-B1A1-F3FD5457A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E3E5-C8D5-4786-9997-5E3EED0A3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374-38F0-4ACD-9CA4-46D5CFD0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EC3-E952-4845-8012-07DB072FA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9B64-0AFB-4511-883A-F22CA71A6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178-3358-42DB-A1B6-3FB47D529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F6FF-56BB-40BB-B271-779BCF85D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3120-D9E0-40EB-9E66-9F98097F5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B2FB-D5BC-4AD6-9D88-8828F4C2A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9205-B57E-4365-A561-D963205BB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B42-540F-4E94-A06A-5B0ECC3D6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3B5A-D2A8-4A2B-817A-C3E2F5E33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6023-FA4D-47AA-9DCA-D258F2342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951-D075-4F3F-956E-071745087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5F4-EE1F-4C6B-BFBD-9E063319B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B74-348A-4289-919F-2B888D38A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36C-9E0A-412D-8BEA-6C4E19DCF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DC8-D094-4308-B029-75CB3FBB9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67E-A6B4-465A-BEBC-4FA17DB76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595C-FEA9-44CB-A896-2E8ECE2A7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B05C-7BBC-4C19-A5D7-EEB747D50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4FA7-8010-44EA-AAAF-D58038ED4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863-0032-4160-B584-5B8121D2D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ADA-C08E-4845-971D-2D214EF5C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671-BF0A-4EB9-A755-EEECA7185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FC2-723C-4DC8-B223-F63081480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C59-999A-4C56-ACF9-56E9EDB83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27F-0EDB-4B57-8A8B-748763429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4532-0D99-409A-80A6-3A30B71DD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1DE-6FD4-467D-8F88-E7168888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0F4-54FA-459D-A502-56E822B0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F6660-FB43-4FBE-B436-1915C7F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BAEF0-A668-4264-B452-89AF0A72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324F-0428-4CA9-AF43-4D3B3FA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50439-D451-486D-AC7B-418CBA0B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574EA-A12C-421F-B370-A4473408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A9758-570C-4FE2-86B7-C9BEA234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E5EBA-61B2-4D58-8BEE-007CEEE8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9F6B8-A6C2-4F0C-AB89-F0AF0398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ECE15-4587-4F1D-BDE0-BE96ADB6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725D0-C99D-4596-978B-E8566B3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F8D-AE5E-4AD8-9C23-2E639013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04A07-CA48-45E4-BBF1-7C246823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09924-FDAA-4195-A925-22386CB7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D8511-53AF-4AE6-A856-8633FE0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EFF44-C284-483F-8DDB-C6C1295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78F4D-5895-473C-86F9-C7F0EE6D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E6904-6BB0-4C98-80C2-010721F2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F0D67-A857-4B2A-A609-F13E73E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FA5D1-5AAF-4A1C-A2D0-DD19C5F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1A5C3-4C90-4F58-9ADB-01DB1917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00F31-4480-4A1C-9D2B-F423B062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C17-E53D-401F-86D8-4AD0226C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66D5D-9334-4150-B48F-50A7B580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51A6E-AC70-4341-B561-F13AED35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FDFF8-C710-4BA8-B911-210B8D62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FFF5-2A6F-4318-8769-AAD54482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1163-1C7A-44CA-9F1E-932AF124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66CBE-6B6D-47D6-A43E-C9575AEE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D76B9-EC6B-43E6-B4A3-41BBEC8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C8A8B-304D-47EF-8E13-7476095D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3EBD7-AC75-4CA4-A7C0-66529A6F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42E9C-50AA-408C-8B48-2758B52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0FD-ACEE-442D-8D2B-606AA883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4CD3-E164-4B29-92B1-3B60D14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C113-6987-480D-AE29-3A200ED3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FD6E-A0C7-491D-BB13-12FF19A4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C541B-508A-4EF3-8843-FA3E0612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7867D-2DD3-4455-9191-633ADE6B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2AC3C-59EA-4C85-A713-1CD0D2EB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D9C35-E93F-4849-B593-B9121A7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A7DA4-E521-4364-A111-6390FF0A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D1945-1AB2-4041-8B96-37DF8337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C248F-4961-4312-A39D-6450588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F721-0F47-41BC-84B8-08EB639C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770EC-F9A8-4AAA-A74D-CD34208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31C6A-E657-43CA-8488-1C10147E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460DB-E7BE-4A64-A313-B416842B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88F5C-9E4F-4305-8235-5B678C8F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9A46D-B29D-4607-8153-D21CF147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B25F-9340-4625-9AE2-8A5426C1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BEB9-E239-42E9-8612-203C828A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0A78-DC14-455B-B6F1-AB87D66F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0B01-6B2A-4815-9CA3-5D5ABD00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A074-FB6D-44B4-97EE-80CC5E4F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2B8-8022-474B-A451-EE2DD97A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A053-9EF4-4B99-907D-23ECC82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7E21-1548-4002-A943-DD1FFB8F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8CD-58F8-425F-BA5A-6736DDA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6572-EF99-4F49-A7B9-DD16FDC5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2E26-2DDB-4B1E-8AE8-788B4126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E8CAC-21DE-472C-B7FF-0B0F6196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1414E-B0EA-430F-9AC7-74C696D9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2246D-80E6-42ED-A7A0-AB5FCB0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BED8C-6F2D-4108-BFEC-38EF338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263B9-960F-40D0-8EEC-BAC3F92A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823-0B7A-4BB8-9ADF-C6AA950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C7F58-289D-4BB4-992A-B71848E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E767E-6CE2-4CE4-BD4E-EF1B426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19BB4-528A-4194-BED4-60552DC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AAB2A-9AFB-4C14-A9FD-D33E455C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73315-792D-409F-A6F2-EC86312A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BC845-874E-4086-A8EB-D24FA361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91F6D-C043-4F5F-8670-F12547F9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8C0F-1D4C-4BFA-B8B4-27706FEC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75AB3-6B28-4C59-8DA4-6042BC29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3A17-265D-4B5E-92D7-6E3DC74B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E19-D049-4F97-A002-1D60A54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CA3C4-A60C-4C45-A83E-7D5824B4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E746-1147-4DCC-825A-B4044CC0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B6BF-F4C8-4EFC-B7B8-522C5F9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A8EC-0526-4F28-B2B6-2F53220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CB74-3DB7-4E7F-933C-EEE45F1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403AB-CC38-43F7-BA26-53E177E6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7BBD2-3BBC-417B-B965-96B7B0B4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BCD4-9AC5-46F8-BEA4-4D872427C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6FBEA-27AB-4B7B-9EA2-EB77385A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607CE-8141-43D0-A58A-7D8D4083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54C-4BFE-4ABD-8569-F5D70A3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68170-1C36-45FF-9470-B470CC29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55A53-ABA2-491A-B910-9306DA7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EEC2-E41B-4CB9-9AAC-A6782C56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251D-E381-4B97-AF3D-D1D493B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7B1D8-1C75-4F41-BC92-CF88283F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0A40-DA9E-44DC-A207-454FB394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9F8C-01A1-4BED-B9EE-13DA5D2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6D058-DEB2-4374-8CF2-9A5EC08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93E3C-0553-4FD0-9916-499E7711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7D294-0716-4EFE-AB1A-FDDCCF78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A19-1B6B-4D8B-9661-CCABB873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3F72-853D-4A4D-A267-0E848A52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2328-DEF7-413E-A18B-2A92E714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58F6-8BA1-40EC-BA9B-5C6305E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F611C-887A-41CE-936C-2E3BC4E7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04A3-48AE-475D-9F31-69D5527F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B1DF0-1E33-4FCE-93FF-F0D0AD0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23E0-1D82-4D63-8222-42EB9B2B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C0D0-71E4-497C-A5BE-EF19345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1BA2-A765-4217-A105-A6E5DB87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C6EA8-F0FE-42C3-80D1-8D24762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FB8-B58D-42A3-B408-2F137754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2B58B-E2CC-4BED-8191-7474D79D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40F7C-1885-4849-AA1D-358168D0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4D27-8823-4246-8B93-2C0FB4F9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DF05-311A-4108-A80E-9DF9E7DC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C7AA1-CF58-446D-AFCB-AA3C156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EA2AA-CEF9-40F9-BFDA-F36D9278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70A99-4B30-47AB-BB6A-7CC65CAD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B5FD8-D473-41DD-902C-7637DC0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1046F-1009-4EC2-ADF7-103C9AB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4E4D7-00C3-4B1C-A782-B0E891D6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0CD-B9EC-4778-B03C-1E7FFC9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DC51-FF48-4563-A8CA-EDCCA1E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366AD-028B-4683-AF09-D3A26BF3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B0A7F-96E9-44F9-BF01-B3CE7247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3EB4-00C3-486D-9616-A43DA3E3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29C19-91C2-4E97-8CB6-10145D1B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4D954-2250-4F57-8CA7-DA1B7921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55E80-77CA-43F8-B541-C6870313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FBEDC-C18E-49D3-BF00-9091F999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34F4-04C8-434E-84BF-6873FF81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2DD0-7278-4D62-872D-5C1C7CE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19E-8947-4A48-9FA5-25D5C36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F1288-06FE-4FB9-B82D-63064DD3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BD2E1-08F8-4C6A-B696-9B917D65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A9442-6A7A-452D-A49F-A33A6E25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8453-C17E-41DF-9292-6072F79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2191A-8BF4-4118-8668-C8D3D8A1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DB18F-A2AD-4257-9DEF-7018A434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EE9C-FEE1-400B-8DEA-02D57227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1330E-2084-435F-9D55-0A12E4A1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CF227-2688-4BD2-9EDA-9A024C1A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C1760-36F9-42AE-9B9B-CF784B2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17AA-1095-437C-B592-2692EF246F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8340781-5E9E-42D2-907D-50F6FD359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104-05D9-4F77-A34C-C5EFD38EC8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BA717CF-E250-495F-B3A4-A7D43FAE5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41A4-2F78-492B-A9B2-7B0A03B4C9E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2DFC00A-9A5C-4D7D-B64F-25C385CC0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829-3BE0-493B-B3FD-205CD1534A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F982A60-F54F-4CC8-A343-CEBE11DDC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ED82-BEFE-4DA6-B1D2-3F7D89BA656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77A0490-7E69-4C31-AE63-F28B5A3F0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9E8-26DF-43BE-BD47-4295E170078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6406D24-1E93-438E-B23B-316B7AD7EE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7C6-BBF1-4944-838D-11CD47C1779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E10EA4E-D40F-4427-A5F6-A8D8E24CC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4D99-4612-4BF9-8C37-666ACD77091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9248035-1817-41CC-A2D1-37C36BE77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0E5-4E1A-4056-B755-07146AF7A7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A4146E9-FB8B-4E23-9E59-3E624994BD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0B6-D4AA-4E3D-B7D2-055DEAE9351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76DF2F6-AA9B-4912-92CC-CDF705F09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C9B3-CC85-472D-A9A4-B74F30BD96B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EF1324C-10AD-4F49-826A-16C212A6FE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90B6-62CF-4C59-BAF2-D57BC01319D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975316F-6F5F-4951-84EE-0B2C3F2DE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sole Input and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6" descr="savitch_c02d02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63EDE8B-131F-4FBB-845D-42959E3AD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savitch_c02d02_2of3"/>
          <p:cNvPicPr/>
          <p:nvPr/>
        </p:nvPicPr>
        <p:blipFill>
          <a:blip r:embed="rId1"/>
          <a:srcRect l="0" t="1535" r="0" b="2046"/>
          <a:stretch/>
        </p:blipFill>
        <p:spPr>
          <a:xfrm>
            <a:off x="863640" y="1625760"/>
            <a:ext cx="7772400" cy="478944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5F7DCE9-B10C-435B-9F17-CFAE3C681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savitch_c02d02_3of3"/>
          <p:cNvPicPr/>
          <p:nvPr/>
        </p:nvPicPr>
        <p:blipFill>
          <a:blip r:embed="rId1"/>
          <a:srcRect l="0" t="1474" r="0" b="2455"/>
          <a:stretch/>
        </p:blipFill>
        <p:spPr>
          <a:xfrm>
            <a:off x="863640" y="1346040"/>
            <a:ext cx="7772400" cy="497376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AC7324C2-1CB4-4F9A-B0B8-3FA6813FF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ting Money Amounts with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format specifier for outputting an amount of money stored as a double type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%.2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says to include exactly two digits after the decimal point and to use the smallest field width that the value will fit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price = 19.99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f("The price is $%.2f each."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s the outpu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 price is $19.99 e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7704B51-CE2D-4A8C-B544-57905CC10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gacy C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de that is "old fashioned" but too expensive to replac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gacy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legacy code is translated into a more modern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just like a C language function of the same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as done intentionally to make it easier to translate C code into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FB62605-88CE-4395-99F5-1B61C73A5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nables a program to output amounts of money using the appropriate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must first b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order to use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text.Number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umber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then be created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takes a floating-point number as an argument and return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 representation of the number in the local curr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5169603-708D-442C-B162-139FA491F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5"/>
          <p:cNvSpPr/>
          <p:nvPr/>
        </p:nvSpPr>
        <p:spPr>
          <a:xfrm>
            <a:off x="1436760" y="2975040"/>
            <a:ext cx="7272360" cy="98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914400" y="1219320"/>
            <a:ext cx="432576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CurrencyFormatDe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Default location: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 moneyFormater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.getCurrencyInstanc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1111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.8999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.format(1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DD1BDC2-00B1-459A-9F6C-5FA15ED18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914400" y="2590920"/>
            <a:ext cx="7543800" cy="312408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Form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of the previou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efault l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8350746-5AC8-418E-BB58-C2F757CD7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k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without any arguments produces an object that will format numbers according to the default 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contrast, the location can be explicitly specified by providing a location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o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as an argument to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CurrencyInstanc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doing so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o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must first be impor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port java.util.Local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544A1FE-3D65-47E8-A526-8C4B4403C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5"/>
          <p:cNvSpPr/>
          <p:nvPr/>
        </p:nvSpPr>
        <p:spPr>
          <a:xfrm>
            <a:off x="1217520" y="3193920"/>
            <a:ext cx="66754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725400" y="1278000"/>
            <a:ext cx="4456080" cy="6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i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41240" y="1294920"/>
            <a:ext cx="794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util.Loc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CurrencyFormatDem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static void main(String[] arg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{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US as location: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 moneyFormater2 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umberFormat.getCurrencyInstance(Locale.U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1111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.8999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moneyFormater2.format(19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F3A7CCC-81EE-43B6-9992-B48C60BD5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8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nsole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83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invoked by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that can be used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ole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o be output is given as an argument in parenthe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us sign is used to connect more than one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ds a line of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"The answer is " + 4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AA0D5E1-10EB-481E-8F05-62B06F4F2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914400" y="2590920"/>
            <a:ext cx="7543800" cy="3124080"/>
          </a:xfrm>
          <a:prstGeom prst="rect">
            <a:avLst/>
          </a:prstGeom>
          <a:solidFill>
            <a:srgbClr val="eeece1">
              <a:alpha val="25000"/>
            </a:srgbClr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fying Lo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of the previou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US as lo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8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$19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5B85A7C-0188-4A49-BC88-34B26D508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e Constants for Currencies of Different Count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8" descr="savitch_c02d04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616200"/>
          </a:xfrm>
          <a:prstGeom prst="rect">
            <a:avLst/>
          </a:prstGeom>
          <a:ln w="0">
            <a:noFill/>
          </a:ln>
        </p:spPr>
      </p:pic>
      <p:sp>
        <p:nvSpPr>
          <p:cNvPr id="6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1CF192A-392E-485F-93B1-112F4C61C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ing Packages and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braries in Java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ckage is a collection of classes that is stored in a manner that makes it easily accessible to any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use a class that belongs to a package,  the class must be brought into a program using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es found in the packag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imported automatically into every Java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NumberForm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// import theNumberFormat clas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mport java.text.*;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//import all the classes in package java.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64FF39F-84E6-4B78-AE74-B3988366E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enables a program to format numbers in a variety of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must first b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mpor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s associated with a pattern when it is created using the new comm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bject can then be used with 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reate strings that satisfy the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bject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ecimalForm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s a number of different methods that can be used to produce numeral strings in various form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74732EE-3A3A-401F-9A9A-3110A90B3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13" descr="savitch_c02d05_1of3"/>
          <p:cNvPicPr/>
          <p:nvPr/>
        </p:nvPicPr>
        <p:blipFill>
          <a:blip r:embed="rId1"/>
          <a:stretch/>
        </p:blipFill>
        <p:spPr>
          <a:xfrm>
            <a:off x="863640" y="1257480"/>
            <a:ext cx="7772400" cy="5148000"/>
          </a:xfrm>
          <a:prstGeom prst="rect">
            <a:avLst/>
          </a:prstGeom>
          <a:ln w="0">
            <a:noFill/>
          </a:ln>
        </p:spPr>
      </p:pic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B5A0C17-304C-4705-8FEA-06506208B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Picture 3" descr="savitch_c02d05_2of3"/>
          <p:cNvPicPr/>
          <p:nvPr/>
        </p:nvPicPr>
        <p:blipFill>
          <a:blip r:embed="rId1"/>
          <a:stretch/>
        </p:blipFill>
        <p:spPr>
          <a:xfrm>
            <a:off x="863640" y="1270080"/>
            <a:ext cx="7772400" cy="4659120"/>
          </a:xfrm>
          <a:prstGeom prst="rect">
            <a:avLst/>
          </a:prstGeom>
          <a:ln w="0">
            <a:noFill/>
          </a:ln>
        </p:spPr>
      </p:pic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2D79031-A5FD-4A6C-A8C6-CC915D9EE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Picture 3" descr="savitch_c02d05_3of3"/>
          <p:cNvPicPr/>
          <p:nvPr/>
        </p:nvPicPr>
        <p:blipFill>
          <a:blip r:embed="rId1"/>
          <a:stretch/>
        </p:blipFill>
        <p:spPr>
          <a:xfrm>
            <a:off x="863640" y="1270080"/>
            <a:ext cx="7772400" cy="4694040"/>
          </a:xfrm>
          <a:prstGeom prst="rect">
            <a:avLst/>
          </a:prstGeom>
          <a:ln w="0">
            <a:noFill/>
          </a:ln>
        </p:spPr>
      </p:pic>
      <p:sp>
        <p:nvSpPr>
          <p:cNvPr id="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BB2A734-81EF-4343-92B1-23AF8E3CD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includes a class for doing simple keyboard input named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a program must include the following line near the start of the fi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ort java.util.Sc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atement tells Java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available to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n a library of classes (i.e., Jav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3944FC3-7010-4CD8-AA5D-93A988CD7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7088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line create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ames the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hough a name lik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often used,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can be given 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in the following cod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s nam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scannerObject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c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has been created, a program can then use that object to perform keyboard input using methods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C2DCC3A5-4B09-4F08-AB9E-651B609C2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2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yped in at the keyboard and assigns it to 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 numberOfPods = keyboard.nextI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lue typed in at the keyboard and assigns it to a variab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 d1 = keyboard.nextDoubl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ple inputs must be separat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ite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ad by multiple invocations of the appropriate 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tespace is any string of characters, such as blank spaces, tabs, and line breaks that print out as whit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F9AF183-C688-43D0-AEBA-A45F4139F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Versu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method that can be invoked by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ystem.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ject i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lik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xcept that it does not end a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next output goes on a new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next output goes on the same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24A67D1-EE7A-4313-A580-E8024F906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21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ds one string of non-whitespace characters delimited by whitespace characters such as blanks or the beginning or end of a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word1 = keyboard.n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word2 = keyboard.n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input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elly be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d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el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C15552A-7B11-4B70-A154-60E0F2186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ole Input Using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721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an entire line of keyboard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line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ds in an entire line and places the string that is read into the variabl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nd of an input line is indicated by the escape sequenc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'\n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haracter input whe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y is p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screen it is indicated by the ending of one line and the beginning of the nex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a line of text, it read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haracter, so the next reading of input begins on the nex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es not become part of the string value returned (e.g., the string named by the variabl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l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bove does not end with the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haract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8EFD7AE-A75A-4B3F-BB0E-4DB82C198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board Input Demons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5" descr="savitch_c02d06_1of2"/>
          <p:cNvPicPr/>
          <p:nvPr/>
        </p:nvPicPr>
        <p:blipFill>
          <a:blip r:embed="rId1"/>
          <a:srcRect l="0" t="1419" r="0" b="2361"/>
          <a:stretch/>
        </p:blipFill>
        <p:spPr>
          <a:xfrm>
            <a:off x="863640" y="1346040"/>
            <a:ext cx="7772400" cy="5172120"/>
          </a:xfrm>
          <a:prstGeom prst="rect">
            <a:avLst/>
          </a:prstGeom>
          <a:ln w="0">
            <a:noFill/>
          </a:ln>
        </p:spPr>
      </p:pic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76A7B5F5-4C39-447B-85F7-EF4CFE4BC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board Input Demons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4" descr="savitch_c02d06_2of2"/>
          <p:cNvPicPr/>
          <p:nvPr/>
        </p:nvPicPr>
        <p:blipFill>
          <a:blip r:embed="rId1"/>
          <a:stretch/>
        </p:blipFill>
        <p:spPr>
          <a:xfrm>
            <a:off x="863640" y="128268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F40B420-A708-4076-A08D-A83CEDF69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5" descr="savitch_c02d07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87836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35214B9-5010-4479-983A-F422CB8D8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5" descr="savitch_c02d07_2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537080"/>
          </a:xfrm>
          <a:prstGeom prst="rect">
            <a:avLst/>
          </a:prstGeom>
          <a:ln w="0">
            <a:noFill/>
          </a:ln>
        </p:spPr>
      </p:pic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78CBC8C-61B8-4EDA-B43E-3AB961F1F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other Keyboard Input Demonstration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Picture 4" descr="savitch_c02d07_3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02264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4830A54-CA28-49DF-B205-FC96C738E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Dealing with the Line Terminator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040" y="162576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ads the remainder of a line of text starting wherever the last keyboard reading left o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an cause problems when combining it with different methods for reading from the keyboard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xt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n the cod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canner keyboard = new Scanner(System.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int n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s1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s2 = keyboard.nextLin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inpu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Heads are better t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1 he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values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BFD6691-4E05-4524-AAC9-FBE52B812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Dealing with the Line Terminator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'\n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040" y="162576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code and input on the previous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2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heads are better than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following results were desired inst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2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1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heads are better tha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al to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"1 head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n extra invoc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needed to get rid of the end of line character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'\n'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DF5977E2-4BEC-4B1E-AEE0-67E8CA290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5" descr="savitch_c02d08_1of3"/>
          <p:cNvPicPr/>
          <p:nvPr/>
        </p:nvPicPr>
        <p:blipFill>
          <a:blip r:embed="rId1"/>
          <a:stretch/>
        </p:blipFill>
        <p:spPr>
          <a:xfrm>
            <a:off x="863640" y="1287360"/>
            <a:ext cx="6946920" cy="5092920"/>
          </a:xfrm>
          <a:prstGeom prst="rect">
            <a:avLst/>
          </a:prstGeom>
          <a:ln w="0">
            <a:noFill/>
          </a:ln>
        </p:spPr>
      </p:pic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079DA3A-9809-48B1-9851-54E034161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Output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ing with version 5.0, Java includes a method nam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can be used to produce output in a specific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imilar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es not advance the output to the nex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out.printf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have any number of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argument is alway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mat 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contains one or mor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mat specifi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remaining arg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arguments except the first are values to be output to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A835C40-57A3-4466-8B80-8AE800C0A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" descr="savitch_c02d08_2of3"/>
          <p:cNvPicPr/>
          <p:nvPr/>
        </p:nvPicPr>
        <p:blipFill>
          <a:blip r:embed="rId1"/>
          <a:stretch/>
        </p:blipFill>
        <p:spPr>
          <a:xfrm>
            <a:off x="863640" y="1295280"/>
            <a:ext cx="6937200" cy="435924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3419477-0848-433E-8797-47973F0A1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3" descr="savitch_c02d08_3of3"/>
          <p:cNvPicPr/>
          <p:nvPr/>
        </p:nvPicPr>
        <p:blipFill>
          <a:blip r:embed="rId1"/>
          <a:stretch/>
        </p:blipFill>
        <p:spPr>
          <a:xfrm>
            <a:off x="863640" y="1295280"/>
            <a:ext cx="6856200" cy="4660920"/>
          </a:xfrm>
          <a:prstGeom prst="rect">
            <a:avLst/>
          </a:prstGeom>
          <a:ln w="0">
            <a:noFill/>
          </a:ln>
        </p:spPr>
      </p:pic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17BF47BF-D77C-43C9-9478-3550A51CC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Tip:  Prompt for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gram should always prompt the user when he or she needs to input some 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 the number of pods followed by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the number of peas in a pod: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525245B-03B5-4F97-B9A5-43B26EBEB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Tip:  Echo In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658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echo all input that a program receives from the key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way a user can check that he or she has entered the input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though the input is automatically displayed as the user enters it, echoing the input may expose subtle errors (such as entering the let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"O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 of a zer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F7233B86-BD4E-4C3A-A59D-FD8C2D13A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Service Checkout Line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5" descr="savitch_c02d09_1of2"/>
          <p:cNvPicPr/>
          <p:nvPr/>
        </p:nvPicPr>
        <p:blipFill>
          <a:blip r:embed="rId1"/>
          <a:srcRect l="0" t="0" r="0" b="1936"/>
          <a:stretch/>
        </p:blipFill>
        <p:spPr>
          <a:xfrm>
            <a:off x="863640" y="1295280"/>
            <a:ext cx="6326280" cy="5143680"/>
          </a:xfrm>
          <a:prstGeom prst="rect">
            <a:avLst/>
          </a:prstGeom>
          <a:ln w="0">
            <a:noFill/>
          </a:ln>
        </p:spPr>
      </p:pic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FE11BAD-5E14-423F-881C-C4131640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Service Checkout Line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3" descr="savitch_c02d09_2of2"/>
          <p:cNvPicPr/>
          <p:nvPr/>
        </p:nvPicPr>
        <p:blipFill>
          <a:blip r:embed="rId1"/>
          <a:stretch/>
        </p:blipFill>
        <p:spPr>
          <a:xfrm>
            <a:off x="863640" y="1333440"/>
            <a:ext cx="7075440" cy="2906640"/>
          </a:xfrm>
          <a:prstGeom prst="rect">
            <a:avLst/>
          </a:prstGeom>
          <a:ln w="0">
            <a:noFill/>
          </a:ln>
        </p:spPr>
      </p:pic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E4541904-2C84-4F90-BF01-0E3B3E405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mpty St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 charac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empty 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program execute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to read a line of text, and the user types nothing on the line but presse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ey, the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ads the empty 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FA814CA-0619-416A-AC84-649CDF670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Input Delimi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limiters that separate keyboard input can be changed when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following code could be used to creat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and change the delimiter from whitespace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##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canner keyboard2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Keyboard2.useDelimiter("##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invocation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useDelimi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##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not whitespace will be the only input delimiter for the input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board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62838A24-95B7-46EB-8B94-EF52E1B74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5" descr="savitch_c02d10_1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135240"/>
          </a:xfrm>
          <a:prstGeom prst="rect">
            <a:avLst/>
          </a:prstGeom>
          <a:ln w="0">
            <a:noFill/>
          </a:ln>
        </p:spPr>
      </p:pic>
      <p:sp>
        <p:nvSpPr>
          <p:cNvPr id="7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3A6BE0ED-B190-4F17-9F18-A50FA1FC3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3" descr="savitch_c02d10_2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34016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5F5235CC-00DC-4DA4-992E-EA50E8A31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 Specif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5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("$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f("%6.2f", pri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 each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output the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$ 19.80 e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%6.2f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dicates the following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 any text to be output and start the format specifier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up  to 6 right-justified characters, pad fewer than six characters on the left with blank spaces (i.e.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ield 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exactly 2 digits after the decimal point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.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 a floating point number, and end the format specifier (i.e.,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nversion charac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2C1A58A1-DE29-4BA4-846D-52401757D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ing the Input Delimi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3" descr="savitch_c02d10_3of3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3141360"/>
          </a:xfrm>
          <a:prstGeom prst="rect">
            <a:avLst/>
          </a:prstGeom>
          <a:ln w="0">
            <a:noFill/>
          </a:ln>
        </p:spPr>
      </p:pic>
      <p:sp>
        <p:nvSpPr>
          <p:cNvPr id="7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4A1157DE-0342-4988-B862-C58DCD493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and Left Justification i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double value = 12.123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Start%8.2fEnd", 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Start%-8.2fEnd", valu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output the fo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art   12.12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art12.12   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Start%8.2fE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 output that is right justified with three blank spaces befor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rmat str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Start%-8.2fEnd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 output that is left justified with three blank spaces after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.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9B8C510A-2DB1-43D3-A8A5-544ABFD93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argument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code contains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atement having three 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tring name = "magic apple"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f("$%6.2f for each %s."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price, nam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System.out.println("Wow"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$ 19.80 for each magic app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4ca1"/>
                </a:solidFill>
                <a:latin typeface="Courier New"/>
              </a:rPr>
              <a:t>W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the first argument is a format string containing two format specifiers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6.2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format specifiers match up with the two arguments that follow (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r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6596EC7-7946-4C4C-835E-2FC9098A8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 Break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 breaks can be included in a format string us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%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double price = 19.8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tring name = "magic apple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printf("$%6.2f for each %s.%n", price, nam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ystem.out.println("Wow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$ 19.80 for each magic a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AFD728F-8683-4BDB-95A4-C38D727DD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at Specifiers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stem.out.print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6" descr="savitch_c02d01"/>
          <p:cNvPicPr/>
          <p:nvPr/>
        </p:nvPicPr>
        <p:blipFill>
          <a:blip r:embed="rId1"/>
          <a:stretch/>
        </p:blipFill>
        <p:spPr>
          <a:xfrm>
            <a:off x="863640" y="1625760"/>
            <a:ext cx="7772400" cy="4576680"/>
          </a:xfrm>
          <a:prstGeom prst="rect">
            <a:avLst/>
          </a:prstGeom>
          <a:ln w="0">
            <a:noFill/>
          </a:ln>
        </p:spPr>
      </p:pic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-</a:t>
            </a:r>
            <a:fld id="{0C6B6592-619F-47E8-859B-790519DAA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5:17Z</dcterms:modified>
  <cp:revision>13</cp:revision>
  <dc:subject/>
  <dc:title>Slide 1</dc:title>
</cp:coreProperties>
</file>