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A694-9414-4877-85EC-DEEF7589C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0F51-83B4-4460-86CD-BBF10644F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972D-2A8C-4A47-BE77-082F625DA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EEA6-2354-4D58-A6B0-66253B1A1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DF50-BAEB-4BCF-976C-C4A3C700A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C050-80EF-491C-B795-542DA9733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272F-54AB-4EDE-8AFE-6B48BC442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A062-DEBD-48CD-98AE-232BD8EB9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487-EF00-4F40-860D-8B1D30518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701-684B-4743-8703-B9C0E5B93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3E7-16D5-447F-B909-3049B3D64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8720-4ECA-47E0-9E90-A8A1C1EBF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3F89-012D-4517-B72B-5BD8B0075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75FD-09C2-45A0-B479-DB7EF3A46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7200-47B2-4D20-AB52-E37F425A1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D854-112F-4055-8459-86C482530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631C-3F59-4A3F-B49F-C25F5D068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7FD1-5C60-4488-9BE9-7CC36D150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7A3-D254-419A-8792-83AD126F7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7A5-EEF0-46F9-B7A8-40428D9A9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BA6D-4DAE-4D6D-BD0C-D5FC09427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FFB-6E9C-465F-8E71-91D0DB5FB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F478-6658-456A-B73E-50D73E66E6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3F1F-F96B-463C-89B0-BB9619267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2BE-E546-4290-A7BA-F217594E0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8244-B16F-4909-94D0-4CCA4E5A5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A1AB-15AE-48C8-8E76-8438F4265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1867-A7FC-498F-92BE-3554CFCFC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40ED-85D5-4A29-8E22-751205ED0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D148-DF44-483F-90E0-59AF22808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5263-A07D-4F0F-BB7F-69FB1053D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314B-D87E-425F-B6DD-3A69B5CE8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1620-B918-4FCC-9A81-9D314E599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F46-796C-4708-9515-31B1AE7D0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AC05-AD8D-4660-9BEF-E2DB6BBC3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8490-5AA8-4C99-964A-D5EEDE125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3D93-8C30-4516-84B3-B178A6A2F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7A1-9786-43CB-BF64-47B0CEE9E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F37-1020-486D-AF0D-36B642A5F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B02D-C39F-4213-A831-9A08B1B38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BDC-ABA8-4426-BD7C-D5E59477F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78C-7D40-4EB7-96CC-5E606E945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9F8-E72A-4D08-A829-448AB2425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99A6-A73C-4FD3-A320-A9C70366D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69F7-3EED-4612-8FC7-7C632F05B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9194-EDFD-4AE0-8CBC-06152A962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12C8-384E-41ED-B01A-F93535E1F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6A4-A1E7-4DF1-A135-79750C1DC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0EC5-FDC8-48EC-B39F-63F3EF247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54F9-7683-4C0C-8E52-1D251B135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528B-6039-44A3-82AD-F8CF2201B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627-1231-4B33-B0EC-CBC6CE2E9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B4DA-E393-49FD-B75A-521B84342E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675F-B54E-4E71-90BE-26BBEE5F4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9670-12CD-4486-BCE3-B6EF5217C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873B-2DFE-49E1-B613-8AABE7119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2AE9-F39B-43D9-B43B-11372CEDD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E7C3-25D7-4FB4-9BBC-13F8C9389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149-EEC8-46CE-A6C8-EF58C402D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95E-8766-4346-A42A-097D4F4B3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6BBA-639B-419B-8407-4BF44A62F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EF5-6460-4B5A-AD4B-A58E3D979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E6F5-A3A7-4CCB-8FEE-591C19C7D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E78C-70E3-4370-AF9E-DCA295E9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96F-3E41-422E-839C-CAEF01C1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80AD6-7CD1-4A33-A2CC-B0DB9A06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70306-8049-4603-B788-0FAB126C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C07DE-D78C-4301-A097-101A4F2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26FAC-F874-438C-9C0E-F319B5E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7E906-57A6-4011-ABE2-A881FD09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9E83D-1132-4721-B419-4E053EE1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B9236-8E7E-4085-9CBD-A5419031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59D32-7B99-4641-B5C1-DAEABFD0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011A0-C135-495E-B95F-E552B262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536D5-A32B-4792-8BEB-9BB73D53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693-6040-4CB7-A43F-DCD37CF6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02BA4-B4F5-4AB7-B159-FBF912C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89A91-3B7C-48F1-B124-5FDE7693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C8493-C6E0-41D9-BBCF-9A4450A3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FE433-34A8-45AD-A8D5-CA0DD361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DCE1-3B0B-4E9A-9FFA-C42F8F13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0159E-80B3-49B9-991E-2436660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F1539-A59B-44A9-BE15-2EDB7AA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2FFDD-A255-4083-98B1-07AC8F8D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A954C-2E68-45C3-8CDB-281F0CD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AF499-67BC-4FE8-99D3-A73733D1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E39-580F-458A-9837-8B244C14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99B77-F970-4FCF-A2D6-9A72CE7E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D2363-B266-4FA8-9E5D-9562C37C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FD2FBE-05BF-453E-8441-C58F4CD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74A2-DBF6-47D2-80F7-89F53544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16FE6-90ED-4FD8-8917-A37B6B8C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6E602-F9FB-4FFC-95E6-F5BAA497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374FA-10A6-439E-951D-13BE5162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CA473-28EF-4A15-BFD9-3CB597FA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BA57-466A-463F-A864-0FD83305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DD48A-904F-43DF-9903-829791A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E7B0-AB6D-4C10-8EE6-93554A6C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6388-7EB7-40C3-82FF-4071FD8C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58C49-65C2-4C6A-AB7A-53B6E66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064F8-CCCA-40FE-A812-CD5EBFC9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705F1-7A44-42DB-B8EE-7B7BA595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9C06F9-CC00-4FF6-8A4A-ECBA2B2C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876CE-FF71-4C14-B96A-0B44779C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84BF9-FF6B-4283-BA9D-46B13D41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F7EF3-7839-4A35-807F-6209753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CD797-21A4-402C-AA5A-D4CDE9D4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4A9D9-7349-4E58-B985-5CCFE7F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528-7295-44AE-8AE8-8EBD162E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F8D47-CCA9-4EE1-A197-09A870C5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283FC-199C-4AA2-982D-5B7730A6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33D46-94DA-4718-89BB-D6C9B8C9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F9E8-70A7-4B6C-A2A0-CE7D28BB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5EDA2-25E9-4E11-9BB3-A4FCF9D1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D97-DE30-4CE3-95C5-2E0820C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A9E4-ED7F-4A93-86B0-1009376F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B356-BE21-4264-829A-C50606A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B428-F109-4F62-9CB8-58B0F7F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FAF-0761-47AB-AD56-180878C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4D5-74C3-4711-AC9E-9A5221A3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863-7132-47AD-986D-39BE872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FA3F-9E67-43A0-ACB6-AD3D378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5562-D8B6-4A0A-9ED2-D2A94628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BF41-C4EA-4904-9871-FC82F796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0146-0D20-44AB-952A-DB34AF0D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49C937-1F27-4AD7-A1F4-50D2B38C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8D5FC-B74C-4D5E-AECE-4432FA46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905B4-EDAE-41A1-A358-E8A34BA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F9936-C495-4B4F-B3B4-701D910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27982-B032-49D1-B905-A4D70F10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D99-1B84-468E-B9A5-0D05A23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76539-D724-4DAA-9DD5-8BCF6CC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DB42C4-E0C4-47DB-80F2-978F9E0E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D076A-806A-4200-B264-FB63086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04C7A-0AC3-45E2-BCFA-78969914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EF1C5-F790-448E-BFDD-B62B26DA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F6FC5-D300-4BB4-8EF2-7C69D775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AF186-34A2-4FEF-AE34-9364CCE1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F2E9-0B34-4DAD-8271-DF1C9BD5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B28E-834E-4B90-886B-827E16E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A968E-D924-43CB-92CD-3AFC198B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B43-5939-4DED-946A-732FA7F1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6CBF-2DA9-43D1-B697-552252AE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5C31-B45E-43DB-9986-1004B0ED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B7A5-F650-4EEB-BFCD-FAB13B5A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E70B-F89B-42F0-85B6-D1BA03A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587D-7371-4F5E-8D73-7B29E7F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A1D7-2A1E-4E94-87E4-7DCE10F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04DA-2BD7-4AE1-B271-70DCE4BE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9668-B5F4-43D2-BBFF-278651F7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47A1-A219-4021-8612-A26DB8FF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BF11-5829-4C70-B1CC-90AFF1FC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C21-6739-4BD3-8D25-AFF27F9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F07E-E95C-4674-A541-B9DD738C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F7EF4-1F0C-48FB-A405-ECC8936D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6C4B-DB51-4E8B-B58B-43B2A03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0A297-024A-4D24-B4F2-27623AFF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D96C-6C03-4211-8012-7DD4363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331AD-D19B-4B0A-A6D3-B76B55F0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C238D-7141-4000-A097-23E95CAE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3823-9CD2-40B4-B087-DB64D5A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9B561-E8C7-4BA6-8AB8-F21B507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9E74-DDFF-4FB6-A162-3F9152CD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366-D658-4DD2-AFB7-3E9BD849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C33E5-FF7F-4F03-876D-E0C4CE65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F1C3-21AE-45E7-95EF-CD3C4C12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AC26E-B6D2-43C1-883A-EF9E5D4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F7B7-7584-4F63-9CF7-9F9A785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E82C-F566-43AF-A293-A583EB6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D8C5-45D4-4048-BAD6-D1E832B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FE5B0-78CC-4F41-BF62-D9B327F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31A6-0ACB-43DD-99F7-4A434A4F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38D94-A653-4EBC-8EC3-2E9983D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15E82-F303-48E6-A069-5EDF2B88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098-7F34-4669-994E-413BA84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AD0C0-ABB3-46AF-8EBC-F07379EE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B4461-599C-43CE-A928-CBCD98CB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9492D-1F61-4602-8F20-E3B75DFC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7F6F-F7CF-4083-A494-220A488F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6E7D-6C32-4D55-8FC1-B0D07DB7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63943-44E0-4651-8C96-976DD33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A0E1-F8CC-41FD-B397-FAB722C0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962CF-FF83-4221-9D8C-3B68C477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DAB5B-1E19-42FD-BA86-B2E59275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C7A5D-708E-40E0-AAA0-12D42433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1DB-C8EA-4738-A430-04C8498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66F8F-756F-4DF0-9B25-C81B93D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95587-D5E1-4F68-8374-DD3E76C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B594-F3A3-4213-9276-9D87EEAE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1E8C-B6D6-4202-99E5-059795A0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16857-317F-4787-9E97-88153439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3624E-C627-4A52-8872-A7DF90DE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260C-03FE-4DDF-85BD-7DF9B503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D7B87-7022-48FF-8570-C8092A16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CA9F-537C-461E-9026-AEC99A17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189A6-2513-4CDF-8CB4-553B9FBF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D95-EC39-4F07-991A-E218508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BE167-98E9-4165-A44D-983FBA12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0FDC4-48E1-46E9-87EC-F575029A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18C5E-9551-4169-877D-EA02A89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B1B92-B3FF-4D92-9EF8-C14ABC72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C0B3-972B-413C-85B7-15DF9E81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0BA4-4A9F-41E2-AEB1-6368A2A2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92A3-6819-46C8-BB5E-EAA2EA7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B530-716C-4844-950D-93422EAB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9D938-E87B-4FC0-AAAF-9594F288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FD8DF-78C8-4D4E-8380-C2B46C4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740A-AFAE-4658-8D35-46EFEE2487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3721A28-02D2-461E-A83A-B2B4BABB51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2A97-F093-4807-B53B-4F8E29BD7DE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E8D4C861-E5D3-44B7-B75A-322962C72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56DF-5906-4EC4-96B7-EC5529FB64B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11B54DBE-2C0A-4DE9-8A05-A065DE7A6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FDCE-E9FC-4212-815D-39F2141C7C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128D86A9-DD3B-4691-BE7D-3F7D9806B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40A3-66B7-4E7F-87E7-EB422548031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911ECF40-0D97-4C85-982B-E51EF2BA2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577-BAA5-4542-AADA-CF7BEFD0A6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6D4B93FB-C8B1-4069-B532-34666B821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2185-C1E9-4272-9C09-0BC669BB7E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CC7221C2-FA8A-4161-8955-B824E354E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263-DF97-4567-9C7B-CECF50F20E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8ECF1EE4-E2BB-4651-910C-07360ECCC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9C3-DE3B-420D-A7D2-12CCB19DBF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15ED2367-81A9-427E-8D99-B5F297C10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D2F-678A-45DF-8DC7-3E823473FEE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AFD293D3-9406-42D6-9EC8-1C391FBFC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904-8E0E-4B65-A540-02B17B4224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46E69B8D-E96E-4F3B-B758-656DCB012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8EA-FAB1-4ACE-8F87-C025F781449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-</a:t>
            </a:r>
            <a:fld id="{2525E9CE-D49D-4492-B426-0B1BE4F20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p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ching pairs of commands may be nested inside one another, but they may not cross each o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Java, HTML commands are not case sen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HTML file is a text file whose name should en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6858000" y="266688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K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center&gt; 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743200" y="2666880"/>
            <a:ext cx="1600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op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/center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Group 13"/>
          <p:cNvGrpSpPr/>
          <p:nvPr/>
        </p:nvGrpSpPr>
        <p:grpSpPr>
          <a:xfrm>
            <a:off x="2209680" y="2859120"/>
            <a:ext cx="524160" cy="907920"/>
            <a:chOff x="2209680" y="2859120"/>
            <a:chExt cx="524160" cy="907920"/>
          </a:xfrm>
        </p:grpSpPr>
        <p:sp>
          <p:nvSpPr>
            <p:cNvPr id="554" name="Line 9"/>
            <p:cNvSpPr/>
            <p:nvPr/>
          </p:nvSpPr>
          <p:spPr>
            <a:xfrm>
              <a:off x="2209680" y="2863800"/>
              <a:ext cx="0" cy="898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>
              <a:off x="2209680" y="3767040"/>
              <a:ext cx="51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12"/>
            <p:cNvSpPr/>
            <p:nvPr/>
          </p:nvSpPr>
          <p:spPr>
            <a:xfrm>
              <a:off x="2216160" y="2859120"/>
              <a:ext cx="517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7" name="Group 14"/>
          <p:cNvGrpSpPr/>
          <p:nvPr/>
        </p:nvGrpSpPr>
        <p:grpSpPr>
          <a:xfrm>
            <a:off x="2319480" y="3171960"/>
            <a:ext cx="421920" cy="907920"/>
            <a:chOff x="2319480" y="3171960"/>
            <a:chExt cx="421920" cy="907920"/>
          </a:xfrm>
        </p:grpSpPr>
        <p:sp>
          <p:nvSpPr>
            <p:cNvPr id="558" name="Line 15"/>
            <p:cNvSpPr/>
            <p:nvPr/>
          </p:nvSpPr>
          <p:spPr>
            <a:xfrm>
              <a:off x="2319480" y="3176640"/>
              <a:ext cx="0" cy="898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16"/>
            <p:cNvSpPr/>
            <p:nvPr/>
          </p:nvSpPr>
          <p:spPr>
            <a:xfrm>
              <a:off x="2319480" y="4079880"/>
              <a:ext cx="41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17"/>
            <p:cNvSpPr/>
            <p:nvPr/>
          </p:nvSpPr>
          <p:spPr>
            <a:xfrm>
              <a:off x="2324520" y="3171960"/>
              <a:ext cx="416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1" name="Group 18"/>
          <p:cNvGrpSpPr/>
          <p:nvPr/>
        </p:nvGrpSpPr>
        <p:grpSpPr>
          <a:xfrm>
            <a:off x="6103800" y="2851200"/>
            <a:ext cx="757080" cy="1255320"/>
            <a:chOff x="6103800" y="2851200"/>
            <a:chExt cx="757080" cy="1255320"/>
          </a:xfrm>
        </p:grpSpPr>
        <p:sp>
          <p:nvSpPr>
            <p:cNvPr id="562" name="Line 19"/>
            <p:cNvSpPr/>
            <p:nvPr/>
          </p:nvSpPr>
          <p:spPr>
            <a:xfrm>
              <a:off x="6103800" y="2857320"/>
              <a:ext cx="0" cy="124236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0"/>
            <p:cNvSpPr/>
            <p:nvPr/>
          </p:nvSpPr>
          <p:spPr>
            <a:xfrm>
              <a:off x="6103800" y="4106520"/>
              <a:ext cx="7477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1"/>
            <p:cNvSpPr/>
            <p:nvPr/>
          </p:nvSpPr>
          <p:spPr>
            <a:xfrm>
              <a:off x="6113160" y="2851200"/>
              <a:ext cx="7477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Group 22"/>
          <p:cNvGrpSpPr/>
          <p:nvPr/>
        </p:nvGrpSpPr>
        <p:grpSpPr>
          <a:xfrm>
            <a:off x="6345360" y="3164040"/>
            <a:ext cx="523440" cy="617400"/>
            <a:chOff x="6345360" y="3164040"/>
            <a:chExt cx="523440" cy="617400"/>
          </a:xfrm>
        </p:grpSpPr>
        <p:sp>
          <p:nvSpPr>
            <p:cNvPr id="566" name="Line 23"/>
            <p:cNvSpPr/>
            <p:nvPr/>
          </p:nvSpPr>
          <p:spPr>
            <a:xfrm>
              <a:off x="6345360" y="3166920"/>
              <a:ext cx="0" cy="61092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4"/>
            <p:cNvSpPr/>
            <p:nvPr/>
          </p:nvSpPr>
          <p:spPr>
            <a:xfrm>
              <a:off x="6345360" y="3781440"/>
              <a:ext cx="5173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25"/>
            <p:cNvSpPr/>
            <p:nvPr/>
          </p:nvSpPr>
          <p:spPr>
            <a:xfrm>
              <a:off x="6351480" y="3164040"/>
              <a:ext cx="517320" cy="0"/>
            </a:xfrm>
            <a:prstGeom prst="line">
              <a:avLst/>
            </a:prstGeom>
            <a:ln w="9360">
              <a:solidFill>
                <a:srgbClr val="034c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3D8D30AD-3DB5-4535-B3D9-03528DEB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ooter Placeholder 24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of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tire HTML document should be enclosed in the pai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html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html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beginning and end of the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 of the document is enclos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head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head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ead is not displayed when the page is 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records information that is used by a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ead can contain a title, enclosed i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title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title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itle is used as a name for the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C0C891FA-F349-413E-AE72-08BD91AA2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 of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t of the document that is displayed on the screen is divided into two p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is the real content of the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nclosed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body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ther part should contain the e-mail address for contacting the document's maintainer, and the date that the document was last mod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enclosed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ddress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ddress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FAD63D0-EE66-41EB-91F1-36464CC15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64DB7CC-07DE-42BD-8E80-6CC23DAEF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676440" y="1824120"/>
            <a:ext cx="7789680" cy="320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402E161-5E31-4FBF-BD54-6EDE57152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676440" y="1461960"/>
            <a:ext cx="7789680" cy="393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line of a Simple HTML Document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A8EBE27-E35B-4042-98E3-1C900AAB3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676440" y="1971720"/>
            <a:ext cx="77896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712681B-7C43-4562-9D0E-753B95487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676440" y="1619280"/>
            <a:ext cx="7789680" cy="36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F09F965-686C-46D4-977A-0ADC99FD6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76440" y="1395360"/>
            <a:ext cx="778968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HTML Document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AA3BC5A-6AC8-4BCE-BD63-ACE80CCD1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676440" y="1814400"/>
            <a:ext cx="7789680" cy="3229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wser View of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CA39B1F-22D3-4150-BD86-BA65C4111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286520" cy="50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va programs are divided into two main categorie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e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ication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ordinary Jav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is a kind of Java program that can be run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F7D4669-B3DC-4D2D-8BD9-C2DE35F3F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R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name of an HTML document on the We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L is an acronym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iform Resource Lo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Ls often begin with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ht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name of the protocol used to transfer and interpret the HTML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browsers will fill i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ttp:/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it is o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61D5B67-FBA5-479E-8771-13875A3B3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li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t can be marked as a hyperlink so that if a user clicks that text, the browser goes to another Web page specified by the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 href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Documen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extToCl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Docume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a full or relative path name to an HTML file, or a URL to any place on the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TextToClic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displayed and underlined by the brow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C6314E7C-4D29-4189-B1E8-676B8721F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Pi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icture can also be inserted in an HTML docu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img src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Pictur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Pictur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a full or relative path name to a file with a digitally encoded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ommonly used picture-encoding formats are accepted,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g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tif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317AB648-4F43-4D6D-A6DA-971545454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B7C9CEB-6F1B-419D-B38C-DF7DBCAA6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757080" y="1395360"/>
            <a:ext cx="762804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50DC044-A8FF-4E8F-9264-55D67F5C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704880" y="1595520"/>
            <a:ext cx="7732800" cy="366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HTML Document with a Hyperlink and a Picture 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94C027C-E382-4074-AD50-D257272D9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804960" y="1514520"/>
            <a:ext cx="7532640" cy="3828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iew of an HTML Document with a Hyperlink and a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13" descr="savitch_c18d05"/>
          <p:cNvPicPr/>
          <p:nvPr/>
        </p:nvPicPr>
        <p:blipFill>
          <a:blip r:embed="rId1"/>
          <a:srcRect l="0" t="7979" r="0" b="2232"/>
          <a:stretch/>
        </p:blipFill>
        <p:spPr>
          <a:xfrm>
            <a:off x="811080" y="1200240"/>
            <a:ext cx="6562800" cy="523404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2D532EB-1370-4C81-8F4D-7E85B4DD9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Not Using Your Browser's Refresh Com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 normally keep copies of the most recently viewed HTML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helps the browser retrieve a page quickly when someone returns to that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feature can be a problem when designing and debugging an HTML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 change is made to a page, and that page is viewed again, it may still look the s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because the copy is being viewed, not the new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 have a command to reload a page, and thus get the most recent version of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usually called "Refresh" or "Reload", and is a button or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48E1D82-8051-44A9-8657-F842D2708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Other Languages for Authoring Web P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a low-level language for a Web browser much the same as assembly language is a low-level language for a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Web page designers today use a high-level Web page design language that translates into 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 Dreamweaver (Macromedia, Inc.), FrontPage (Microsoft Corporation), and GoLive (Adobe Systems In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DB24D93-99CA-42B5-B1BB-631E5A62B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ming Appl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eant to suggest a sm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were intended to be small programs run over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are no size constraints on app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can be viewed over the Internet, or without any connection to the 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is similar to a Swing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fact, almost all of the Swing techniques can be used in app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7F2D176-11FC-4477-8A2D-D2CA96228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nd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ypertext Markup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yper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ext viewed on a browser that contains clickable entrie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link or hyperlink is clicked, the document specified by the link is display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a language used to writ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TML docu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g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will be viewed on a Web brow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227085B-A0F2-4F89-B51A-91B221FDD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class is normally defined as a derived class of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n older class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has been superseded by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289FA3E-2CC8-4ADE-BD23-CDCA12D03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ts in the Class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C7368188-E5C3-4359-AD10-E135F892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72040" cy="52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lass can be designed as a derived clas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much the same way that regular Swing GUIs are defined as derived classes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normally defines no constru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erforms the initializations that would be performed in a constructor for a regular Swing G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9CC6A0A-7FCA-4EB4-920B-97E230FBB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nents can be added to an applet in the same way that a component is added to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add components to an applet in the same way that components are added to a 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7EA263CF-2B5E-4906-AB4E-954BDB7AA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970F0E7-AD67-4C39-B268-521CE09C4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676440" y="1452600"/>
            <a:ext cx="778968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4B92AC3-A3B6-406A-BE02-9698550A6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608960" cy="488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pplets Differ from Swing G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f the items included in a Swing GUI are not included in an app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do not conta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Vis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ets are displayed automatically by a Web page or an applet view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ets do not have tit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they do not us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Tit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normally embedded in an HTML document, and the HTML document can add any desire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CC50E5B-7637-4C77-8FA2-C9BE5F66A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pplets Differ from Swing G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do not us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HTML document takes care of sizing the app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do not have a close-window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they do not hav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DefaultCloseOpe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HTML document containing the applet is closed, then the applet is automatically clo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B9EE130-2A15-4E31-AED9-9493177F0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pplet class is compiled in the same way as any other Java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is run differently from other Java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run an applet is to embed i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let is then run and viewed through a Web brows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D037008-09F5-40FB-ABEC-93E6C3EF1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also be viewed using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 vie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pplet viewer is a program designed to run an applet as a stand-alon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ppletvie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ppletviewer FirstApplet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be necessary, however, to create the HTML document, and place the applet in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5074B00-CC62-4563-8A41-AC87E20D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made up of a collection of simple commands that can be inserted into a text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nverts the text file into a document meant to be viewed with a Web brows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ommands allow pictures and hyperlinks to be inse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s are editing commands that specify the main heading, subheading, paragraph beginning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D546FEA-C35F-4BCE-AFA2-CF6AC7074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us in 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s are constructed and added to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they are for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a method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behaves the same a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have menu bars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to a panel that is part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F3FFD66-DFA1-4A9E-A6CE-3C4A3E7DD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nverting a Swing Application to an 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astest and easiest way to explain how to define an applet, is to explain how to modify a Swing GUI to transform it into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ive the class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pp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ead of from the 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constructor with a no-parameter method name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ody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can be the same as the body of the deleted constructor, but with some items remov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E64FEB8-735C-4EEF-960B-86D553CF4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nverting a Swing Application to an App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u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method invocations that program the close-window button of a windowing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Tit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ete any invoc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applet was generated in this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ADB66C9-882E-48EC-A3B8-1DB41144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1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6B928962-1E76-4389-A851-BC3C0056D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738360" y="1990800"/>
            <a:ext cx="766584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2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70A43E4-FAD4-478B-9BAE-7E0342283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2" descr=""/>
          <p:cNvPicPr/>
          <p:nvPr/>
        </p:nvPicPr>
        <p:blipFill>
          <a:blip r:embed="rId1"/>
          <a:stretch/>
        </p:blipFill>
        <p:spPr>
          <a:xfrm>
            <a:off x="733320" y="1976400"/>
            <a:ext cx="767556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3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80374638-D5DA-4DDC-B863-0158C88E7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757080" y="1643040"/>
            <a:ext cx="76280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4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D309D37-8C26-4E7C-993E-AAD2E7942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1"/>
          <a:stretch/>
        </p:blipFill>
        <p:spPr>
          <a:xfrm>
            <a:off x="747720" y="1876320"/>
            <a:ext cx="7647120" cy="310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5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8616CF8-8E64-4B10-A533-4B564FB42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1066680" y="53341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Perform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identical to the one in Display 17.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1"/>
          <a:stretch/>
        </p:blipFill>
        <p:spPr>
          <a:xfrm>
            <a:off x="709560" y="1666800"/>
            <a:ext cx="7723080" cy="352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23080" cy="428652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6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BF42E726-EB34-462C-8912-DFD9A4EE1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7"/>
          <p:cNvSpPr/>
          <p:nvPr/>
        </p:nvSpPr>
        <p:spPr>
          <a:xfrm>
            <a:off x="2986560" y="3809880"/>
            <a:ext cx="54295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methods assumingCorrectNumberFormats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ringToDouble are identical to the ones in Display 17.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7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411037A-9BC7-4192-B109-3925ECD31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700200" y="1452600"/>
            <a:ext cx="774216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Introduction to HTM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HTML is simply a language for formatting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HTML is not a word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more like a very simple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similar to the annotations used by copy editors to mark a manuscript before it is typeset for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 is not part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can be interaction between HTML and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ML can be used to display a Java apple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E81BB1F-3B14-47F7-964A-E89B00FE0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8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CFF3899-405A-4338-B251-B1F2993F7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709560" y="1866960"/>
            <a:ext cx="77230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Calculator (Part 9 of 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2591174-7EAA-46E0-A6F4-23995237E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795240" y="1395360"/>
            <a:ext cx="7551720" cy="4067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ypically, but not always, a small pi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con can be stored in a file of many different standard forma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as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i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.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mageIc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used to convert a picture file to a Swing ic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it can be added as a component to any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, such a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pp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NameOfImageIcon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=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("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PictureFile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0EEF7274-5AB5-49FD-A544-2E7D3CCE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Icons to an App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siest way to display an icon in an applet is to place it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three lines create a label, create an icon, and then add the icon to the 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Label aLabel=new JLabel("Welcome to my applet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 dukeIcon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ageIcon("duke_waving.gif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Label.setIcon(dukeIc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aracter pictured in this icon is named </a:t>
            </a:r>
            <a:r>
              <a:rPr b="0" i="1" lang="en-US" sz="2400" spc="-1" strike="noStrike">
                <a:solidFill>
                  <a:srgbClr val="034ca1"/>
                </a:solidFill>
                <a:latin typeface="Calibri"/>
              </a:rPr>
              <a:t>Du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 is Sun Microsystem's mascot for the Java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9AA64F86-BBDF-48B8-B831-C76254CFE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9FEF275-4FDE-4E30-8C77-6D4BABF7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tretch/>
        </p:blipFill>
        <p:spPr>
          <a:xfrm>
            <a:off x="676440" y="1743120"/>
            <a:ext cx="7789680" cy="3371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81A8B92-A503-4861-833D-EB78DF9E9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709560" y="2257560"/>
            <a:ext cx="7723080" cy="234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with an Icon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D7D388E3-5EAE-4D30-87DC-FA4DE2783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90040" cy="4600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ing an Apple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be placed in an HTML document with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 ta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applet code="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Applet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idth=Number1 height=Number2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give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le name only, then the HTML file and the applet file must be in the same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PathToApp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 full or relative path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6C305D0-DDD3-4DAB-81B4-7CD4335BA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ing an Applet in an HTML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name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e, no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le, is gi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also that the width and height of the applet is given in this command, and not within the applet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dth and height are in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code, when placed in an HTML document, will display the calculator applet in a browser as sh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applet code="AppletCalculator.class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idth=400 height=300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648A1BD-672A-4952-A680-160F42341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pplet in an HTML Doc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tit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Vampir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tit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applet code="AppletCalculator.class" width=400 height=300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AA350A08-58CC-41B6-8241-9F7B04347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basic kinds of HTML command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mark the beginning and end of a section of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se that mark a single location in the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that mark the beginning and end of a section of text have the for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Comman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om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/Command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56DB5202-F763-4780-B608-5B3E42B6D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owser 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4F07E06-3A2E-4002-8FFD-0006FD3A7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905280" cy="532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Using an Old Web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ld browser may not be able to run applets from an HTM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a java application runs correctly on the sam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 browsers do not use the same Java Virtual Machine used to run regular Java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ld browser will have an old Java Virtual Machine, or perhaps, no Java Virtual Mach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an applet viewer will work, as long as a recent version of Java is inst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D0ADC9B-D2C9-44AE-9128-B07816354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ets and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let can be a program, written by someone else, that runs on your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ever someone else's program runs on your computer, there are security questions you should as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it read information from your fi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 it corrupt your operating syste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 are designed so that they cannot do any of these things (at least easi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3F35FA94-381A-4EC1-B017-EA0E15E0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makes the phrase "World's Greatest Home Page" a level 1 head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1 is the largest standard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h1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orld's Greatest Hom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h1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er headings, Level 2 and level 3, are generated by the command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h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E927135B-8687-4C4E-8D3B-D86FA9AC2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that mark a single location in the text are not closed with the command of form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/Command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the horizontal line comm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s in HTML are relative commands, instead of being absolute commands that determine exact size or 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rowser determines the exact sizes and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F6439270-513A-4A8B-926E-5360DBB1B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Formatting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rowser normally determines the location of line breaks in the displayed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 line break can be forced by inserting a break comman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layout specifications can be made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thing between the comman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center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&lt;/center&gt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be centered on the p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-</a:t>
            </a:r>
            <a:fld id="{40BA4576-DA0F-46C2-B497-E5D5F9E09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42:11Z</dcterms:modified>
  <cp:revision>15</cp:revision>
  <dc:subject/>
  <dc:title>Slide 1</dc:title>
</cp:coreProperties>
</file>