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13.png" ContentType="image/png"/>
  <Override PartName="/ppt/media/image1.png" ContentType="image/png"/>
  <Override PartName="/ppt/media/image67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3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8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4.xml.rels" ContentType="application/vnd.openxmlformats-package.relationships+xml"/>
  <Override PartName="/ppt/slides/_rels/slide5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7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  <p:sldId id="361" r:id="rId120"/>
    <p:sldId id="362" r:id="rId121"/>
    <p:sldId id="363" r:id="rId122"/>
    <p:sldId id="364" r:id="rId123"/>
    <p:sldId id="365" r:id="rId124"/>
    <p:sldId id="366" r:id="rId125"/>
    <p:sldId id="367" r:id="rId126"/>
    <p:sldId id="368" r:id="rId127"/>
    <p:sldId id="369" r:id="rId128"/>
    <p:sldId id="370" r:id="rId129"/>
    <p:sldId id="371" r:id="rId130"/>
    <p:sldId id="372" r:id="rId131"/>
    <p:sldId id="373" r:id="rId132"/>
    <p:sldId id="374" r:id="rId133"/>
    <p:sldId id="375" r:id="rId134"/>
    <p:sldId id="376" r:id="rId135"/>
    <p:sldId id="377" r:id="rId136"/>
    <p:sldId id="378" r:id="rId137"/>
    <p:sldId id="379" r:id="rId138"/>
    <p:sldId id="380" r:id="rId139"/>
    <p:sldId id="381" r:id="rId140"/>
    <p:sldId id="382" r:id="rId141"/>
    <p:sldId id="383" r:id="rId1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slide" Target="slides/slide106.xml"/><Relationship Id="rId121" Type="http://schemas.openxmlformats.org/officeDocument/2006/relationships/slide" Target="slides/slide107.xml"/><Relationship Id="rId122" Type="http://schemas.openxmlformats.org/officeDocument/2006/relationships/slide" Target="slides/slide108.xml"/><Relationship Id="rId123" Type="http://schemas.openxmlformats.org/officeDocument/2006/relationships/slide" Target="slides/slide109.xml"/><Relationship Id="rId124" Type="http://schemas.openxmlformats.org/officeDocument/2006/relationships/slide" Target="slides/slide110.xml"/><Relationship Id="rId125" Type="http://schemas.openxmlformats.org/officeDocument/2006/relationships/slide" Target="slides/slide111.xml"/><Relationship Id="rId126" Type="http://schemas.openxmlformats.org/officeDocument/2006/relationships/slide" Target="slides/slide112.xml"/><Relationship Id="rId127" Type="http://schemas.openxmlformats.org/officeDocument/2006/relationships/slide" Target="slides/slide113.xml"/><Relationship Id="rId128" Type="http://schemas.openxmlformats.org/officeDocument/2006/relationships/slide" Target="slides/slide114.xml"/><Relationship Id="rId129" Type="http://schemas.openxmlformats.org/officeDocument/2006/relationships/slide" Target="slides/slide115.xml"/><Relationship Id="rId130" Type="http://schemas.openxmlformats.org/officeDocument/2006/relationships/slide" Target="slides/slide116.xml"/><Relationship Id="rId131" Type="http://schemas.openxmlformats.org/officeDocument/2006/relationships/slide" Target="slides/slide117.xml"/><Relationship Id="rId132" Type="http://schemas.openxmlformats.org/officeDocument/2006/relationships/slide" Target="slides/slide118.xml"/><Relationship Id="rId133" Type="http://schemas.openxmlformats.org/officeDocument/2006/relationships/slide" Target="slides/slide119.xml"/><Relationship Id="rId134" Type="http://schemas.openxmlformats.org/officeDocument/2006/relationships/slide" Target="slides/slide120.xml"/><Relationship Id="rId135" Type="http://schemas.openxmlformats.org/officeDocument/2006/relationships/slide" Target="slides/slide121.xml"/><Relationship Id="rId136" Type="http://schemas.openxmlformats.org/officeDocument/2006/relationships/slide" Target="slides/slide122.xml"/><Relationship Id="rId137" Type="http://schemas.openxmlformats.org/officeDocument/2006/relationships/slide" Target="slides/slide123.xml"/><Relationship Id="rId138" Type="http://schemas.openxmlformats.org/officeDocument/2006/relationships/slide" Target="slides/slide124.xml"/><Relationship Id="rId139" Type="http://schemas.openxmlformats.org/officeDocument/2006/relationships/slide" Target="slides/slide125.xml"/><Relationship Id="rId140" Type="http://schemas.openxmlformats.org/officeDocument/2006/relationships/slide" Target="slides/slide126.xml"/><Relationship Id="rId141" Type="http://schemas.openxmlformats.org/officeDocument/2006/relationships/slide" Target="slides/slide127.xml"/><Relationship Id="rId142" Type="http://schemas.openxmlformats.org/officeDocument/2006/relationships/slide" Target="slides/slide128.xml"/><Relationship Id="rId1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A078-ACEF-4FAB-8376-6C3BDFC45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358B-7C51-4597-9BC4-0BBED7F46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2FF7-03BD-47E0-9C10-68CFE95B1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A7CD-FF61-4DDF-8876-BD11FECDF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153C-6881-49F0-B7B3-F229E9F31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A568-4F84-4588-8AA7-26F0F4082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4D02-76F9-439C-A1E4-9761EEEE9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9781-07E8-424E-9555-AB0E949F6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08EF-52E5-4AAC-965C-AC3AF2BB2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81AB-A7F6-474A-9BCE-AB7AA7CC8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705B-693A-4DD6-9BD3-302683CC0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A139-7752-41F3-8DDD-89FD75231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D090-37A1-4B7D-97B0-0EDAECA63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A552-9099-45F5-9813-BD3FE197F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7725-30DA-4C5A-8B8B-E06E2953C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6F83-F4E0-4152-B409-983E5A911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49B5-F996-42E6-9AEB-F33A1922C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D16A-A897-48CD-8EAA-5F9F4726F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9DF2-40BF-4DA5-81EB-0B2C4BBF6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7C18-E5D9-437C-B4DF-3ABA1EEFE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7BA2-DCD1-4EA3-BE6A-9A7F4F9E2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F662-A920-4E13-B524-DAF6410C9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1272-363F-48F2-BE0A-F3E972D66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4F03-C959-4137-99D0-962D110577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EB4F-C257-4DCD-B54F-C1B6E3DDD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2409-2D53-4A59-A3D6-C867C8EA8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1316-6FBC-4F43-AF6E-93C9AC05B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3F30-FE5A-4673-B87A-0BFAAE7F7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9BC5-22C5-44D8-8929-AF71ACE74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C329-E3ED-4253-B5E4-7B9C684B1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568C-26A8-4EB6-8C4C-3D130CDD8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D76D-19A8-48C6-866E-3FD212389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089D-9C54-46B9-970F-F41B563EC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C451-2484-4549-9640-9F29A15C7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5D1B-B0E0-4FD1-8BF7-FF01BD909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3839-5FF2-44B4-8054-DFD2B24CE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7E51-6272-4193-BAF5-5654270CA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8701-95A4-4D27-A4E3-7101FEE80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A625-26CE-428D-B16E-9522FE699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7CE6-64A5-4F77-BA7A-85806164C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C395-6731-45D4-BD79-21872C161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C5D8-7281-44AD-BB5C-34CE85EE0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5B54-8BA1-41EB-92EA-87577CADB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BBCE-1574-4144-BD57-4DD4C3C9F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9A86-559D-447B-961A-166C36556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30B1-F6DD-4A19-AD3A-6857E09CD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8ECC-906E-4784-B8EA-D715AF734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0456-5FBB-4826-8BF1-675245851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F25F-E8B4-4D18-B001-54A3C8500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5E1D-0441-40FA-9003-401824887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44DE-6D87-4059-A1DB-5FAF385D3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2422-07AA-4FC4-B37C-ABC79EA7A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40FD-F2BC-44DF-93A6-489C03FF8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D7E4-6C3B-401D-9821-CE167ECAC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17C7-648D-4C36-BFE9-B80969E81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3F5D-AD76-481A-A212-2FAD934C23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D10D-2942-4AA9-AB1B-BF4D80D00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84AE-8EA6-4088-A491-AC2BC44E6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FCE1-FFE7-42A6-9C0C-F82A29649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D8C8-09F8-49CF-9FC8-36805E899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F033-6E09-4181-903F-8F982542A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77CC-1B10-401E-BB90-2384B3D1F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E556-934A-4CCC-A10C-54027A3324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CB79-4D39-4C12-BA3F-D376C3D3B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5F20-3C49-4D4C-92BB-71B2A2F1D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8461-5563-4407-AB34-3ECB921DD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4670-839E-4802-B37A-A2175819E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D492-0034-40B9-9B01-6B789C603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8AEC-94FF-40CD-8985-CA9BC1993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1B6E-C216-4B62-8E07-8BDE0E67C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FEA7-9636-4DC5-A2CD-2480A13B4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F2C8-56F6-45E4-918D-C1ED0DC6B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0362-7CD3-4808-BE32-C549DB2A7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D489-E7B7-490B-A3A2-AACA5F238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E599-1806-4FD0-BD3B-F9E663CDC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AD9D-35A7-46E6-AF47-9D06E00AB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C81C-36F7-4856-AF66-D26ADA734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1EDB-9338-42E0-AAA2-8C5E16082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9DAF-F097-4802-9FCC-09A5F926D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3711-0E22-48BE-8D2A-3459F61D3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86B4-B648-45CD-91AD-490E1B984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A621-227E-4EBA-9663-1A0476CBA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545B-6E62-4368-A8F7-2C827D1F3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C78D-A123-463A-BC9D-8E8D122A2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8F5E-792D-4E44-9009-740F9B44E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83FD-2E7D-4BA5-A43E-1C87CF35C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15D6-4FC0-4999-AD37-1106DFC69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744D-EC3B-498E-8410-BAB9245C0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03C7-AB8A-451C-9B60-64EFBE7DC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E6B4-6366-4B96-944D-79516B1A2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FD18-768D-4B8C-8EF9-33C13F014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1AE0-02B9-4357-9DE4-483BBA6AC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4ED4-5324-4E2C-8D81-E22E44C33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6199-9ACD-4D5F-BB68-DE6DE5729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E29E-E319-4F56-B5FB-989840DE45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E270-D7E7-446F-AAB2-0C31E8C97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9356-4B35-4B41-8781-7E1728E8E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F329-E745-46CB-90DE-65F51C65F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2C91-A320-4FAF-B429-5B66BFEC8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AF6F-DD39-4CC1-9B25-60B792FDC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277A-AA44-47C0-9280-EC20AB1A4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A693-B7FA-4F41-A7C7-BD5ADEB5C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4508-76BA-47F0-9017-D5C0EFC44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C71F-C428-423E-8781-333B69444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217E-336A-45F0-96E5-25356DD58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F0DF-A1A7-41DA-B2D0-9B169D56B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7EBE-21DA-40EB-81C2-D02494F13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3E61-5898-4BF1-8D7F-E2DDE3DC3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137D-A14A-402D-93DB-52359BA20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6895-A34D-4CEC-9917-8872426FC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C9CB-F2CD-4138-A023-B298F13B2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69EC-AE04-4E6A-AA9D-632CA950C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A73A-6B7D-4958-8661-ED5E917FF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1A94-482F-4604-95D1-A0CC4144F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AABE-4352-42C2-A9A9-7B849B0C4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4224-0342-4652-AEE3-9B6D77D40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AD69-BB7A-44B5-934F-0CDCFA1C7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0159-5EEE-4989-AB49-BF415D105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9256-45C2-4D77-AA44-CFBE60AEB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3E2E-3E56-4E1E-A48E-5D49B380F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79FE-816D-4F6D-9B43-4DE2C5AF2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3B0E-A850-4019-9B19-3F2849232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642B-E8C5-4697-98CF-F25C26424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C65D-F20F-4D71-BCF2-4806AEE4D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A91D-6BB4-45D0-82C3-015EB62CA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46D0-9CFA-4E90-9927-33C840FC1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EA19-ED7B-4E23-A36E-5B34C8BE9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04B5-93FD-4E54-B6D0-50B6886DF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6C3E-488B-4021-B541-4C2D22EC8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06A-2D8F-493B-9245-D737546C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BCB-1309-4811-8277-D9E95940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D58D4-4BBE-4F3F-8F81-DD88589F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4420A-8F5C-404C-901B-BB373B32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9CAA0-CA91-450C-B81C-42626021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76BD5-3719-4BC3-B4C5-6E23D0E2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46C1B-A9E4-4465-AF2D-01BAC764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86846-15D4-448D-8EF1-8A1DC6D6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63912-03D4-4E1B-9C7F-07BE8CB4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40122-5ACD-4F80-AEDB-A11E4A0E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888B3-9CCB-4FE1-9D13-68CC53E9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1980F-461B-426B-B7C2-4A536DF2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753-3E4C-4020-9F7A-8C4E00B9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8B259-45EB-4851-BDCE-21D23610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4DDF9-BA0E-4B6C-86A9-B4E8062E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3E22A-0D7B-447A-BACB-AD863D2E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70FB2-F4A2-414A-84BC-17B687FA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37B60-023D-4ACE-B53A-69994075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79370-F4C0-4B5E-8E9A-D8F4B4B9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7EA1D-3C21-48CD-8D74-D64FD6BC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14305-DD62-4A7E-B008-366E7A66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B3193-11FC-45E3-8DF0-3C2CEB4F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AA2C4-86C4-410A-9A71-06D7A403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0E0-F8E7-4B2F-8147-4B80C1E3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01AF1-6451-47F0-80DE-F768C983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75DFC-0257-494D-BC2F-2515F244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3F209-2CF6-4F20-B413-F6055533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97896-C162-4C72-A218-4F085C12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3BFA1-F051-441B-8198-82F3EBA1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A73A5-2512-4BC2-A38D-9F383A27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79298-E875-4DCC-B16C-EA961BA5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767A8-65CD-4920-BFCF-036E1E81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6B9AA-90B0-424E-9398-A466073A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E3CDD-655F-4087-90EB-F0A2E929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9461-D7BF-4CCF-B5FA-12A16C2F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6CF37-F0FE-438F-BA4A-5CE4D704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609B6-78BC-45E5-A66F-EF7FDED2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B1649-BEB5-477E-A0C3-0C9A329D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232B5-822B-4C5A-A457-6C00B149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B6883-6140-48B2-8AC5-43648EA0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29A38-01A2-4A8D-9644-B4231A82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89784-D1EF-45CE-8434-343C074E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34871-E7BA-4716-BB52-F1F0FABF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04B54-422F-4FC0-B1BF-37F99229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67C63-8B8E-4FBF-86F0-A31F6A6D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A926-5176-4636-9B1B-7B52085D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AAA40-8909-4D9B-B9B2-46054A56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700F2-76BE-4F54-B32B-3FCCC120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6A4F0-9A8E-485B-83C7-A4168C7B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DF7E0-A16E-473F-BD04-46737EE3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D12D2-F5EC-41F3-88EB-40D7D210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F6C3-9B40-406F-A12A-2E69D5DE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9073-D684-4FB4-A0C8-D175467B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41B7-2CA1-4FFD-B4FA-7E2BFF1F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BAC5-891C-48F0-B069-4D124917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6938-6DB3-42EB-9E2E-AB9520B1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310-8A48-4786-B141-216D9E7B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A2AC-BA94-426E-9310-1649B803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4ACD-11DE-4242-92C4-89127577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6013-FEEB-4869-B4DC-8D98C79C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CBE7-FAF5-4BAD-AB26-DF85598B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FEF7-7448-470B-BEED-F3497A22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7516F-1268-47E9-AF0F-75E61F8F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28B46-E5F7-4D54-B572-60F33FDD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27A0F-46F0-40EC-8896-3E970AA7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60B14-37B8-4A9D-B884-E8E3C309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D253C-A0D6-4A70-B1E0-1C864AC9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7F2-890A-48AE-B8E6-5976F198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E3050-63EE-4E88-B77A-376ADABE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D49EF-47AE-4D36-8C79-06CAE91C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CCD66-A7B8-4649-9EA0-AEEF8D25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A0DD9-A983-427D-B720-25C34A58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103F0-A543-45ED-9F9B-5580EED1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36C4E-5AB2-4C1B-AC40-28501C3E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0AE8D-8141-4ED2-BB9A-7602E483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02FF3-94A6-44E9-8458-88E4093F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E5116-2DA5-4072-A78B-AE580F8C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463A7-2D66-4980-810F-F8825BBE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7C1-F0F4-48E5-989C-9BF6E2A1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AF15A-237F-4F96-AB9D-B1E0E97D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2E65D-99AE-4EEC-AC06-0C829E16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45BF5-DACE-4B20-A964-EEC63A77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C6494-EF54-490E-AE16-6D5C405F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2658E-A429-43E5-8583-8637114D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8FF1A-3E7D-44BB-8974-F9CBA06E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AFEB7-B80C-47CF-89E6-04F68F07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52F23-E31D-43D1-8632-D5E0FA93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D8C3D-2D28-47FB-BC85-94DF54E7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F0927-D5E1-4CBD-9B49-A4A0C954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7F5F-9D6C-4C9A-81F9-AF53916C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3D66F-CF78-4B12-8B6F-935038A2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47AA6-19DE-4A17-B686-9ECB47F9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42B71-AE07-46D9-BF12-7B75640B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38101-714F-45B4-99D1-72D60C49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5AE3F-0BD4-49D8-8F2E-D8A60B39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4D406-2689-47E3-B61F-4603A10F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6E74E-30D9-4C8A-B428-3FA65DFA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C43AE-9E43-4286-91FE-F8083408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38BAE-9475-4E03-A5C0-6D4A98AD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0FC6B-B20D-4EEF-B849-690BAC20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7F1-6E89-47E9-9FDB-CE2721F7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80008-747F-4973-837E-CE7A6A53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7EA10-D1AE-4D0E-8A9A-912728B0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9D2F0-5A4D-4577-81E8-B2F95FC4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1E526-A939-4162-B3E1-36B4BDA8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50661-4B33-4BF4-A553-4BD01CA8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946A4-0CE7-43A2-A999-ADA51A91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8D750-CEA1-4345-B62D-1E78B2F3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BFAA0-3ACE-4424-ACE8-5BD29EE9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0E752-E445-4985-8165-495AC778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54094-D635-4E7C-81A0-C628C974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C0C-508A-42EA-AC3D-A5D33CBB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317B1-F8DF-4DD2-B011-F7FF750E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F8D0F-2A7C-4D8A-BF14-FB2C0F10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F90DC-36DE-4A17-B0BD-77D1023E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38B8A-142F-4F1F-AB2A-5DC28386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05576-005C-4342-8522-581CDD02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491D3-C85B-476D-82ED-D36031F0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B4D10-46AC-4FDC-AB17-10788994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63194-0520-4657-8194-D4EE4BC5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48640-BC75-4FB2-AC64-4FCA2042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0FC74-40E1-4551-B92E-AE65F166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D24-3F1B-416A-BCDC-710137E4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0F5EC-EFAE-4A64-914F-7ACE19F5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57769-D24A-4782-92CB-4E325072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CA408-D5E3-451C-8E09-529CFBDD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C5902-8721-4754-AE92-CA0F9278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239B5-7751-41F5-9FF6-4EE9A3F3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462E3-E916-4275-A64F-2B962F78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B94F1-03BD-4DAD-A1FA-74B2253E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967D2-3878-40EB-AC7A-977C2D30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26A1A-FBDE-4909-85BE-6FBA30C3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21AE2-4EA3-4D1C-AADB-7DD6E9EC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C34-C085-487C-BB7C-CEBEE9C2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90252-418F-40C7-9ED0-A2E88639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3E81C-0771-420A-8E67-722B5C5F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C6371-C434-4B1C-A18C-5CA30A83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CF420-90D3-4870-AB89-2BC66398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A986A-9450-4C3E-B9A2-166AB1E9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26B27-6CC4-4E90-8BC5-15D37EF5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69745-5B4E-45EA-A228-57196F32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E9BF7-8CF0-4302-81C1-CE6DCCF3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5CC60-E07E-4A37-90BD-1C115362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8583F-6B59-4653-A605-86D28345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56AF-1752-40F1-B9EC-BFC17840021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2733442-2611-437C-B479-5330E80AF6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9583-CD72-4E3D-BEB5-0AD3370643B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9267A17D-81EC-4B61-8D9A-497864C3D3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B16C-ACF7-4FF3-A020-3955CC8CCB3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117B6180-A901-4E65-BD7B-B4387EF48E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8471-464F-4509-96B2-B74C68EE8FA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FF552239-77A9-4BC1-A323-3942D68F86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B9CE-0D0B-4F31-888A-D0BA197E35C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FBE1D8DD-72C9-404F-A375-1B2379B27D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8193-2D3E-476B-8718-665EC183D92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307293AE-6FE3-4D68-9627-C4F8A8C9C4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0FCF-52D4-40A4-ABF6-85578F25E12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9F4E7010-9DAB-44F9-8CEA-59592EB2AB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5D53-31B5-44ED-95BB-1C7BEB0298B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BACA0591-6190-42CB-8333-CEDBDA2CC7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ADA5-6841-4C37-AE8E-83D1BCC0553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FBE1814D-027A-48C1-94FB-FC13BCC4B7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E73B-A2A0-45B5-8946-5394CDBFBC0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2354009E-CCA2-459E-8E14-E50592F998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EE28-5BDA-4FDC-8691-66898BA362A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B9E747BF-0330-4132-A141-5BF706A4CD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5C55-37F4-4E41-93AF-A5B4C4C6F86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7-</a:t>
            </a:r>
            <a:fld id="{9922CE7E-2B6F-4B12-BEE5-ACB6AAFD31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wing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t-Driven Program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n event-driven program, the next thing that happens depends on the next e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articular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thods are defined that will never be explicitly invoked in any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ead, methods are invoked automatically when an event signals that the method needs to be ca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6A4C331-70A0-4CBE-9CD6-093E84635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ext Field (Part 2 of 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Picture 3" descr="savitch_c17d17_2of7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983040"/>
          </a:xfrm>
          <a:prstGeom prst="rect">
            <a:avLst/>
          </a:prstGeom>
          <a:ln w="0">
            <a:noFill/>
          </a:ln>
        </p:spPr>
      </p:pic>
      <p:sp>
        <p:nvSpPr>
          <p:cNvPr id="9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6DD337F3-4094-4EA7-A43B-2CF4E1325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ext Field (Part 3 of 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9" name="Picture 3" descr="savitch_c17d17_3of7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375000"/>
          </a:xfrm>
          <a:prstGeom prst="rect">
            <a:avLst/>
          </a:prstGeom>
          <a:ln w="0">
            <a:noFill/>
          </a:ln>
        </p:spPr>
      </p:pic>
      <p:sp>
        <p:nvSpPr>
          <p:cNvPr id="9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B8A8544B-2325-44B4-90BC-BCCC14F8B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ext Field (Part 4 of 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3" name="Picture 3" descr="savitch_c17d17_4of7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205160"/>
          </a:xfrm>
          <a:prstGeom prst="rect">
            <a:avLst/>
          </a:prstGeom>
          <a:ln w="0">
            <a:noFill/>
          </a:ln>
        </p:spPr>
      </p:pic>
      <p:sp>
        <p:nvSpPr>
          <p:cNvPr id="9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659E35C-E264-4423-BA7D-AFCC66A57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ext Field (Part 5 of 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7" name="Picture 3" descr="savitch_c17d17_5of7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508280"/>
          </a:xfrm>
          <a:prstGeom prst="rect">
            <a:avLst/>
          </a:prstGeom>
          <a:ln w="0">
            <a:noFill/>
          </a:ln>
        </p:spPr>
      </p:pic>
      <p:sp>
        <p:nvSpPr>
          <p:cNvPr id="9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3863101-7C47-4376-BA72-477CCA4A9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ext Field (Part 6 of 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1" name="Picture 3" descr="savitch_c17d17_6of7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766960"/>
          </a:xfrm>
          <a:prstGeom prst="rect">
            <a:avLst/>
          </a:prstGeom>
          <a:ln w="0">
            <a:noFill/>
          </a:ln>
        </p:spPr>
      </p:pic>
      <p:sp>
        <p:nvSpPr>
          <p:cNvPr id="9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17FA389F-C593-4D31-9831-3514421F4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ext Field (Part 7 of 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5" name="Picture 3" descr="savitch_c17d17_7of7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649600"/>
          </a:xfrm>
          <a:prstGeom prst="rect">
            <a:avLst/>
          </a:prstGeom>
          <a:ln w="0">
            <a:noFill/>
          </a:ln>
        </p:spPr>
      </p:pic>
      <p:sp>
        <p:nvSpPr>
          <p:cNvPr id="9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13014CC5-AEE5-45B4-9F4B-AEB278235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xt are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n object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Text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the same as a text field, except that it allows multiple 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parameters to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TextAre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structor specify the minimum number of lines, and the minimum number of characters per line that are guaranteed to be vi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TextArea theText = new JTextArea(5,2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other constructor has one additio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arameter for the string initially displayed in the text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TextArea theText = new JTextArea(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Enter\ntext here." 5, 2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16ED8850-688C-4E30-BDD4-F0F55DD0A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ine-wrapping policy for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Are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set using 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LineWr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takes on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ype arg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argument i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n any additional characters at the end of a line will appear on the following line of the text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argument i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extra characters will remain on the same line and not be vi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eText.setLineWrap(tru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0C78CE07-0E7A-44D9-B638-B2156F8CC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Fields and Text Ar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Fie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Are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set so that it can not be changed by the u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eText.setEditable(fals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ill se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eTe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o that it can only be edited by the GUI program, not the 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everse this, use true instead (this is the defau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heText.setEditable(tru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1E37B7F1-6F5B-4DA7-8478-C13822797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:  Labeling a Text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to label one or more text fiel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n object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Lab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 the text field(s) and label(s) in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Pan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Pane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a single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CF116C9B-D263-4F41-9E14-AF2D52FE6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imple window can consist of an object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bject includes a border and the usual three buttons for minimizing, changing the size of, and closing the wind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is found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avax.sw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ac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 firstWindow = new JFram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1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have components added to it, such as buttons, menus, and text lab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components can be programmed for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firstWindow.add(endButt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can be made visible us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etVisib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irstWindow.setVisible(tru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834DC62D-8697-42AD-BCAA-06A14FC3E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mbers of Characters Pe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characters per line for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Fie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Are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ject is the number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p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m spa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space needed to hold one uppercase lett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ett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widest letter in the alphab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ine specified to hold 20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's will almost always be able to hold more than 20 charac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79DC25EA-EE3B-4DA3-9BAD-721641550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88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Inputting and Outputting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ttempting to input numbers from any Swing GUI, input text must be converted to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user enters the numb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TextFiel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program receives the str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42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must convert it to the integ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ame thing is true when attempting to output a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output the numb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t must first be converted to the str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"42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644374BE-BA44-4B6D-91D9-0C39586E1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JTextCompon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Fie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Are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derived classes of the abstract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f their methods are inherited from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Compon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have the same mean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 for some minor redefinitions to account for having just one line or multiple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4EA9235-ACCE-4BA2-8664-E4A66C040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TextCompone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7" name="Picture 8" descr="savitch_c17d18_1of2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125520"/>
          </a:xfrm>
          <a:prstGeom prst="rect">
            <a:avLst/>
          </a:prstGeom>
          <a:ln w="0">
            <a:noFill/>
          </a:ln>
        </p:spPr>
      </p:pic>
      <p:sp>
        <p:nvSpPr>
          <p:cNvPr id="9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3576CCA-21A3-49F4-B65A-CA4285BD2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TextCompone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2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1" name="Picture 3" descr="savitch_c17d18_2of2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703240"/>
          </a:xfrm>
          <a:prstGeom prst="rect">
            <a:avLst/>
          </a:prstGeom>
          <a:ln w="0">
            <a:noFill/>
          </a:ln>
        </p:spPr>
      </p:pic>
      <p:sp>
        <p:nvSpPr>
          <p:cNvPr id="9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2D012F3A-6641-4C8A-A5B3-0084549D7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wing Calcul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UI for a simple calculator keeps a running total of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r enters a number in the text field, and then clicks either + or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umber in the text field is then added to or subtracted from the running total, and displayed in the text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value is kept in the instance variabl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GUI is first run, or when the user clicks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Res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utton, the value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set to z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BB73B45A-A846-4587-B0C8-5CBEBC143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wing Calcul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user enters a number in an incorrect format, then one of the methods throws a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NumberFormatEx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xception is caught in the catch block inside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when this exception is thrown, the value of the instance variabl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not chan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233ABFEF-9B81-4DB0-A93F-BF3ED736F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1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3" name="Picture 10" descr="savitch_c17d19_01of11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820960"/>
          </a:xfrm>
          <a:prstGeom prst="rect">
            <a:avLst/>
          </a:prstGeom>
          <a:ln w="0">
            <a:noFill/>
          </a:ln>
        </p:spPr>
      </p:pic>
      <p:sp>
        <p:nvSpPr>
          <p:cNvPr id="9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73D99087-49D9-43FE-9C5A-ECAAB85C7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2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3" descr="savitch_c17d19_02of11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862520"/>
          </a:xfrm>
          <a:prstGeom prst="rect">
            <a:avLst/>
          </a:prstGeom>
          <a:ln w="0">
            <a:noFill/>
          </a:ln>
        </p:spPr>
      </p:pic>
      <p:sp>
        <p:nvSpPr>
          <p:cNvPr id="9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5BD6584E-7796-443E-83EC-C4B411FD7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3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1" name="Picture 3" descr="savitch_c17d19_03of11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782880"/>
          </a:xfrm>
          <a:prstGeom prst="rect">
            <a:avLst/>
          </a:prstGeom>
          <a:ln w="0">
            <a:noFill/>
          </a:ln>
        </p:spPr>
      </p:pic>
      <p:sp>
        <p:nvSpPr>
          <p:cNvPr id="9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668AB87C-ACDD-4D83-AC12-09052EB90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rst Swing Demonstration (Part 1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8" descr="savitch_c17d02_1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317760"/>
          </a:xfrm>
          <a:prstGeom prst="rect">
            <a:avLst/>
          </a:prstGeom>
          <a:ln w="0">
            <a:noFill/>
          </a:ln>
        </p:spPr>
      </p:pic>
      <p:sp>
        <p:nvSpPr>
          <p:cNvPr id="5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486DBD7D-7EC1-462B-93B0-36B3C7CBA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4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5" name="Picture 3" descr="savitch_c17d19_04of11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290840"/>
          </a:xfrm>
          <a:prstGeom prst="rect">
            <a:avLst/>
          </a:prstGeom>
          <a:ln w="0">
            <a:noFill/>
          </a:ln>
        </p:spPr>
      </p:pic>
      <p:sp>
        <p:nvSpPr>
          <p:cNvPr id="9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0263084A-D9B3-471A-9622-438A124CF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5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9" name="Picture 3" descr="savitch_c17d19_05of11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632040"/>
          </a:xfrm>
          <a:prstGeom prst="rect">
            <a:avLst/>
          </a:prstGeom>
          <a:ln w="0">
            <a:noFill/>
          </a:ln>
        </p:spPr>
      </p:pic>
      <p:sp>
        <p:nvSpPr>
          <p:cNvPr id="10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1B4362E-FF39-4E7E-9E1E-47766CAD0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6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3" name="Picture 3" descr="savitch_c17d19_06of11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109760"/>
          </a:xfrm>
          <a:prstGeom prst="rect">
            <a:avLst/>
          </a:prstGeom>
          <a:ln w="0">
            <a:noFill/>
          </a:ln>
        </p:spPr>
      </p:pic>
      <p:sp>
        <p:nvSpPr>
          <p:cNvPr id="10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0DF3170-BE6B-491B-8058-26C008634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7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7" name="Picture 3" descr="savitch_c17d19_07of11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724120"/>
          </a:xfrm>
          <a:prstGeom prst="rect">
            <a:avLst/>
          </a:prstGeom>
          <a:ln w="0">
            <a:noFill/>
          </a:ln>
        </p:spPr>
      </p:pic>
      <p:sp>
        <p:nvSpPr>
          <p:cNvPr id="10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C8725F1A-A2CF-4FDC-9B8D-57B63B8C4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8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1" name="Picture 3" descr="savitch_c17d19_08of11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290680"/>
          </a:xfrm>
          <a:prstGeom prst="rect">
            <a:avLst/>
          </a:prstGeom>
          <a:ln w="0">
            <a:noFill/>
          </a:ln>
        </p:spPr>
      </p:pic>
      <p:sp>
        <p:nvSpPr>
          <p:cNvPr id="10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79343B9F-6EA8-483C-B479-0C2EB7D53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9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5" name="Picture 3" descr="savitch_c17d19_09of11"/>
          <p:cNvPicPr/>
          <p:nvPr/>
        </p:nvPicPr>
        <p:blipFill>
          <a:blip r:embed="rId1"/>
          <a:srcRect l="0" t="1766" r="0" b="1985"/>
          <a:stretch/>
        </p:blipFill>
        <p:spPr>
          <a:xfrm>
            <a:off x="838080" y="1265400"/>
            <a:ext cx="7315200" cy="5209920"/>
          </a:xfrm>
          <a:prstGeom prst="rect">
            <a:avLst/>
          </a:prstGeom>
          <a:ln w="0">
            <a:noFill/>
          </a:ln>
        </p:spPr>
      </p:pic>
      <p:sp>
        <p:nvSpPr>
          <p:cNvPr id="10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C638AA8-208C-478D-9296-BD41B13BA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10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9" name="Picture 3" descr="savitch_c17d19_10of11"/>
          <p:cNvPicPr/>
          <p:nvPr/>
        </p:nvPicPr>
        <p:blipFill>
          <a:blip r:embed="rId1"/>
          <a:stretch/>
        </p:blipFill>
        <p:spPr>
          <a:xfrm>
            <a:off x="838080" y="1231920"/>
            <a:ext cx="7239240" cy="5181480"/>
          </a:xfrm>
          <a:prstGeom prst="rect">
            <a:avLst/>
          </a:prstGeom>
          <a:ln w="0">
            <a:noFill/>
          </a:ln>
        </p:spPr>
      </p:pic>
      <p:sp>
        <p:nvSpPr>
          <p:cNvPr id="10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4E7A6258-5B0A-4AB5-8D7E-B17587D75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imple Calculator (Part 11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3" name="Picture 3" descr="savitch_c17d19_11of11"/>
          <p:cNvPicPr/>
          <p:nvPr/>
        </p:nvPicPr>
        <p:blipFill>
          <a:blip r:embed="rId1"/>
          <a:stretch/>
        </p:blipFill>
        <p:spPr>
          <a:xfrm>
            <a:off x="838080" y="1227240"/>
            <a:ext cx="7239240" cy="4943520"/>
          </a:xfrm>
          <a:prstGeom prst="rect">
            <a:avLst/>
          </a:prstGeom>
          <a:ln w="0">
            <a:noFill/>
          </a:ln>
        </p:spPr>
      </p:pic>
      <p:sp>
        <p:nvSpPr>
          <p:cNvPr id="10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8E5D4411-8BAD-4653-904C-4E88B5B67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caught Exce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Swing program, throwing an uncaught exception does not end the GU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it may leave it in an unpredictabl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lways best to catch any exception that is thrown even if all the catch block does is output an error message, or ask the user to reenter some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EFFF0222-F474-4843-9B2F-E5D2580FA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rst Swing Demonstration (Part 2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Picture 4" descr="savitch_c17d02_2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333600"/>
          </a:xfrm>
          <a:prstGeom prst="rect">
            <a:avLst/>
          </a:prstGeom>
          <a:ln w="0">
            <a:noFill/>
          </a:ln>
        </p:spPr>
      </p:pic>
      <p:sp>
        <p:nvSpPr>
          <p:cNvPr id="5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157590C1-27F0-4126-8A09-864081093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rst Swing Demonstration (Part 3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3" descr="savitch_c17d02_3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803320"/>
          </a:xfrm>
          <a:prstGeom prst="rect">
            <a:avLst/>
          </a:prstGeom>
          <a:ln w="0">
            <a:noFill/>
          </a:ln>
        </p:spPr>
      </p:pic>
      <p:sp>
        <p:nvSpPr>
          <p:cNvPr id="5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6F99DB67-65CF-4B82-8B0F-734AB2CA2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rst Swing Demonstration (Part 4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3" descr="savitch_c17d02_4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186080"/>
          </a:xfrm>
          <a:prstGeom prst="rect">
            <a:avLst/>
          </a:prstGeom>
          <a:ln w="0">
            <a:noFill/>
          </a:ln>
        </p:spPr>
      </p:pic>
      <p:sp>
        <p:nvSpPr>
          <p:cNvPr id="5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76BB748F-BBC8-47F7-B235-9CEEFA57C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Fram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3" descr="savitch_c17d03_1of3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536560"/>
          </a:xfrm>
          <a:prstGeom prst="rect">
            <a:avLst/>
          </a:prstGeom>
          <a:ln w="0">
            <a:noFill/>
          </a:ln>
        </p:spPr>
      </p:pic>
      <p:sp>
        <p:nvSpPr>
          <p:cNvPr id="5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6C65F6D-F252-44B4-ABCE-0B5342B18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Fram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2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3" descr="savitch_c17d03_2of3"/>
          <p:cNvPicPr/>
          <p:nvPr/>
        </p:nvPicPr>
        <p:blipFill>
          <a:blip r:embed="rId1"/>
          <a:srcRect l="0" t="1750" r="0" b="2001"/>
          <a:stretch/>
        </p:blipFill>
        <p:spPr>
          <a:xfrm>
            <a:off x="838080" y="1587600"/>
            <a:ext cx="7772400" cy="4883040"/>
          </a:xfrm>
          <a:prstGeom prst="rect">
            <a:avLst/>
          </a:prstGeom>
          <a:ln w="0">
            <a:noFill/>
          </a:ln>
        </p:spPr>
      </p:pic>
      <p:sp>
        <p:nvSpPr>
          <p:cNvPr id="5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5556392-7223-41FB-9172-8BFAB7426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Fram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3 of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4" descr="savitch_c17d03_3of3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381560"/>
          </a:xfrm>
          <a:prstGeom prst="rect">
            <a:avLst/>
          </a:prstGeom>
          <a:ln w="0">
            <a:noFill/>
          </a:ln>
        </p:spPr>
      </p:pic>
      <p:sp>
        <p:nvSpPr>
          <p:cNvPr id="5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2D1ADE3-A43D-4187-805F-5092CB69B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xels and the Relationship between Resolution and S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ixe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smallest unit of space on a sc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the size and position of Swing objects are measured in pix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ore pixels on a screen, the greater the screen re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high-resolution screen of fixed size has many pix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fore, each one is very sma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ow-resolution screen of fixed size has fewer pix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fore, each one is much lar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a two-pixel figure on a low-resolution screen will look larger than a two-pixel figure on a high-resolution scre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5C41A96A-0C6F-475A-A9A9-9B6EF058C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Sw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Jav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WT (Abstract Window Toolkit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ckage is the original Java package for doin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graphical user interface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windowing system that interacts with the us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wing package is an improved version of the AW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it does not completely replace the AW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AWT classes are replaced by Swing classes, but other AWT classes are needed when using Sw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wing GUIs are designed using a form of object-oriented programming known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vent-driven program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4DC8992C-3549-4D4D-B70C-D8B6207A2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Forgetting to Program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e-Window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lines from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rstSwingDem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ensure that when the user clicks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lose-window butt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nothing happ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irstWindow.setDefaultCloseOperation(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.DO_NOTHING_ON_CLOS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is were not set, the default action would b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.HIDE_ON_CL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ould make the window invisible and inaccessible, but would not end the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fore, given this scenario, there would be no way to click the "Click to end program" but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close-window and other two accompanying buttons are part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, and not separate butt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EA473238-07EA-4C01-AC48-1A6590506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t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utt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ject is created from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Butt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an be added to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rgument to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Butt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tructor is the string that appears on the button when it is display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Button endButton = ne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Button("Click to end program.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irstWindow.add(endButto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5C42944D-2897-4123-8491-B5FC27797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on Listeners and Action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ing a button fires an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vent object is "sent" to another object called a liste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means that a method in the listener object is invoked automatic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rthermore, it is invoked with the event object as its arg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set up this relationship, a GUI program must do two th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must specify, for each button, what objects are its listeners, i.e., it must register the listen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must define the methods that will be invoked automatically when the event is sent to the liste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1852E8F-928B-4B91-A171-0467E4DF6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on Listeners and Action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ndingListener buttonEar = 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               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ndingListener()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ndButton.addActionListener(buttonEar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ve, a listener object nam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uttonE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created and registered as a listener for the button nam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ndBut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a button fires events known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ction ev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are handled by listeners known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ction liste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C2189A5-901E-4953-86B2-D7695C117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on Listeners and Action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kinds of components require different kinds of listener classes to handle the events they f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ction listener is an object whose class implements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ctionListe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ctionListe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terface has one method heading that must be impleme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actionPerformed(ActionEvent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5696A42D-9CC2-4CFE-86CC-0A4A73C7D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on Listeners and Action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actionPerformed(ActionEvent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ndingListe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defines it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as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the user clicks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ndButt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 action event is sent to the action listener for that but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ndingListen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bject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uttonEa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the action listener f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ndBut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ction listen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uttonEa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ceives the action event as the paramet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, which is automatically invok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 that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received, even if it is not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61C7881A-4C25-4AB1-A733-731B25670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Changing the Heading for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s implemented in an action listener, its header must be the one specified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ctionListe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already determined, and may not be chan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even a throws clause may be ad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actionPerformed(ActionEvent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nly thing that can be changed is the name of the parameter, since it is just a placehol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ther it is calle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something else does not matter, as long as it is used consistently within the body of the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D7670B9E-61F2-4240-93EF-F330A3628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:  Ending a Swing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 programs are often based on a kind of infinite 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windowing system normally stays on the screen until the user indicates that it should go aw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user never asks the windowing system to go away, it will never go a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end a GUI program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ystem.ex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t be used when the user asks to end 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must be explicitly invoked, or included in some library code that is execu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wise, a Swing program will not end after it has executed all the code in the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78C424B-46B6-4225-A80F-83A74C165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etter Version of Our First Swing GU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etter version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rstWindo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kes it a derived class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the normal way to define a windowing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nstructor in the new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rstWindo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starts by calling the constructor for the parent class us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uper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ensures that any initialization that is normally done for all objects of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be 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most all initialization for the window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irstWindo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placed in the constructor for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is time, an anonymous object is used as the action listener for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nd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00EE4A86-5C58-4905-966B-7B561D8C3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ormal Way to Define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Fram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Picture 7" descr="savitch_c17d04_1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010040"/>
          </a:xfrm>
          <a:prstGeom prst="rect">
            <a:avLst/>
          </a:prstGeom>
          <a:ln w="0">
            <a:noFill/>
          </a:ln>
        </p:spPr>
      </p:pic>
      <p:sp>
        <p:nvSpPr>
          <p:cNvPr id="6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86B7A59-E067-49B1-82E7-8BEBB153F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ent-driven programm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programming style that uses a signal-and-response approach to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that acts as a signal to another object know as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ste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nding of an event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iring the e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bject that fires the event is often a GUI component, such as a button that has been cli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D025AB8B-10BA-4A20-A524-15719C82D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ormal Way to Define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Fram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2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3" descr="savitch_c17d04_2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889000"/>
          </a:xfrm>
          <a:prstGeom prst="rect">
            <a:avLst/>
          </a:prstGeom>
          <a:ln w="0">
            <a:noFill/>
          </a:ln>
        </p:spPr>
      </p:pic>
      <p:sp>
        <p:nvSpPr>
          <p:cNvPr id="6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13F90EAC-D397-4645-8E95-BB4F2C15D8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ormal Way to Define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Fram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3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Picture 3" descr="savitch_c17d04_3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558880"/>
          </a:xfrm>
          <a:prstGeom prst="rect">
            <a:avLst/>
          </a:prstGeom>
          <a:ln w="0">
            <a:noFill/>
          </a:ln>
        </p:spPr>
      </p:pic>
      <p:sp>
        <p:nvSpPr>
          <p:cNvPr id="6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24F82D7-3F36-40C8-A0C2-E75F509E3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ormal Way to Define 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Fram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4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Picture 3" descr="savitch_c17d04_4of4"/>
          <p:cNvPicPr/>
          <p:nvPr/>
        </p:nvPicPr>
        <p:blipFill>
          <a:blip r:embed="rId1"/>
          <a:stretch/>
        </p:blipFill>
        <p:spPr>
          <a:xfrm>
            <a:off x="685800" y="1714680"/>
            <a:ext cx="7772400" cy="3439800"/>
          </a:xfrm>
          <a:prstGeom prst="rect">
            <a:avLst/>
          </a:prstGeom>
          <a:ln w="0">
            <a:noFill/>
          </a:ln>
        </p:spPr>
      </p:pic>
      <p:sp>
        <p:nvSpPr>
          <p:cNvPr id="6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4B4EF74D-FE86-4BFC-B2FC-51D803FA9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be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n object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Lab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 can be added to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sing a lab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ext for the label is given as an argument whe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Labe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cre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abel can then be added to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Label greeting = new JLabel("Hello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dd(greeting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E3B84D6B-8A62-4A9A-8413-67E937DCA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Java,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n object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found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ava.aw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constants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that represent a number of basic col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not be colored direc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ead, a program must color something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ent p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ce the content pane is the "inside" of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coloring the content pane has the effect of coloring the inside of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fore, the background color of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an be set using the following co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getContentPane().setBackground(</a:t>
            </a:r>
            <a:r>
              <a:rPr b="1" i="1" lang="en-US" sz="1800" spc="-1" strike="noStrike">
                <a:solidFill>
                  <a:srgbClr val="034ca1"/>
                </a:solidFill>
                <a:latin typeface="Courier New"/>
              </a:rPr>
              <a:t>Color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F12B7FCC-A68C-4620-8356-ADBA779C9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lor Const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Picture 8" descr="savitch_c17d05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433600"/>
          </a:xfrm>
          <a:prstGeom prst="rect">
            <a:avLst/>
          </a:prstGeom>
          <a:ln w="0">
            <a:noFill/>
          </a:ln>
        </p:spPr>
      </p:pic>
      <p:sp>
        <p:nvSpPr>
          <p:cNvPr id="6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F1334691-D1AA-4153-9CF2-845FE5EF9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with Color (Part 1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4" name="Picture 7" descr="savitch_c17d06_1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767040"/>
          </a:xfrm>
          <a:prstGeom prst="rect">
            <a:avLst/>
          </a:prstGeom>
          <a:ln w="0">
            <a:noFill/>
          </a:ln>
        </p:spPr>
      </p:pic>
      <p:sp>
        <p:nvSpPr>
          <p:cNvPr id="6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28795DA-C40C-42DC-AB09-BE769A93D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with Color (Part 2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3" descr="savitch_c17d06_2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470040"/>
          </a:xfrm>
          <a:prstGeom prst="rect">
            <a:avLst/>
          </a:prstGeom>
          <a:ln w="0">
            <a:noFill/>
          </a:ln>
        </p:spPr>
      </p:pic>
      <p:sp>
        <p:nvSpPr>
          <p:cNvPr id="6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B193013A-3B88-4F73-BDB4-05F1AA763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with Color (Part 3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Picture 3" descr="savitch_c17d06_3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492360"/>
          </a:xfrm>
          <a:prstGeom prst="rect">
            <a:avLst/>
          </a:prstGeom>
          <a:ln w="0">
            <a:noFill/>
          </a:ln>
        </p:spPr>
      </p:pic>
      <p:sp>
        <p:nvSpPr>
          <p:cNvPr id="6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CD0B4DEA-868A-407B-88D1-A2D736A3D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with Color (Part 4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6" name="Picture 3" descr="savitch_c17d06_4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935600"/>
          </a:xfrm>
          <a:prstGeom prst="rect">
            <a:avLst/>
          </a:prstGeom>
          <a:ln w="0">
            <a:noFill/>
          </a:ln>
        </p:spPr>
      </p:pic>
      <p:sp>
        <p:nvSpPr>
          <p:cNvPr id="6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17E38D2A-598C-4258-B193-12125614F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ste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istener object performs some action in response to the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iven component may have any number of liste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listener may respond to a different kind of event, or multiple listeners might may respond to the same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B5EAB2E6-5135-4594-9BF5-A098E0F42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ainers and Layout 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components can be added to the content pane of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ing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does not specify how these components are to be arrang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escribe how multiple components are to be arranged,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yout mana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a number of layout manager classes such a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FlowLayo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ridLay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layout manager is not specified, a default layout manager i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F75C2449-8B01-4FA7-BBE6-4986DA80B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rder Layout 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orderLay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nager places the components that are added to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ject into five 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regions are: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BorderLayout.NOR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rderLayout.SOU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rderLayout.EA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rderLayout.W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rderLayout.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orderLay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nager is added to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ing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Lay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Layout(new BorderLayout()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166469AE-E33A-4D9E-8588-70CC409B7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nager (Part 1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Picture 4" descr="savitch_c17d07_1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825720"/>
          </a:xfrm>
          <a:prstGeom prst="rect">
            <a:avLst/>
          </a:prstGeom>
          <a:ln w="0">
            <a:noFill/>
          </a:ln>
        </p:spPr>
      </p:pic>
      <p:sp>
        <p:nvSpPr>
          <p:cNvPr id="6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18DE14A1-E45E-4C37-8902-0406F91E2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nager (Part 2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3" descr="savitch_c17d07_2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735360"/>
          </a:xfrm>
          <a:prstGeom prst="rect">
            <a:avLst/>
          </a:prstGeom>
          <a:ln w="0">
            <a:noFill/>
          </a:ln>
        </p:spPr>
      </p:pic>
      <p:sp>
        <p:nvSpPr>
          <p:cNvPr id="6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55D225A7-B82C-4E00-9358-0FA4AC11A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nager (Part 3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savitch_c17d07_3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803320"/>
          </a:xfrm>
          <a:prstGeom prst="rect">
            <a:avLst/>
          </a:prstGeom>
          <a:ln w="0">
            <a:noFill/>
          </a:ln>
        </p:spPr>
      </p:pic>
      <p:sp>
        <p:nvSpPr>
          <p:cNvPr id="6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F0A9BE8B-B205-4C28-B062-04536C7D7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nager (Part 4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Picture 3" descr="savitch_c17d07_4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065480"/>
          </a:xfrm>
          <a:prstGeom prst="rect">
            <a:avLst/>
          </a:prstGeom>
          <a:ln w="0">
            <a:noFill/>
          </a:ln>
        </p:spPr>
      </p:pic>
      <p:sp>
        <p:nvSpPr>
          <p:cNvPr id="6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5BC841B1-FB37-44CB-9067-6DD918A31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Picture 7" descr="savitch_c17d0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552840"/>
          </a:xfrm>
          <a:prstGeom prst="rect">
            <a:avLst/>
          </a:prstGeom>
          <a:ln w="0">
            <a:noFill/>
          </a:ln>
        </p:spPr>
      </p:pic>
      <p:sp>
        <p:nvSpPr>
          <p:cNvPr id="6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771957A6-9013-4E85-9BD0-14679E1CD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rder Layout 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evious diagram shows the arrangement of the five border layout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 None of the lines in the diagram are normally vi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using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nager, the location of the component being added is given as a second argument to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dd(label1, BorderLayout.NORTH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nents can be added in any order since their location is spec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3A7E821-E827-4F24-82E9-76B587A87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w Layout 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lowLay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anager is the simplest layout mana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Layout(new FlowLayout()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arranges components one after the other, going from left to r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onents are arranged in the order in which they are ad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a location is not specified,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has only one argument when using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lowLayoutMana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dd.(label1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21C87899-3DFE-4D4F-9D30-ED17E043F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ridLayou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nager arranges components in a two-dimensional grid with some number of rows and colum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etLayout(new GridLayout(rows, columns)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entry is the same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wo numbers given as arguments specify the number of rows and colum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component is stretched so that it completely fills its grid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 None of the lines in the diagram are normally vi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id Layout 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7" name="Group 9"/>
          <p:cNvGrpSpPr/>
          <p:nvPr/>
        </p:nvGrpSpPr>
        <p:grpSpPr>
          <a:xfrm>
            <a:off x="3247920" y="4529160"/>
            <a:ext cx="3468960" cy="690480"/>
            <a:chOff x="3247920" y="4529160"/>
            <a:chExt cx="3468960" cy="690480"/>
          </a:xfrm>
        </p:grpSpPr>
        <p:sp>
          <p:nvSpPr>
            <p:cNvPr id="708" name="Rectangle 4"/>
            <p:cNvSpPr/>
            <p:nvPr/>
          </p:nvSpPr>
          <p:spPr>
            <a:xfrm>
              <a:off x="3247920" y="4529160"/>
              <a:ext cx="346896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Line 6"/>
            <p:cNvSpPr/>
            <p:nvPr/>
          </p:nvSpPr>
          <p:spPr>
            <a:xfrm>
              <a:off x="3247920" y="4876920"/>
              <a:ext cx="345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Line 7"/>
            <p:cNvSpPr/>
            <p:nvPr/>
          </p:nvSpPr>
          <p:spPr>
            <a:xfrm>
              <a:off x="4411800" y="4529160"/>
              <a:ext cx="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Line 8"/>
            <p:cNvSpPr/>
            <p:nvPr/>
          </p:nvSpPr>
          <p:spPr>
            <a:xfrm>
              <a:off x="5549760" y="4537080"/>
              <a:ext cx="0" cy="6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2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B1BEDA5A-ECDB-453B-90C1-2EB7F165C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ooter Placeholder 11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ption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ception object is a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hrowing of an exception is an example of firing an ev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stener for an exception object is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ca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lock that catches the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89293C7C-2D2E-4653-9860-79AE829E9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id Layout 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using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ridLay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, 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s only one arg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dd(label1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ems are placed in the grid from left to r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op row is filled first, then the second, and so f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id positions may not be skip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e use of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n the GUI class itself in the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often a convenient way of demonstrating a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61E6EF5-6253-4C7E-9CF9-D5947833C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nager (Part 1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Picture 7" descr="savitch_c17d09_1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751200"/>
          </a:xfrm>
          <a:prstGeom prst="rect">
            <a:avLst/>
          </a:prstGeom>
          <a:ln w="0">
            <a:noFill/>
          </a:ln>
        </p:spPr>
      </p:pic>
      <p:sp>
        <p:nvSpPr>
          <p:cNvPr id="7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03B8465C-654F-4779-B393-112521DD3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nager (Part 2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Picture 3" descr="savitch_c17d09_2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957400"/>
          </a:xfrm>
          <a:prstGeom prst="rect">
            <a:avLst/>
          </a:prstGeom>
          <a:ln w="0">
            <a:noFill/>
          </a:ln>
        </p:spPr>
      </p:pic>
      <p:sp>
        <p:nvSpPr>
          <p:cNvPr id="7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03B21875-5D10-460E-9136-474DE6361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nager (Part 3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3" descr="savitch_c17d09_3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585960"/>
          </a:xfrm>
          <a:prstGeom prst="rect">
            <a:avLst/>
          </a:prstGeom>
          <a:ln w="0">
            <a:noFill/>
          </a:ln>
        </p:spPr>
      </p:pic>
      <p:sp>
        <p:nvSpPr>
          <p:cNvPr id="7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2E764F31-DF35-4D96-930A-9D90BE832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nager (Part 4 of 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Picture 3" descr="savitch_c17d09_4of4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768920"/>
          </a:xfrm>
          <a:prstGeom prst="rect">
            <a:avLst/>
          </a:prstGeom>
          <a:ln w="0">
            <a:noFill/>
          </a:ln>
        </p:spPr>
      </p:pic>
      <p:sp>
        <p:nvSpPr>
          <p:cNvPr id="7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C8087B0C-C5CE-495C-9844-2B876626A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Layout Manag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5" name="Picture 7" descr="savitch_c17d10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206520"/>
          </a:xfrm>
          <a:prstGeom prst="rect">
            <a:avLst/>
          </a:prstGeom>
          <a:ln w="0">
            <a:noFill/>
          </a:ln>
        </p:spPr>
      </p:pic>
      <p:sp>
        <p:nvSpPr>
          <p:cNvPr id="7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B0B9B408-B342-4199-A858-1E1E1499E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UI is often organized in a hierarchical fashion, with container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ane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side other contai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nel is an object o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Pane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that serves as a simple contai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used to group smaller objects into a larger component (the pan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f the main functions of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Pane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 is to subdivide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other contai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7441474B-FECB-4DE2-8C24-9CCB41E53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n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0904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each panel in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use different layout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panels can be added to each panel, and each panel can have its own layout mana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enables almost any kind of overall layout to be used in a G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etLayout(new BorderLayout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Panel somePanel = new JPanel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omePanel.setLayout(new FlowLayout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in the following example that panel and button objects are given color using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Backgrou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without invok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ContentP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ContentP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is only used when adding color to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290C0946-BAF1-47BA-B8B5-09F39BA92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Panels (Part 1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7" name="Picture 7" descr="savitch_c17d11_1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867120"/>
          </a:xfrm>
          <a:prstGeom prst="rect">
            <a:avLst/>
          </a:prstGeom>
          <a:ln w="0">
            <a:noFill/>
          </a:ln>
        </p:spPr>
      </p:pic>
      <p:sp>
        <p:nvSpPr>
          <p:cNvPr id="7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5A724D61-38A0-4A50-8C13-5B0294357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Panels (Part 2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1" name="Picture 3" descr="savitch_c17d11_2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171680"/>
          </a:xfrm>
          <a:prstGeom prst="rect">
            <a:avLst/>
          </a:prstGeom>
          <a:ln w="0">
            <a:noFill/>
          </a:ln>
        </p:spPr>
      </p:pic>
      <p:sp>
        <p:nvSpPr>
          <p:cNvPr id="7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78F831B6-86A1-4881-A77B-B6AB85841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t Handl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istener object has methods that specify what will happen when events of various kinds are received by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method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ent handl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mer using the listener object will define or redefine these event-handler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4D5FFCA-F171-4ECA-BE08-8B76AE96B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Panels (Part 3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Picture 3" descr="savitch_c17d11_3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930400"/>
          </a:xfrm>
          <a:prstGeom prst="rect">
            <a:avLst/>
          </a:prstGeom>
          <a:ln w="0">
            <a:noFill/>
          </a:ln>
        </p:spPr>
      </p:pic>
      <p:sp>
        <p:nvSpPr>
          <p:cNvPr id="7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D2DA4E2-91BA-4D52-A184-EDE5A0801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Panels (Part 4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9" name="Picture 3" descr="savitch_c17d11_4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200480"/>
          </a:xfrm>
          <a:prstGeom prst="rect">
            <a:avLst/>
          </a:prstGeom>
          <a:ln w="0">
            <a:noFill/>
          </a:ln>
        </p:spPr>
      </p:pic>
      <p:sp>
        <p:nvSpPr>
          <p:cNvPr id="7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D1AC3BEC-6743-45F6-81F3-D9A6F59B1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Panels (Part 5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3" name="Picture 3" descr="savitch_c17d11_5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454200"/>
          </a:xfrm>
          <a:prstGeom prst="rect">
            <a:avLst/>
          </a:prstGeom>
          <a:ln w="0">
            <a:noFill/>
          </a:ln>
        </p:spPr>
      </p:pic>
      <p:sp>
        <p:nvSpPr>
          <p:cNvPr id="7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EAD16E8D-5F01-46AC-AD52-F2ACF20E7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Panels (Part 6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7" name="Picture 3" descr="savitch_c17d11_6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71448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F07AC337-F268-4703-BC1A-85320484F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Panels (Part 7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Picture 3" descr="savitch_c17d11_7of8"/>
          <p:cNvPicPr/>
          <p:nvPr/>
        </p:nvPicPr>
        <p:blipFill>
          <a:blip r:embed="rId1"/>
          <a:srcRect l="0" t="1662" r="0" b="2136"/>
          <a:stretch/>
        </p:blipFill>
        <p:spPr>
          <a:xfrm>
            <a:off x="838080" y="1320840"/>
            <a:ext cx="7772400" cy="5151240"/>
          </a:xfrm>
          <a:prstGeom prst="rect">
            <a:avLst/>
          </a:prstGeom>
          <a:ln w="0">
            <a:noFill/>
          </a:ln>
        </p:spPr>
      </p:pic>
      <p:sp>
        <p:nvSpPr>
          <p:cNvPr id="7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47CABB18-7D90-438A-933C-00054F378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Panels (Part 8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5" name="Picture 3" descr="savitch_c17d11_8of8"/>
          <p:cNvPicPr/>
          <p:nvPr/>
        </p:nvPicPr>
        <p:blipFill>
          <a:blip r:embed="rId1"/>
          <a:stretch/>
        </p:blipFill>
        <p:spPr>
          <a:xfrm>
            <a:off x="838080" y="1231920"/>
            <a:ext cx="7772400" cy="5137200"/>
          </a:xfrm>
          <a:prstGeom prst="rect">
            <a:avLst/>
          </a:prstGeom>
          <a:ln w="0">
            <a:noFill/>
          </a:ln>
        </p:spPr>
      </p:pic>
      <p:sp>
        <p:nvSpPr>
          <p:cNvPr id="7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F4FAAB0-61A9-4C60-91DB-2711366B0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ontain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class that is a descendent class of the class Container is considered to be a contain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ntain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ass is found in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ava.aw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ackage, not in the Swing libr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object that belongs to a class derived from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(or its descendents) can have components added to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sse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Pane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descendent classes of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fore they and any of their descendents can serve as a contai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C9DED407-085C-4611-9216-7F22F331D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JCompon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descendent class of the class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JCompon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mponent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Compon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ject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on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added to any container class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it is derived from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ontai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Compon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also be added to anoth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05FA29CD-B45C-44B0-9516-9ED877C5A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s in a Typical GU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ost every GUI built using Swing container classes will be made up of three kinds of obj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ntainer itself, probably a panel or window-like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onents added to the container such as labels, buttons, and pan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ayout manager to position the components inside the contai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034FA65-1902-4738-A59C-FA6C9B0B6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erarchy of Swing and AWT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1" name="Picture 8" descr="savitch_c17d12_complete"/>
          <p:cNvPicPr/>
          <p:nvPr/>
        </p:nvPicPr>
        <p:blipFill>
          <a:blip r:embed="rId1"/>
          <a:srcRect l="0" t="1742" r="0" b="2178"/>
          <a:stretch/>
        </p:blipFill>
        <p:spPr>
          <a:xfrm>
            <a:off x="838080" y="825480"/>
            <a:ext cx="4719600" cy="5600880"/>
          </a:xfrm>
          <a:prstGeom prst="rect">
            <a:avLst/>
          </a:prstGeom>
          <a:ln w="0">
            <a:noFill/>
          </a:ln>
        </p:spPr>
      </p:pic>
      <p:sp>
        <p:nvSpPr>
          <p:cNvPr id="7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14B076EE-9D65-416C-B13A-3301B2BDE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t Firing and an Event Liste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10" descr="savitch_c17d01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975040"/>
          </a:xfrm>
          <a:prstGeom prst="rect">
            <a:avLst/>
          </a:prstGeom>
          <a:ln w="0">
            <a:noFill/>
          </a:ln>
        </p:spPr>
      </p:pic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E4ADED9F-85A0-462E-9AB9-036534BAB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Code a GUI's Look and Actions Separa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ask of designing a Swing GUI can be divided into two main subtas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ing and coding the appearance of the GUI on the scre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ing and coding the actions performed in response to user 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articular, it is useful to implemen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as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u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until the GUI looks the way it sh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void actionPerformed(ActionEvent 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philosophy is at the heart of the technique used by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odel-View-Controll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tt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8F51182F-9235-4384-B39D-CA5F125B1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del-View-Controller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9" name="Picture 9" descr="savitch_c17d13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34160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8AFAB2CB-2B99-4406-92DA-85C3419DB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u Bars, Menus, and Menu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n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Me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hoice on a menu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nu it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is an object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MenuI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enu can contain any number of menu i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enu item is identified by the string that labels it, and is displayed in the order to which it was added to the me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s used to add a menu item to a menu in the same way that a component is added to a container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FF3B7414-4C42-45FA-82BA-1BC46BFEA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u Bars, Menus, and Menu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59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llowing creates a new menu, and then adds a menu item to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Menu diner = ne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Menu("Daily Specials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MenuItem lunch = 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MenuItem("Lunch Specials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lunch.addActionListener(this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ner.add(lunch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ameter has been registered as an action listener for the menu i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37726C7-7C41-405B-B0FD-516C42B49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ted Men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JMen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descendent of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JMenuIt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Men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a menu item in another me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, menus can be n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us can be added to other menus in the same way as menu i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6F65D81-2757-457F-A20B-1951EA8F2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nu Bars and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enu b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container for menus, typically placed near the top of a windowing 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s used to add a menu to a menu bar in the same way that menu items are added to a me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MenuBar bar = new JMenuBar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ar.add(diner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nu bar can be added to a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wo different 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etJMenuBa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setJMenuBar(ba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– which can be used to add a menu bar to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any other contai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99047DE-DDFB-4CBF-A6DE-9567618C7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UI with a Menu (Part 1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9" name="Picture 7" descr="savitch_c17d14_1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814480"/>
          </a:xfrm>
          <a:prstGeom prst="rect">
            <a:avLst/>
          </a:prstGeom>
          <a:ln w="0">
            <a:noFill/>
          </a:ln>
        </p:spPr>
      </p:pic>
      <p:sp>
        <p:nvSpPr>
          <p:cNvPr id="8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4435DF0-EC56-4EB8-8F6C-BEA6D2E42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UI with a Menu (Part 2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3" descr="savitch_c17d14_2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995640"/>
          </a:xfrm>
          <a:prstGeom prst="rect">
            <a:avLst/>
          </a:prstGeom>
          <a:ln w="0">
            <a:noFill/>
          </a:ln>
        </p:spPr>
      </p:pic>
      <p:sp>
        <p:nvSpPr>
          <p:cNvPr id="8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B830BA3-78EF-4AE4-89FC-6EB0D07FF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UI with a Menu (Part 3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Picture 3" descr="savitch_c17d14_3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76236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70A908AC-5C53-4B58-A147-8295936E9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UI with a Menu (Part 4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1" name="Picture 3" descr="savitch_c17d14_4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962160"/>
          </a:xfrm>
          <a:prstGeom prst="rect">
            <a:avLst/>
          </a:prstGeom>
          <a:ln w="0">
            <a:noFill/>
          </a:ln>
        </p:spPr>
      </p:pic>
      <p:sp>
        <p:nvSpPr>
          <p:cNvPr id="8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62327B6C-6DC3-453E-8AA2-99EA7A1A3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t-Driven Program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-driven programming is very different from most programming seen up until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far, programs have consisted of a list of statements executed in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at order changed, whether or not to perform certain actions (such as repeat statements in a loop, branch to another statement, or invoke a method) was controlled by the logic of 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7FBF59AD-D570-4FBD-9B6D-0DE421EE6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UI with a Menu (Part 5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5" name="Picture 3" descr="savitch_c17d14_5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365280"/>
          </a:xfrm>
          <a:prstGeom prst="rect">
            <a:avLst/>
          </a:prstGeom>
          <a:ln w="0">
            <a:noFill/>
          </a:ln>
        </p:spPr>
      </p:pic>
      <p:sp>
        <p:nvSpPr>
          <p:cNvPr id="8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E330B588-3BAB-4193-9DD1-C56BC3B7D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UI with a Menu (Part 6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Picture 3" descr="savitch_c17d14_6of8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733560"/>
          </a:xfrm>
          <a:prstGeom prst="rect">
            <a:avLst/>
          </a:prstGeom>
          <a:ln w="0">
            <a:noFill/>
          </a:ln>
        </p:spPr>
      </p:pic>
      <p:sp>
        <p:nvSpPr>
          <p:cNvPr id="8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80ED2CB5-8375-46B6-8FC1-0F43C4EA6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UI with a Menu (Part 7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3" name="Picture 3" descr="savitch_c17d14_7of8"/>
          <p:cNvPicPr/>
          <p:nvPr/>
        </p:nvPicPr>
        <p:blipFill>
          <a:blip r:embed="rId1"/>
          <a:srcRect l="0" t="1884" r="0" b="2118"/>
          <a:stretch/>
        </p:blipFill>
        <p:spPr>
          <a:xfrm>
            <a:off x="838080" y="1320840"/>
            <a:ext cx="7772400" cy="5176800"/>
          </a:xfrm>
          <a:prstGeom prst="rect">
            <a:avLst/>
          </a:prstGeom>
          <a:ln w="0">
            <a:noFill/>
          </a:ln>
        </p:spPr>
      </p:pic>
      <p:sp>
        <p:nvSpPr>
          <p:cNvPr id="8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68B40B21-F6AA-4369-9613-A1F180446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UI with a Menu (Part 8 of 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Picture 3" descr="savitch_c17d14_8of8"/>
          <p:cNvPicPr/>
          <p:nvPr/>
        </p:nvPicPr>
        <p:blipFill>
          <a:blip r:embed="rId1"/>
          <a:stretch/>
        </p:blipFill>
        <p:spPr>
          <a:xfrm>
            <a:off x="838080" y="1231920"/>
            <a:ext cx="7772400" cy="5268960"/>
          </a:xfrm>
          <a:prstGeom prst="rect">
            <a:avLst/>
          </a:prstGeom>
          <a:ln w="0">
            <a:noFill/>
          </a:ln>
        </p:spPr>
      </p:pic>
      <p:sp>
        <p:nvSpPr>
          <p:cNvPr id="8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36668ADD-5E77-4873-AD20-741905ABA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imen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e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Butt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MenuIt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derived classes of the abstract class nam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bstractBut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ir basic properties and methods are inherited from the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bstrac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o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imen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are used with buttons, menu items, and other objects to specify a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imen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is in the packag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ava.aw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imension(int width, int heigh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ameters are in pix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EB4B49F9-3715-435E-9B19-5783CB628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setActionComman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user clicks a button or menu item, an event is fired that normally goes to one or more action liste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ction event becomes an argument to 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ctionPerform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action event includes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stance variable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tion comm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the button or menu i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efault value for this string is the string written on the button or the menu i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string can be retrieved with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getActionComm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.getActionCommand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1424FDD4-ACAF-4C9A-A751-D9DAB3082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setActionComman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ActionComm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can be used to change the action command for a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especially useful when two or more buttons or menu items have the same default action command str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Button nextButton = new JButton("Next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nextButton.setActionCommand("Next Button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JMenuItem choose = new JMenuItem("Next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choose.setActionCommand("Next Menu Item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D79A23C1-7472-4687-824F-E5220DD02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98400" y="151920"/>
            <a:ext cx="844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Part 1 of 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3" name="Picture 8" descr="savitch_c17d15_1of3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128840"/>
          </a:xfrm>
          <a:prstGeom prst="rect">
            <a:avLst/>
          </a:prstGeom>
          <a:ln w="0">
            <a:noFill/>
          </a:ln>
        </p:spPr>
      </p:pic>
      <p:sp>
        <p:nvSpPr>
          <p:cNvPr id="8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BC05DFBA-37EA-4B4B-AD64-4890518DF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98400" y="151920"/>
            <a:ext cx="844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Part 2 of 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7" name="Picture 3" descr="savitch_c17d15_2of3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4354560"/>
          </a:xfrm>
          <a:prstGeom prst="rect">
            <a:avLst/>
          </a:prstGeom>
          <a:ln w="0">
            <a:noFill/>
          </a:ln>
        </p:spPr>
      </p:pic>
      <p:sp>
        <p:nvSpPr>
          <p:cNvPr id="8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6D721868-A80E-4AAE-9E36-4A2D8DB78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98400" y="151920"/>
            <a:ext cx="844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Part 3 of 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1" name="Picture 3" descr="savitch_c17d15_3of3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890880"/>
          </a:xfrm>
          <a:prstGeom prst="rect">
            <a:avLst/>
          </a:prstGeom>
          <a:ln w="0">
            <a:noFill/>
          </a:ln>
        </p:spPr>
      </p:pic>
      <p:sp>
        <p:nvSpPr>
          <p:cNvPr id="8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104DA38F-30D8-4778-82EC-9025BEC2B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t-Driven Programm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vent-driven programming, objects are created that can fire events, and listener objects are created that can react to the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itself no longer determines the order in which things can hap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, the events determine the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7A05210F-C2BE-4441-AB8A-72E5E99FE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steners as Inn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, instead of having one action listener object deal with all the action events in a GUI, a separat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ctionListe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is created for each button or menu i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button or menu item has its own unique action liste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then no need for a multiway if-else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is approach is used, each class is usually made a private inn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1E3941FF-8794-468B-8639-9D1CFDB15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ers as Inner Classes (Part 1 of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Picture 7" descr="savitch_c17d16_1of6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809800"/>
          </a:xfrm>
          <a:prstGeom prst="rect">
            <a:avLst/>
          </a:prstGeom>
          <a:ln w="0">
            <a:noFill/>
          </a:ln>
        </p:spPr>
      </p:pic>
      <p:sp>
        <p:nvSpPr>
          <p:cNvPr id="8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A99FB684-5338-4F61-90EB-68C3065E8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ers as Inner Classes (Part 2 of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Picture 3" descr="savitch_c17d16_2of6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990960"/>
          </a:xfrm>
          <a:prstGeom prst="rect">
            <a:avLst/>
          </a:prstGeom>
          <a:ln w="0">
            <a:noFill/>
          </a:ln>
        </p:spPr>
      </p:pic>
      <p:sp>
        <p:nvSpPr>
          <p:cNvPr id="8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F8E73FCB-DC47-4FCD-8058-C1D4B9A0D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ers as Inner Classes (Part 3 of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7" name="Picture 3" descr="savitch_c17d16_3of6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657600"/>
          </a:xfrm>
          <a:prstGeom prst="rect">
            <a:avLst/>
          </a:prstGeom>
          <a:ln w="0">
            <a:noFill/>
          </a:ln>
        </p:spPr>
      </p:pic>
      <p:sp>
        <p:nvSpPr>
          <p:cNvPr id="8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C54BF5B1-87D5-4BFC-B50B-CCCB47D69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ers as Inner Classes (Part 4 of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1" name="Picture 3" descr="savitch_c17d16_4of6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794040"/>
          </a:xfrm>
          <a:prstGeom prst="rect">
            <a:avLst/>
          </a:prstGeom>
          <a:ln w="0">
            <a:noFill/>
          </a:ln>
        </p:spPr>
      </p:pic>
      <p:sp>
        <p:nvSpPr>
          <p:cNvPr id="8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48B9E1EF-8FB4-45E8-9D55-53BC2BB28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ers as Inner Classes (Part 5 of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5" name="Picture 3" descr="savitch_c17d16_5of6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2644560"/>
          </a:xfrm>
          <a:prstGeom prst="rect">
            <a:avLst/>
          </a:prstGeom>
          <a:ln w="0">
            <a:noFill/>
          </a:ln>
        </p:spPr>
      </p:pic>
      <p:sp>
        <p:nvSpPr>
          <p:cNvPr id="8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5DBFF8FB-77BA-4286-B225-1208E7942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ers as Inner Classes (Part 6 of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9" name="Picture 3" descr="savitch_c17d16_6of6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506760"/>
          </a:xfrm>
          <a:prstGeom prst="rect">
            <a:avLst/>
          </a:prstGeom>
          <a:ln w="0">
            <a:noFill/>
          </a:ln>
        </p:spPr>
      </p:pic>
      <p:sp>
        <p:nvSpPr>
          <p:cNvPr id="9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28108ED5-2B07-4C32-A7D7-5BFA0F089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Fie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ext fie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of 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Text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displayed as a field that allows the user to enter a single line of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rivate JTextField nam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ame = new JTextField(NUMBER_OF_CHAR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text field above, at least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UMBER_OF_CH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haracters can be vi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E45F07D-6AFF-4870-833C-DAEF58A17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Fie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also a constructor with one additional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ameter for displaying an initial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text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TextField name = new JTextField(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"Enter name here.", 3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wing GUI can read the text in a text field using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tTex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 inputString = name.getText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Tex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used to display a new text string in a text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ame.setText("This is some output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CCA278FB-9B65-4370-807F-850DE3464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ext Field (Part 1 of 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1" name="Picture 7" descr="savitch_c17d17_1of7"/>
          <p:cNvPicPr/>
          <p:nvPr/>
        </p:nvPicPr>
        <p:blipFill>
          <a:blip r:embed="rId1"/>
          <a:stretch/>
        </p:blipFill>
        <p:spPr>
          <a:xfrm>
            <a:off x="838080" y="1587600"/>
            <a:ext cx="7772400" cy="3068640"/>
          </a:xfrm>
          <a:prstGeom prst="rect">
            <a:avLst/>
          </a:prstGeom>
          <a:ln w="0">
            <a:noFill/>
          </a:ln>
        </p:spPr>
      </p:pic>
      <p:sp>
        <p:nvSpPr>
          <p:cNvPr id="9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7-</a:t>
            </a:r>
            <a:fld id="{92728372-3065-4C74-81DE-E36939F62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40:56Z</dcterms:modified>
  <cp:revision>12</cp:revision>
  <dc:subject/>
  <dc:title>Slide 1</dc:title>
</cp:coreProperties>
</file>